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68F-B6C3-4741-83F9-70F521C7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9FC-9107-4CF0-8630-43C520F6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B9A-603F-41E0-9527-AF3641BE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CA7-B3A4-425B-A4F5-8AF621FF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352-3363-4A90-9FD0-A4168404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992-9024-43F8-ABF1-29ADFC1C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591-E185-4366-89BB-CD0BAF51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848-A21F-417B-A3AC-DE54F96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4C0-57EC-4BA5-B13C-6151880A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920-21BD-4DAB-BA46-486E49F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C1F-A000-49B1-BF80-316941E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364-7284-448B-893A-529E674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9C8-0AD6-4797-A4B4-B19F70742522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8c8"/>
                </a:solidFill>
                <a:latin typeface="Calibri"/>
                <a:ea typeface="宋体"/>
              </a:rPr>
              <a:t>冰块上的北极熊通用</a:t>
            </a:r>
            <a:r>
              <a:rPr b="0" lang="en-US" sz="4000" spc="-1" strike="noStrike">
                <a:solidFill>
                  <a:srgbClr val="0088c8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88c8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19280"/>
            <a:ext cx="64008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新細明體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38556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88c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23840"/>
            <a:ext cx="822960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新細明體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88c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新細明體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41200" y="4603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00:19Z</dcterms:created>
  <dc:creator>Presentation</dc:creator>
  <dc:description>globalWarming</dc:description>
  <dc:language>en-US</dc:language>
  <cp:lastModifiedBy>王玉清</cp:lastModifiedBy>
  <dcterms:modified xsi:type="dcterms:W3CDTF">2016-03-02T07:35:01Z</dcterms:modified>
  <cp:revision>4</cp:revision>
  <dc:subject/>
  <dc:title>Polar Bear</dc:title>
</cp:coreProperties>
</file>