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364D27E-B970-449D-ADDC-64EDB338F9A7}" type="doc">
      <dgm:prSet loTypeId="urn:microsoft.com/office/officeart/2005/8/layout/arrow3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331B4D5-4EF8-42E8-8881-7534A5407C92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92C1152C-6E12-4B6A-B9AA-50752D5709AB}" type="par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C5E02C12-D3EF-432A-9B12-F8D6A7418C43}" type="sib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09C9B4CC-1EB7-4712-A3EF-C3C1A0AB6D9D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71BDB86E-882A-4BF8-B6FA-122AB13DF1F8}" type="par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1DD43AB2-8AD7-47F0-ABB3-47250FD61B00}" type="sib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FC2AFBFD-4E7F-43D9-91EF-963D73CA97F8}" type="pres">
      <dgm:prSet presAssocID="{6364D27E-B970-449D-ADDC-64EDB338F9A7}" presName="compositeShape" presStyleCnt="0">
        <dgm:presLayoutVars>
          <dgm:chMax val="2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8FF7E6A-746A-4B0A-88EB-B652EFB9B157}" type="pres">
      <dgm:prSet presAssocID="{6364D27E-B970-449D-ADDC-64EDB338F9A7}" presName="divider" presStyleLbl="fgShp" presStyleIdx="0" presStyleCnt="1"/>
      <dgm:spPr>
        <a:solidFill>
          <a:schemeClr val="bg1">
            <a:lumMod val="75000"/>
          </a:schemeClr>
        </a:solidFill>
      </dgm:spPr>
    </dgm:pt>
    <dgm:pt modelId="{7DDB0CCE-B1B8-4FF9-BE10-5D23C21A8595}" type="pres">
      <dgm:prSet presAssocID="{C331B4D5-4EF8-42E8-8881-7534A5407C92}" presName="downArrow" presStyleLbl="node1" presStyleIdx="0" presStyleCnt="2"/>
      <dgm:spPr>
        <a:solidFill>
          <a:srgbClr val="FF7300"/>
        </a:solidFill>
      </dgm:spPr>
    </dgm:pt>
    <dgm:pt modelId="{32AAA6E9-1A86-47CE-92FF-B305826290CD}" type="pres">
      <dgm:prSet presAssocID="{C331B4D5-4EF8-42E8-8881-7534A5407C92}" presName="downArrow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B88D7E-8589-4582-A62E-16AB4D13747A}" type="pres">
      <dgm:prSet presAssocID="{09C9B4CC-1EB7-4712-A3EF-C3C1A0AB6D9D}" presName="upArrow" presStyleLbl="node1" presStyleIdx="1" presStyleCnt="2"/>
      <dgm:spPr>
        <a:solidFill>
          <a:srgbClr val="EFB600"/>
        </a:solidFill>
      </dgm:spPr>
    </dgm:pt>
    <dgm:pt modelId="{35F10B75-100F-48D4-8D70-628760B8FA09}" type="pres">
      <dgm:prSet presAssocID="{09C9B4CC-1EB7-4712-A3EF-C3C1A0AB6D9D}" presName="upArrow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00776EBE-BD3F-4324-8F91-1A0D7CF30DED}" type="presOf" srcId="{09C9B4CC-1EB7-4712-A3EF-C3C1A0AB6D9D}" destId="{35F10B75-100F-48D4-8D70-628760B8FA09}" srcOrd="0" destOrd="0" presId="urn:microsoft.com/office/officeart/2005/8/layout/arrow3"/>
    <dgm:cxn modelId="{607A9685-FA09-4DC3-82EC-ADF1B44E841B}" srcId="{6364D27E-B970-449D-ADDC-64EDB338F9A7}" destId="{09C9B4CC-1EB7-4712-A3EF-C3C1A0AB6D9D}" srcOrd="1" destOrd="0" parTransId="{71BDB86E-882A-4BF8-B6FA-122AB13DF1F8}" sibTransId="{1DD43AB2-8AD7-47F0-ABB3-47250FD61B00}"/>
    <dgm:cxn modelId="{7F1B5474-40BC-4999-B8A6-16B690F468E4}" srcId="{6364D27E-B970-449D-ADDC-64EDB338F9A7}" destId="{C331B4D5-4EF8-42E8-8881-7534A5407C92}" srcOrd="0" destOrd="0" parTransId="{92C1152C-6E12-4B6A-B9AA-50752D5709AB}" sibTransId="{C5E02C12-D3EF-432A-9B12-F8D6A7418C43}"/>
    <dgm:cxn modelId="{D279488A-9E22-42A7-AF9F-2E58AC0901F1}" type="presOf" srcId="{C331B4D5-4EF8-42E8-8881-7534A5407C92}" destId="{32AAA6E9-1A86-47CE-92FF-B305826290CD}" srcOrd="0" destOrd="0" presId="urn:microsoft.com/office/officeart/2005/8/layout/arrow3"/>
    <dgm:cxn modelId="{6D5913AD-0D63-4665-9693-FD4B066638E6}" type="presOf" srcId="{6364D27E-B970-449D-ADDC-64EDB338F9A7}" destId="{FC2AFBFD-4E7F-43D9-91EF-963D73CA97F8}" srcOrd="0" destOrd="0" presId="urn:microsoft.com/office/officeart/2005/8/layout/arrow3"/>
    <dgm:cxn modelId="{CCFBF585-502F-4491-9AA0-1AF491B78281}" type="presParOf" srcId="{FC2AFBFD-4E7F-43D9-91EF-963D73CA97F8}" destId="{28FF7E6A-746A-4B0A-88EB-B652EFB9B157}" srcOrd="0" destOrd="0" presId="urn:microsoft.com/office/officeart/2005/8/layout/arrow3"/>
    <dgm:cxn modelId="{49E4499E-1663-4FCD-8C53-5B755625FAAC}" type="presParOf" srcId="{FC2AFBFD-4E7F-43D9-91EF-963D73CA97F8}" destId="{7DDB0CCE-B1B8-4FF9-BE10-5D23C21A8595}" srcOrd="1" destOrd="0" presId="urn:microsoft.com/office/officeart/2005/8/layout/arrow3"/>
    <dgm:cxn modelId="{BB71F6E6-E14A-4ED0-AF05-3C8E1E63E14A}" type="presParOf" srcId="{FC2AFBFD-4E7F-43D9-91EF-963D73CA97F8}" destId="{32AAA6E9-1A86-47CE-92FF-B305826290CD}" srcOrd="2" destOrd="0" presId="urn:microsoft.com/office/officeart/2005/8/layout/arrow3"/>
    <dgm:cxn modelId="{3256DFA5-0DAA-498A-B0ED-38784AA4636F}" type="presParOf" srcId="{FC2AFBFD-4E7F-43D9-91EF-963D73CA97F8}" destId="{2FB88D7E-8589-4582-A62E-16AB4D13747A}" srcOrd="3" destOrd="0" presId="urn:microsoft.com/office/officeart/2005/8/layout/arrow3"/>
    <dgm:cxn modelId="{2B4E3F3C-BE04-4A46-896A-995AE0601653}" type="presParOf" srcId="{FC2AFBFD-4E7F-43D9-91EF-963D73CA97F8}" destId="{35F10B75-100F-48D4-8D70-628760B8FA09}" srcOrd="4" destOrd="0" presId="urn:microsoft.com/office/officeart/2005/8/layout/arrow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8FF7E6A-746A-4B0A-88EB-B652EFB9B157}">
      <dsp:nvSpPr>
        <dsp:cNvPr id="0" name=""/>
        <dsp:cNvSpPr/>
      </dsp:nvSpPr>
      <dsp:spPr>
        <a:xfrm rot="21300000">
          <a:off x="23773" y="1511773"/>
          <a:ext cx="7699453" cy="881703"/>
        </a:xfrm>
        <a:prstGeom prst="mathMinus">
          <a:avLst/>
        </a:prstGeom>
        <a:solidFill>
          <a:schemeClr val="bg1">
            <a:lumMod val="7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DDB0CCE-B1B8-4FF9-BE10-5D23C21A8595}">
      <dsp:nvSpPr>
        <dsp:cNvPr id="0" name=""/>
        <dsp:cNvSpPr/>
      </dsp:nvSpPr>
      <dsp:spPr>
        <a:xfrm>
          <a:off x="929640" y="195262"/>
          <a:ext cx="2324100" cy="1562100"/>
        </a:xfrm>
        <a:prstGeom prst="downArrow">
          <a:avLst/>
        </a:prstGeom>
        <a:solidFill>
          <a:srgbClr val="FF7300"/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2AAA6E9-1A86-47CE-92FF-B305826290CD}">
      <dsp:nvSpPr>
        <dsp:cNvPr id="0" name=""/>
        <dsp:cNvSpPr/>
      </dsp:nvSpPr>
      <dsp:spPr>
        <a:xfrm>
          <a:off x="4105910" y="0"/>
          <a:ext cx="2479040" cy="16402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en-US" altLang="zh-CN" sz="2400" b="1" i="0" u="none" strike="noStrike" kern="1200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kern="1200" dirty="0"/>
        </a:p>
      </dsp:txBody>
      <dsp:txXfrm>
        <a:off x="4105910" y="0"/>
        <a:ext cx="2479040" cy="1640205"/>
      </dsp:txXfrm>
    </dsp:sp>
    <dsp:sp modelId="{2FB88D7E-8589-4582-A62E-16AB4D13747A}">
      <dsp:nvSpPr>
        <dsp:cNvPr id="0" name=""/>
        <dsp:cNvSpPr/>
      </dsp:nvSpPr>
      <dsp:spPr>
        <a:xfrm>
          <a:off x="4493260" y="2147887"/>
          <a:ext cx="2324100" cy="1562100"/>
        </a:xfrm>
        <a:prstGeom prst="upArrow">
          <a:avLst/>
        </a:prstGeom>
        <a:solidFill>
          <a:srgbClr val="EFB600"/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5F10B75-100F-48D4-8D70-628760B8FA09}">
      <dsp:nvSpPr>
        <dsp:cNvPr id="0" name=""/>
        <dsp:cNvSpPr/>
      </dsp:nvSpPr>
      <dsp:spPr>
        <a:xfrm>
          <a:off x="1162050" y="2265045"/>
          <a:ext cx="2479040" cy="16402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en-US" altLang="zh-CN" sz="2400" b="1" i="0" u="none" strike="noStrike" kern="1200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kern="1200" dirty="0"/>
        </a:p>
      </dsp:txBody>
      <dsp:txXfrm>
        <a:off x="1162050" y="2265045"/>
        <a:ext cx="2479040" cy="164020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arrow3">
  <dgm:title val=""/>
  <dgm:desc val=""/>
  <dgm:catLst>
    <dgm:cat type="relationship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clrData>
  <dgm:layoutNode name="compositeShape">
    <dgm:varLst>
      <dgm:chMax val="2"/>
      <dgm:dir/>
      <dgm:resizeHandles val="exact"/>
    </dgm:varLst>
    <dgm:alg type="composite">
      <dgm:param type="horzAlign" val="none"/>
      <dgm:param type="vertAlign" val="none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hoose name="Name2">
          <dgm:if name="Name3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l" for="ch" forName="downArrow" refType="w" fact="0.1"/>
              <dgm:constr type="t" for="ch" forName="downArrow" refType="h" fact="0.05"/>
              <dgm:constr type="lOff" for="ch" forName="downArrow" refType="w" fact="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r" for="ch" forName="downArrowText" refType="w" fact="0.8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r" for="ch" forName="upArrow" refType="w" fact="0.9"/>
              <dgm:constr type="rOff" for="ch" forName="upArrow" refType="w" fact="-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l" for="ch" forName="upArrowText" refType="w" fact="0.15"/>
              <dgm:constr type="primFontSz" for="ch" ptType="node" op="equ" val="65"/>
            </dgm:constrLst>
          </dgm:if>
          <dgm:else name="Name4">
            <dgm:constrLst>
              <dgm:constr type="w" for="ch" forName="downArrow" refType="w" fact="0.4"/>
              <dgm:constr type="h" for="ch" forName="downArrow" refType="h" fact="0.8"/>
              <dgm:constr type="l" for="ch" forName="downArrow" refType="w" fact="0.02"/>
              <dgm:constr type="t" for="ch" forName="downArrow" refType="h" fact="0.05"/>
              <dgm:constr type="lOff" for="ch" forName="downArrow" refType="w" fact="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r" for="ch" forName="downArrowText" refType="w"/>
              <dgm:constr type="primFontSz" for="ch" ptType="node" op="equ" val="65"/>
            </dgm:constrLst>
          </dgm:else>
        </dgm:choose>
      </dgm:if>
      <dgm:else name="Name5">
        <dgm:choose name="Name6">
          <dgm:if name="Name7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r" for="ch" forName="downArrow" refType="w" fact="0.9"/>
              <dgm:constr type="t" for="ch" forName="downArrow" refType="h" fact="0.05"/>
              <dgm:constr type="rOff" for="ch" forName="downArrow" refType="w" fact="-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l" for="ch" forName="downArrowText" refType="w" fact="0.1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l" for="ch" forName="upArrow" refType="w" fact="0.1"/>
              <dgm:constr type="lOff" for="ch" forName="upArrow" refType="w" fact="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r" for="ch" forName="upArrowText" refType="w" fact="0.85"/>
              <dgm:constr type="primFontSz" for="ch" ptType="node" op="equ" val="65"/>
            </dgm:constrLst>
          </dgm:if>
          <dgm:else name="Name8">
            <dgm:constrLst>
              <dgm:constr type="w" for="ch" forName="downArrow" refType="w" fact="0.4"/>
              <dgm:constr type="h" for="ch" forName="downArrow" refType="h" fact="0.8"/>
              <dgm:constr type="r" for="ch" forName="downArrow" refType="w" fact="0.98"/>
              <dgm:constr type="t" for="ch" forName="downArrow" refType="h" fact="0.05"/>
              <dgm:constr type="rOff" for="ch" forName="downArrow" refType="w" fact="-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l" for="ch" forName="downArrowText"/>
              <dgm:constr type="primFontSz" for="ch" ptType="node" op="equ" val="65"/>
            </dgm:constrLst>
          </dgm:else>
        </dgm:choose>
      </dgm:else>
    </dgm:choose>
    <dgm:ruleLst/>
    <dgm:choose name="Name9">
      <dgm:if name="Name10" axis="ch" ptType="node" func="cnt" op="gte" val="2">
        <dgm:layoutNode name="divider" styleLbl="fgShp">
          <dgm:alg type="sp"/>
          <dgm:choose name="Name11">
            <dgm:if name="Name12" func="var" arg="dir" op="equ" val="norm">
              <dgm:shape xmlns:r="http://schemas.openxmlformats.org/officeDocument/2006/relationships" rot="-5" type="mathMinus" r:blip="">
                <dgm:adjLst/>
              </dgm:shape>
            </dgm:if>
            <dgm:else name="Name13">
              <dgm:shape xmlns:r="http://schemas.openxmlformats.org/officeDocument/2006/relationships" rot="5" type="mathMinus" r:blip="">
                <dgm:adjLst/>
              </dgm:shape>
            </dgm:else>
          </dgm:choose>
          <dgm:presOf/>
          <dgm:constrLst/>
          <dgm:ruleLst/>
        </dgm:layoutNode>
      </dgm:if>
      <dgm:else name="Name14"/>
    </dgm:choose>
    <dgm:forEach name="Name15" axis="ch" ptType="node" cnt="1">
      <dgm:layoutNode name="downArrow" styleLbl="node1">
        <dgm:alg type="sp"/>
        <dgm:shape xmlns:r="http://schemas.openxmlformats.org/officeDocument/2006/relationships" type="downArrow" r:blip="">
          <dgm:adjLst/>
        </dgm:shape>
        <dgm:presOf/>
        <dgm:constrLst/>
        <dgm:ruleLst/>
      </dgm:layoutNode>
      <dgm:layoutNode name="down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  <dgm:forEach name="Name16" axis="ch" ptType="node" st="2" cnt="1">
      <dgm:layoutNode name="upArrow" styleLbl="node1">
        <dgm:alg type="sp"/>
        <dgm:shape xmlns:r="http://schemas.openxmlformats.org/officeDocument/2006/relationships" type="upArrow" r:blip="">
          <dgm:adjLst/>
        </dgm:shape>
        <dgm:presOf/>
        <dgm:constrLst/>
        <dgm:ruleLst/>
      </dgm:layoutNode>
      <dgm:layoutNode name="up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2C3-7695-4FA6-BFC0-F2B42930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872-C2B1-4BF1-B136-19FB6F4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A4C-5B0D-40A9-AFAB-4C4A917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87D-ECD5-4BA3-AC48-E7B09696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6FE-AA4E-44A1-9B7A-4F24181A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E3B-D58D-4C67-B480-915D15D2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E13-C2FB-4630-93DD-0A913122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7BD-5FC2-4167-8720-5BBA08D5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B60-9143-4F9A-92DF-EBED2A24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E59-7B12-4285-B2BD-2EC5D9F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119-BFF1-435A-A092-29814E1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94B-3022-4B41-8188-5873874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9B0F2-DF60-449D-8D46-F702DBC6D8B3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35000" y="749520"/>
            <a:ext cx="659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扁平化风格并列关系简洁商务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38254524"/>
              </p:ext>
            </p:extLst>
          </p:nvPr>
        </p:nvGraphicFramePr>
        <p:xfrm>
          <a:off x="2216160" y="2019240"/>
          <a:ext cx="7746480" cy="3904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  <Words>20</Words>
  <Paragraphs>4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22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