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47E-9B23-451B-9BEF-1838287F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36F3-8DE4-4CB0-BE30-B1A4C73D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948-3AE5-44CD-8CD8-7638819F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4C7-4080-4103-A3C9-EBFE102D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CDC2-5CB5-48E3-BC41-9411EF83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4326-D3C7-4DF9-A1B8-3C7316D5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C2C-36B8-484A-8A04-D6AFE8BB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8AB-1EF6-4E09-8F2B-AE3631BE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9982-6C73-4331-9DA1-6B0D999A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982-8C16-4A8D-B41F-09A703AB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5AED-EE5D-4366-9771-899471BD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C47-CACD-4907-ADDD-48197B46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1D3EB2-F751-48D0-A184-F3E107A12BA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385452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385452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399744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 rot="19917600">
            <a:off x="792000" y="1447920"/>
            <a:ext cx="1714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"/>
          <p:cNvSpPr/>
          <p:nvPr/>
        </p:nvSpPr>
        <p:spPr>
          <a:xfrm>
            <a:off x="2465280" y="40284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茶杯玫瑰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5"/>
          <p:cNvSpPr/>
          <p:nvPr/>
        </p:nvSpPr>
        <p:spPr>
          <a:xfrm>
            <a:off x="342576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2143080" y="4143240"/>
            <a:ext cx="1999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628344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 rot="19847400">
            <a:off x="1070640" y="1600560"/>
            <a:ext cx="728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19040" y="638136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178272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67118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85452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 rot="19975800">
            <a:off x="1126800" y="1573560"/>
            <a:ext cx="728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  <Words>57</Words>
  <Paragraphs>1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20T03:34:26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