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1B5-D8BB-414D-B86F-4726D05D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C3A-F2C9-498F-8922-8E7E58F9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8B4-D715-425F-B5B3-AC444693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AF6-B82E-4E26-A4B7-2478753B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CACB-62E4-457B-8570-FD892FA0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B144-8EC3-4E87-8A78-E57B8158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F503-1DEB-4A6A-A0B1-BD5C911E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B1A5-37EA-4E16-91C4-119B52A1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6442-1F68-46DA-8589-5B556E4B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BB75-CE41-41BA-894D-A7A5F735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09AF-710D-4150-90D1-66B0444A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9F2-94BA-4810-96F2-927B5507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6346-85A0-4541-B85D-3EA9C8C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7521-0494-4E3C-B798-B0A816C4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5016-4FF5-4B1F-891F-CE6333F6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6852-17C5-43C2-A34D-9AA962F0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86ED-917E-44D5-9492-FD46C5AA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FF4D-64EC-49A2-A883-C8392295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DE22-D413-4732-9C90-7EDA36B9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2E002-7D3D-47FD-8DB1-4F93D243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EFB4-12EF-4A67-B92B-DA40038A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7473-320A-431E-AAF4-3841300B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275-EE5C-4A70-8106-9570EE35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3039-2DB7-4723-AB88-445025B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61F2-2AB1-4471-A230-28EC0BA1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2467-DF11-47E6-B703-4687808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6E80-F7AF-451A-B13B-38C54E2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A5FCB-15AA-49B3-8A77-B9863C5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1947F-6548-4661-A2E3-99A78733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3957-53D6-49B0-9C3D-2770F76A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974-1940-4495-AD2A-254623B2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42E-B133-4295-9F8C-2A636F9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FD4-F5AA-402F-BA8F-F1B1FE1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FF6-4020-4298-9E86-8613E448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16C-247C-4B3E-92D4-6D8ED5F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D89-A45A-49F4-B133-A7FCC28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B79-B583-44EC-B1BC-9371A250A53D}" type="slidenum">
              <a:rPr b="0" lang="zh-CN" sz="10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3660-33A3-4033-A732-8D4C26E53181}" type="slidenum">
              <a:rPr b="0" lang="zh-CN" sz="10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889-67F0-4A02-B44B-4DBAEC2F1906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0000" y="4941360"/>
            <a:ext cx="489564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930640" y="4578120"/>
            <a:ext cx="31050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2321280" y="981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长满花瓣的矢量树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0440" y="2419200"/>
            <a:ext cx="51940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谢谢观赏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02:56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4T02:54:4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