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52E-F2A5-4406-9D32-F9641790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0B8-C09D-4553-B6E4-F60840A9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22A-DEE8-4300-9893-6D03DAB1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373-E23A-42A1-9D29-6FEF3A28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579-DCD4-4854-9455-B734AB98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1DC-2117-45B9-99FD-9D2FE8AC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EE0-B11C-4343-B2A2-0D2C5C3C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CEA-2228-4812-8E81-BD48E1D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67B-A1A7-4A6F-B649-320BE32E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315-1BD0-41EF-A1DA-D8C67FE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ADD-8712-4B49-AA35-45765CD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2B3-B3BE-4A2E-A4BD-1FA7845E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CEE0-0A74-4941-8EF4-59C7FDC7F6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彩色家园卡通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16:03Z</dcterms:created>
  <dc:creator>jaming1314</dc:creator>
  <dc:description/>
  <cp:keywords/>
  <dc:language>en-US</dc:language>
  <cp:lastModifiedBy>王玉清</cp:lastModifiedBy>
  <cp:lastPrinted>1899-12-30T00:00:00Z</cp:lastPrinted>
  <dcterms:modified xsi:type="dcterms:W3CDTF">2016-02-24T03:16:0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