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071-8A40-4E50-AD5E-F907EBBB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BC5-4D9D-40FB-8A27-3AE59674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A0B-7702-49B4-984D-02F98F00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B60-E83D-45AC-9DC3-DA4D5AE3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86C5-DCDC-4B2D-97CC-7561B23E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54C9-4334-4F24-A840-559BF3E2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D418-A847-420B-9DCB-61D02DF3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4A1C-4CE8-44C8-85C1-DD7A6347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97E6-698B-4FE9-A998-274C9555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2F04-FDFF-486E-9F55-B78F1955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E163-7301-4019-89D8-F8792B4B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185-53D2-42EB-AC5A-19F62288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A1D2-5BE3-471B-BBE8-7F0D954F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CC7C-23E5-45E5-A449-E77DEB3F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6087-9870-4BC1-BADC-4121E1E0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0996-3C0F-4A03-B136-C5EF929E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D6DA-6795-4910-ADF9-7C0CD93C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634-B6F7-4668-A65E-DFF1497F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137-2DDF-4178-9024-9402E207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3EB-FA22-4284-8D24-72E192F8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A1B-41C2-4BAF-BD29-336C6ED5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F5C-CDE7-4982-883A-2BEBE8DA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9B2-F13B-4C2E-84D9-F328376C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F5FD-9AAA-458E-8867-73F66C2B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FFFA-E6E9-4D89-93FC-E4BFDE0DE7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9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AutoShape 8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Group 17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Line 13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Line 14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Line 15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Line 16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AutoShape 18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6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AutoShape 5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AutoShape 6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AutoShape 7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AutoShape 8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AutoShape 9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Line 10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Line 11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Line 12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Line 13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AutoShape 15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Group 26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7" name="AutoShape 19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AutoShape 21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AutoShape 22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AutoShape 23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AutoShape 24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AutoShape 25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4" name="Rectangle 28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DCCD-FA3D-4AF9-8F17-25B4345DE15D}" type="slidenum">
              <a:rPr b="0" lang="zh-CN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435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66ff"/>
                </a:solidFill>
                <a:latin typeface="Arial Black"/>
                <a:ea typeface="宋体"/>
              </a:rPr>
              <a:t>创造力商务管理</a:t>
            </a:r>
            <a:r>
              <a:rPr b="0" lang="en-US" sz="4000" spc="-1" strike="noStrike">
                <a:solidFill>
                  <a:srgbClr val="6666ff"/>
                </a:solidFill>
                <a:latin typeface="Arial Black"/>
                <a:ea typeface="宋体"/>
              </a:rPr>
              <a:t>PPT</a:t>
            </a:r>
            <a:r>
              <a:rPr b="0" lang="zh-CN" sz="4000" spc="-1" strike="noStrike">
                <a:solidFill>
                  <a:srgbClr val="6666ff"/>
                </a:solidFill>
                <a:latin typeface="Arial Black"/>
                <a:ea typeface="宋体"/>
              </a:rPr>
              <a:t>模板完整版下载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876560" y="4733640"/>
            <a:ext cx="4259160" cy="377640"/>
          </a:xfrm>
          <a:prstGeom prst="rect">
            <a:avLst/>
          </a:prstGeom>
          <a:solidFill>
            <a:srgbClr val="6666ff"/>
          </a:solidFill>
          <a:ln w="12600">
            <a:solidFill>
              <a:srgbClr val="6666ff"/>
            </a:solidFill>
            <a:miter/>
          </a:ln>
        </p:spPr>
        <p:txBody>
          <a:bodyPr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演示人姓名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  <a:ea typeface="宋体"/>
              </a:rPr>
              <a:t>议程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概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集体讨论主题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规则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集体讨论活动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总结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接下来的步骤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7646760" y="4708080"/>
            <a:ext cx="1339920" cy="2008800"/>
            <a:chOff x="7646760" y="4708080"/>
            <a:chExt cx="1339920" cy="2008800"/>
          </a:xfrm>
        </p:grpSpPr>
        <p:sp>
          <p:nvSpPr>
            <p:cNvPr id="122" name="AutoShape 4"/>
            <p:cNvSpPr/>
            <p:nvPr/>
          </p:nvSpPr>
          <p:spPr>
            <a:xfrm rot="18900000">
              <a:off x="7891560" y="4889160"/>
              <a:ext cx="32364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3" name="AutoShape 5"/>
            <p:cNvSpPr/>
            <p:nvPr/>
          </p:nvSpPr>
          <p:spPr>
            <a:xfrm rot="8100000">
              <a:off x="7814880" y="4811040"/>
              <a:ext cx="495360" cy="4921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4" name="AutoShape 6"/>
            <p:cNvSpPr/>
            <p:nvPr/>
          </p:nvSpPr>
          <p:spPr>
            <a:xfrm>
              <a:off x="8074080" y="605160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 flipH="1" rot="16200000">
              <a:off x="7938720" y="5678280"/>
              <a:ext cx="71460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6" name="AutoShape 8"/>
            <p:cNvSpPr/>
            <p:nvPr/>
          </p:nvSpPr>
          <p:spPr>
            <a:xfrm flipH="1">
              <a:off x="8112240" y="6396120"/>
              <a:ext cx="3124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7" name="AutoShape 9"/>
            <p:cNvSpPr/>
            <p:nvPr/>
          </p:nvSpPr>
          <p:spPr>
            <a:xfrm rot="8100000">
              <a:off x="7794000" y="5334120"/>
              <a:ext cx="7160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8667720" y="6084720"/>
              <a:ext cx="318960" cy="6321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01" h="398">
                  <a:moveTo>
                    <a:pt x="0" y="0"/>
                  </a:moveTo>
                  <a:lnTo>
                    <a:pt x="0" y="199"/>
                  </a:lnTo>
                  <a:lnTo>
                    <a:pt x="200" y="397"/>
                  </a:lnTo>
                  <a:lnTo>
                    <a:pt x="200" y="196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  <a:ea typeface="宋体"/>
              </a:rPr>
              <a:t>概述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简要概述本次会议的全部内容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议程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期望目标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7240320" y="4693320"/>
            <a:ext cx="1732320" cy="2391120"/>
            <a:chOff x="7240320" y="4693320"/>
            <a:chExt cx="1732320" cy="2391120"/>
          </a:xfrm>
        </p:grpSpPr>
        <p:sp>
          <p:nvSpPr>
            <p:cNvPr id="132" name="AutoShape 4"/>
            <p:cNvSpPr/>
            <p:nvPr/>
          </p:nvSpPr>
          <p:spPr>
            <a:xfrm flipH="1" rot="18900000">
              <a:off x="7305480" y="477180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3" name="AutoShape 5"/>
            <p:cNvSpPr/>
            <p:nvPr/>
          </p:nvSpPr>
          <p:spPr>
            <a:xfrm flipH="1" rot="13500000">
              <a:off x="7733880" y="6500520"/>
              <a:ext cx="486360" cy="482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4" name="AutoShape 6"/>
            <p:cNvSpPr/>
            <p:nvPr/>
          </p:nvSpPr>
          <p:spPr>
            <a:xfrm>
              <a:off x="7467480" y="49244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5" name="AutoShape 7"/>
            <p:cNvSpPr/>
            <p:nvPr/>
          </p:nvSpPr>
          <p:spPr>
            <a:xfrm flipH="1" rot="5400000">
              <a:off x="7601760" y="5292720"/>
              <a:ext cx="714240" cy="711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6" name="AutoShape 8"/>
            <p:cNvSpPr/>
            <p:nvPr/>
          </p:nvSpPr>
          <p:spPr>
            <a:xfrm flipH="1" rot="8100000">
              <a:off x="7769160" y="47602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7" name="AutoShape 9"/>
            <p:cNvSpPr/>
            <p:nvPr/>
          </p:nvSpPr>
          <p:spPr>
            <a:xfrm rot="10800000">
              <a:off x="7598880" y="6018120"/>
              <a:ext cx="7160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8323200" y="6411960"/>
              <a:ext cx="649440" cy="323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409" h="204">
                  <a:moveTo>
                    <a:pt x="408" y="0"/>
                  </a:moveTo>
                  <a:lnTo>
                    <a:pt x="203" y="0"/>
                  </a:lnTo>
                  <a:lnTo>
                    <a:pt x="0" y="203"/>
                  </a:lnTo>
                  <a:lnTo>
                    <a:pt x="206" y="203"/>
                  </a:lnTo>
                  <a:lnTo>
                    <a:pt x="408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  <a:ea typeface="宋体"/>
              </a:rPr>
              <a:t>集体讨论主题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介绍讨论的主题：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讨论新产品或服务方面的新想法。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讨论功能方面的新想法。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讨论如何为功能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产品命名。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讨论激励方面的想法。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讨论新工作方式。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定义最重要的必要条件或限制条件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142" name="AutoShape 4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3" name="AutoShape 5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4" name="Freeform 6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6" name="AutoShape 8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7" name="AutoShape 9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8" name="AutoShape 10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  <a:ea typeface="宋体"/>
              </a:rPr>
              <a:t>规则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不存在糟糕的想法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要有创造性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敢于冒险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禁止批评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51" name="Group 11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152" name="AutoShape 4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  <a:ea typeface="宋体"/>
              </a:rPr>
              <a:t>集体讨论活动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产生想法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用游戏和练习来刺激创造性思维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当产生想法的速度变慢时，可试着用其他练习来产生新的想法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将参会人员分成较小的组也许有帮助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用计算机记录每项提议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宋体"/>
              </a:rPr>
              <a:t>/</a:t>
            </a: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想法（当然，需要用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宋体"/>
              </a:rPr>
              <a:t>Meeting Minder</a:t>
            </a: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在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宋体"/>
              </a:rPr>
              <a:t>Microsoft PowerPoint </a:t>
            </a: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中记录）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7259760" y="5328720"/>
            <a:ext cx="1726920" cy="1543680"/>
            <a:chOff x="7259760" y="5328720"/>
            <a:chExt cx="1726920" cy="1543680"/>
          </a:xfrm>
        </p:grpSpPr>
        <p:sp>
          <p:nvSpPr>
            <p:cNvPr id="162" name="AutoShape 3"/>
            <p:cNvSpPr/>
            <p:nvPr/>
          </p:nvSpPr>
          <p:spPr>
            <a:xfrm flipH="1">
              <a:off x="7259760" y="5997600"/>
              <a:ext cx="325440" cy="322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3" name="AutoShape 4"/>
            <p:cNvSpPr/>
            <p:nvPr/>
          </p:nvSpPr>
          <p:spPr>
            <a:xfrm rot="18900000">
              <a:off x="7467120" y="6141600"/>
              <a:ext cx="498600" cy="4953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4" name="AutoShape 5"/>
            <p:cNvSpPr/>
            <p:nvPr/>
          </p:nvSpPr>
          <p:spPr>
            <a:xfrm rot="13500000">
              <a:off x="7591680" y="5484960"/>
              <a:ext cx="746280" cy="731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5" name="AutoShape 6"/>
            <p:cNvSpPr/>
            <p:nvPr/>
          </p:nvSpPr>
          <p:spPr>
            <a:xfrm flipH="1">
              <a:off x="7583400" y="568800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6" name="AutoShape 7"/>
            <p:cNvSpPr/>
            <p:nvPr/>
          </p:nvSpPr>
          <p:spPr>
            <a:xfrm flipH="1" rot="13500000">
              <a:off x="8123760" y="6009480"/>
              <a:ext cx="714240" cy="714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7729560" y="6391440"/>
              <a:ext cx="657360" cy="34740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414" h="219">
                  <a:moveTo>
                    <a:pt x="0" y="218"/>
                  </a:moveTo>
                  <a:lnTo>
                    <a:pt x="207" y="217"/>
                  </a:lnTo>
                  <a:lnTo>
                    <a:pt x="413" y="0"/>
                  </a:lnTo>
                  <a:lnTo>
                    <a:pt x="203" y="0"/>
                  </a:lnTo>
                  <a:lnTo>
                    <a:pt x="0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8" name="Rectangle 9"/>
            <p:cNvSpPr/>
            <p:nvPr/>
          </p:nvSpPr>
          <p:spPr>
            <a:xfrm>
              <a:off x="7594560" y="600876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9" name="Text Box 6"/>
          <p:cNvSpPr/>
          <p:nvPr/>
        </p:nvSpPr>
        <p:spPr>
          <a:xfrm>
            <a:off x="693720" y="63198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99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  <a:ea typeface="宋体"/>
              </a:rPr>
              <a:t>总结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回顾这些想法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投票推选最佳想法并进行整理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核查必要条件和限制条件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对列表进行整理保留前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宋体"/>
              </a:rPr>
              <a:t>5 – 10 </a:t>
            </a: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个想法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72" name="Group 11"/>
          <p:cNvGrpSpPr/>
          <p:nvPr/>
        </p:nvGrpSpPr>
        <p:grpSpPr>
          <a:xfrm>
            <a:off x="7581960" y="5203800"/>
            <a:ext cx="1411200" cy="2067840"/>
            <a:chOff x="7581960" y="5203800"/>
            <a:chExt cx="1411200" cy="2067840"/>
          </a:xfrm>
        </p:grpSpPr>
        <p:sp>
          <p:nvSpPr>
            <p:cNvPr id="173" name="AutoShape 4"/>
            <p:cNvSpPr/>
            <p:nvPr/>
          </p:nvSpPr>
          <p:spPr>
            <a:xfrm flipH="1" rot="2700000">
              <a:off x="8366760" y="6143760"/>
              <a:ext cx="506160" cy="512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flipH="1" rot="13500000">
              <a:off x="7776360" y="6409080"/>
              <a:ext cx="715680" cy="713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5" name="AutoShape 6"/>
            <p:cNvSpPr/>
            <p:nvPr/>
          </p:nvSpPr>
          <p:spPr>
            <a:xfrm flipH="1" rot="16200000">
              <a:off x="8153640" y="520524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6" name="AutoShape 7"/>
            <p:cNvSpPr/>
            <p:nvPr/>
          </p:nvSpPr>
          <p:spPr>
            <a:xfrm flipH="1" rot="5400000">
              <a:off x="8272440" y="5668920"/>
              <a:ext cx="71424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7" name="AutoShape 8"/>
            <p:cNvSpPr/>
            <p:nvPr/>
          </p:nvSpPr>
          <p:spPr>
            <a:xfrm flipH="1" rot="8100000">
              <a:off x="8114040" y="5757120"/>
              <a:ext cx="319320" cy="3128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7581960" y="5911920"/>
              <a:ext cx="687240" cy="23472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433" h="148">
                  <a:moveTo>
                    <a:pt x="0" y="0"/>
                  </a:moveTo>
                  <a:lnTo>
                    <a:pt x="143" y="145"/>
                  </a:lnTo>
                  <a:lnTo>
                    <a:pt x="432" y="147"/>
                  </a:lnTo>
                  <a:lnTo>
                    <a:pt x="286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9" name="AutoShape 10"/>
            <p:cNvSpPr/>
            <p:nvPr/>
          </p:nvSpPr>
          <p:spPr>
            <a:xfrm>
              <a:off x="7985160" y="52610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  <a:ea typeface="宋体"/>
              </a:rPr>
              <a:t>接下来的步骤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介绍接下来的步骤：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研究所产生的想法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与较大的组保持联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进一步的活动：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开始将想法转变成现实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82" name="Group 11"/>
          <p:cNvGrpSpPr/>
          <p:nvPr/>
        </p:nvGrpSpPr>
        <p:grpSpPr>
          <a:xfrm>
            <a:off x="6802560" y="5094360"/>
            <a:ext cx="2161080" cy="1683720"/>
            <a:chOff x="6802560" y="5094360"/>
            <a:chExt cx="2161080" cy="1683720"/>
          </a:xfrm>
        </p:grpSpPr>
        <p:sp>
          <p:nvSpPr>
            <p:cNvPr id="183" name="AutoShape 4"/>
            <p:cNvSpPr/>
            <p:nvPr/>
          </p:nvSpPr>
          <p:spPr>
            <a:xfrm flipH="1" rot="1200000">
              <a:off x="7522560" y="6213240"/>
              <a:ext cx="31752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 rot="8100000">
              <a:off x="6901920" y="5195160"/>
              <a:ext cx="486000" cy="482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 rot="8100000">
              <a:off x="8109720" y="5925960"/>
              <a:ext cx="708120" cy="704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6" name="AutoShape 7"/>
            <p:cNvSpPr/>
            <p:nvPr/>
          </p:nvSpPr>
          <p:spPr>
            <a:xfrm flipH="1" rot="17280000">
              <a:off x="8219880" y="6362640"/>
              <a:ext cx="32076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7" name="AutoShape 8"/>
            <p:cNvSpPr/>
            <p:nvPr/>
          </p:nvSpPr>
          <p:spPr>
            <a:xfrm rot="18900000">
              <a:off x="7605720" y="540180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8" name="Freeform 9"/>
            <p:cNvSpPr/>
            <p:nvPr/>
          </p:nvSpPr>
          <p:spPr>
            <a:xfrm>
              <a:off x="7169040" y="5767560"/>
              <a:ext cx="649440" cy="34740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409" h="219">
                  <a:moveTo>
                    <a:pt x="408" y="218"/>
                  </a:moveTo>
                  <a:lnTo>
                    <a:pt x="203" y="217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408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9" name="Rectangle 10"/>
            <p:cNvSpPr/>
            <p:nvPr/>
          </p:nvSpPr>
          <p:spPr>
            <a:xfrm>
              <a:off x="7162920" y="5433840"/>
              <a:ext cx="315720" cy="3114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9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191" name="AutoShape 2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2" name="AutoShape 3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3" name="Rectangle 4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5" name="AutoShape 6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6" name="AutoShape 7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199" name="Rectangle 10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0" name="AutoShape 11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1" name="AutoShape 12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2" name="AutoShape 13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3" name="AutoShape 14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4" name="AutoShape 15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207" name="Rectangle 18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8" name="AutoShape 19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9" name="AutoShape 20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0" name="AutoShape 21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1" name="AutoShape 22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3" name="Freeform 24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4" name="Group 33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215" name="AutoShape 26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6" name="Rectangle 27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7" name="AutoShape 28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8" name="AutoShape 29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9" name="AutoShape 30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0" name="AutoShape 31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1" name="Freeform 32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22" name="Group 41"/>
          <p:cNvGrpSpPr/>
          <p:nvPr/>
        </p:nvGrpSpPr>
        <p:grpSpPr>
          <a:xfrm>
            <a:off x="1001880" y="3641400"/>
            <a:ext cx="1450800" cy="1122840"/>
            <a:chOff x="1001880" y="3641400"/>
            <a:chExt cx="1450800" cy="1122840"/>
          </a:xfrm>
        </p:grpSpPr>
        <p:sp>
          <p:nvSpPr>
            <p:cNvPr id="223" name="AutoShape 34"/>
            <p:cNvSpPr/>
            <p:nvPr/>
          </p:nvSpPr>
          <p:spPr>
            <a:xfrm flipH="1">
              <a:off x="1231200" y="374184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4" name="Rectangle 35"/>
            <p:cNvSpPr/>
            <p:nvPr/>
          </p:nvSpPr>
          <p:spPr>
            <a:xfrm>
              <a:off x="1231920" y="420372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5" name="AutoShape 36"/>
            <p:cNvSpPr/>
            <p:nvPr/>
          </p:nvSpPr>
          <p:spPr>
            <a:xfrm rot="13500000">
              <a:off x="1365120" y="377784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6" name="AutoShape 37"/>
            <p:cNvSpPr/>
            <p:nvPr/>
          </p:nvSpPr>
          <p:spPr>
            <a:xfrm rot="16200000">
              <a:off x="1479240" y="4111560"/>
              <a:ext cx="650880" cy="647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7" name="AutoShape 38"/>
            <p:cNvSpPr/>
            <p:nvPr/>
          </p:nvSpPr>
          <p:spPr>
            <a:xfrm rot="10800000">
              <a:off x="1690200" y="3641400"/>
              <a:ext cx="306360" cy="307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8" name="AutoShape 39"/>
            <p:cNvSpPr/>
            <p:nvPr/>
          </p:nvSpPr>
          <p:spPr>
            <a:xfrm flipH="1" rot="5400000">
              <a:off x="2139840" y="410472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9" name="Freeform 40"/>
            <p:cNvSpPr/>
            <p:nvPr/>
          </p:nvSpPr>
          <p:spPr>
            <a:xfrm>
              <a:off x="1001880" y="4546440"/>
              <a:ext cx="687240" cy="21780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433" h="137">
                  <a:moveTo>
                    <a:pt x="0" y="136"/>
                  </a:moveTo>
                  <a:lnTo>
                    <a:pt x="297" y="135"/>
                  </a:lnTo>
                  <a:lnTo>
                    <a:pt x="432" y="0"/>
                  </a:lnTo>
                  <a:lnTo>
                    <a:pt x="429" y="1"/>
                  </a:lnTo>
                  <a:lnTo>
                    <a:pt x="135" y="0"/>
                  </a:lnTo>
                  <a:lnTo>
                    <a:pt x="131" y="4"/>
                  </a:lnTo>
                  <a:lnTo>
                    <a:pt x="0" y="135"/>
                  </a:lnTo>
                  <a:lnTo>
                    <a:pt x="0" y="136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30" name="Group 48"/>
          <p:cNvGrpSpPr/>
          <p:nvPr/>
        </p:nvGrpSpPr>
        <p:grpSpPr>
          <a:xfrm>
            <a:off x="2863800" y="3660480"/>
            <a:ext cx="1292400" cy="1092600"/>
            <a:chOff x="2863800" y="3660480"/>
            <a:chExt cx="1292400" cy="1092600"/>
          </a:xfrm>
        </p:grpSpPr>
        <p:sp>
          <p:nvSpPr>
            <p:cNvPr id="231" name="Rectangle 42"/>
            <p:cNvSpPr/>
            <p:nvPr/>
          </p:nvSpPr>
          <p:spPr>
            <a:xfrm>
              <a:off x="3833640" y="4425840"/>
              <a:ext cx="32256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2" name="AutoShape 43"/>
            <p:cNvSpPr/>
            <p:nvPr/>
          </p:nvSpPr>
          <p:spPr>
            <a:xfrm rot="8100000">
              <a:off x="3036600" y="3793680"/>
              <a:ext cx="64440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3" name="AutoShape 44"/>
            <p:cNvSpPr/>
            <p:nvPr/>
          </p:nvSpPr>
          <p:spPr>
            <a:xfrm rot="10800000">
              <a:off x="317340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4" name="AutoShape 45"/>
            <p:cNvSpPr/>
            <p:nvPr/>
          </p:nvSpPr>
          <p:spPr>
            <a:xfrm rot="16200000">
              <a:off x="2879640" y="442872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5" name="AutoShape 46"/>
            <p:cNvSpPr/>
            <p:nvPr/>
          </p:nvSpPr>
          <p:spPr>
            <a:xfrm flipH="1" rot="5400000">
              <a:off x="3512880" y="44254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6" name="Freeform 47"/>
            <p:cNvSpPr/>
            <p:nvPr/>
          </p:nvSpPr>
          <p:spPr>
            <a:xfrm>
              <a:off x="2863800" y="4091040"/>
              <a:ext cx="639720" cy="33480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403" h="211">
                  <a:moveTo>
                    <a:pt x="0" y="0"/>
                  </a:moveTo>
                  <a:lnTo>
                    <a:pt x="211" y="210"/>
                  </a:lnTo>
                  <a:lnTo>
                    <a:pt x="402" y="210"/>
                  </a:lnTo>
                  <a:lnTo>
                    <a:pt x="399" y="208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37" name="AutoShape 49"/>
          <p:cNvSpPr/>
          <p:nvPr/>
        </p:nvSpPr>
        <p:spPr>
          <a:xfrm flipH="1" rot="18900000">
            <a:off x="2650680" y="4211640"/>
            <a:ext cx="446040" cy="446040"/>
          </a:xfrm>
          <a:prstGeom prst="rtTriangle">
            <a:avLst/>
          </a:prstGeom>
          <a:solidFill>
            <a:srgbClr val="669900"/>
          </a:solidFill>
          <a:ln w="126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38" name="Group 58"/>
          <p:cNvGrpSpPr/>
          <p:nvPr/>
        </p:nvGrpSpPr>
        <p:grpSpPr>
          <a:xfrm>
            <a:off x="4962240" y="3766320"/>
            <a:ext cx="1351080" cy="1477800"/>
            <a:chOff x="4962240" y="3766320"/>
            <a:chExt cx="1351080" cy="1477800"/>
          </a:xfrm>
        </p:grpSpPr>
        <p:sp>
          <p:nvSpPr>
            <p:cNvPr id="239" name="AutoShape 50"/>
            <p:cNvSpPr/>
            <p:nvPr/>
          </p:nvSpPr>
          <p:spPr>
            <a:xfrm flipH="1" rot="13500000">
              <a:off x="5511960" y="446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240" name="Group 57"/>
            <p:cNvGrpSpPr/>
            <p:nvPr/>
          </p:nvGrpSpPr>
          <p:grpSpPr>
            <a:xfrm>
              <a:off x="4962240" y="3766320"/>
              <a:ext cx="1351080" cy="1008720"/>
              <a:chOff x="4962240" y="3766320"/>
              <a:chExt cx="1351080" cy="1008720"/>
            </a:xfrm>
          </p:grpSpPr>
          <p:sp>
            <p:nvSpPr>
              <p:cNvPr id="241" name="AutoShape 51"/>
              <p:cNvSpPr/>
              <p:nvPr/>
            </p:nvSpPr>
            <p:spPr>
              <a:xfrm flipH="1" rot="5400000">
                <a:off x="4969080" y="4329000"/>
                <a:ext cx="434880" cy="44136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>
                <a:off x="5073480" y="3981600"/>
                <a:ext cx="322560" cy="32688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3" name="AutoShape 53"/>
              <p:cNvSpPr/>
              <p:nvPr/>
            </p:nvSpPr>
            <p:spPr>
              <a:xfrm flipH="1" rot="2700000">
                <a:off x="5095440" y="3986280"/>
                <a:ext cx="644400" cy="64440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4" name="AutoShape 54"/>
              <p:cNvSpPr/>
              <p:nvPr/>
            </p:nvSpPr>
            <p:spPr>
              <a:xfrm rot="8100000">
                <a:off x="5076360" y="3830760"/>
                <a:ext cx="31428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5" name="AutoShape 55"/>
              <p:cNvSpPr/>
              <p:nvPr/>
            </p:nvSpPr>
            <p:spPr>
              <a:xfrm flipH="1" rot="8100000">
                <a:off x="5927040" y="4176360"/>
                <a:ext cx="32040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6" name="Freeform 56"/>
              <p:cNvSpPr/>
              <p:nvPr/>
            </p:nvSpPr>
            <p:spPr>
              <a:xfrm>
                <a:off x="6076800" y="4087800"/>
                <a:ext cx="217800" cy="68724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137" h="433">
                    <a:moveTo>
                      <a:pt x="0" y="0"/>
                    </a:moveTo>
                    <a:lnTo>
                      <a:pt x="1" y="297"/>
                    </a:lnTo>
                    <a:lnTo>
                      <a:pt x="136" y="432"/>
                    </a:lnTo>
                    <a:lnTo>
                      <a:pt x="135" y="429"/>
                    </a:lnTo>
                    <a:lnTo>
                      <a:pt x="136" y="135"/>
                    </a:lnTo>
                    <a:lnTo>
                      <a:pt x="132" y="13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9900"/>
              </a:solidFill>
              <a:ln w="12600">
                <a:solidFill>
                  <a:srgbClr val="66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66"/>
          <p:cNvGrpSpPr/>
          <p:nvPr/>
        </p:nvGrpSpPr>
        <p:grpSpPr>
          <a:xfrm>
            <a:off x="6873480" y="3225960"/>
            <a:ext cx="1398960" cy="1531440"/>
            <a:chOff x="6873480" y="3225960"/>
            <a:chExt cx="1398960" cy="1531440"/>
          </a:xfrm>
        </p:grpSpPr>
        <p:sp>
          <p:nvSpPr>
            <p:cNvPr id="248" name="Rectangle 59"/>
            <p:cNvSpPr/>
            <p:nvPr/>
          </p:nvSpPr>
          <p:spPr>
            <a:xfrm rot="18900000">
              <a:off x="7174080" y="3763440"/>
              <a:ext cx="314280" cy="32076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9" name="AutoShape 60"/>
            <p:cNvSpPr/>
            <p:nvPr/>
          </p:nvSpPr>
          <p:spPr>
            <a:xfrm flipH="1" rot="2700000">
              <a:off x="7494120" y="3816360"/>
              <a:ext cx="64440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0" name="AutoShape 61"/>
            <p:cNvSpPr/>
            <p:nvPr/>
          </p:nvSpPr>
          <p:spPr>
            <a:xfrm flipH="1" rot="5400000">
              <a:off x="734544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1" name="AutoShape 62"/>
            <p:cNvSpPr/>
            <p:nvPr/>
          </p:nvSpPr>
          <p:spPr>
            <a:xfrm rot="16200000">
              <a:off x="7005600" y="322524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2" name="AutoShape 63"/>
            <p:cNvSpPr/>
            <p:nvPr/>
          </p:nvSpPr>
          <p:spPr>
            <a:xfrm rot="13500000">
              <a:off x="6940440" y="3995280"/>
              <a:ext cx="324000" cy="324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3" name="Freeform 64"/>
            <p:cNvSpPr/>
            <p:nvPr/>
          </p:nvSpPr>
          <p:spPr>
            <a:xfrm>
              <a:off x="7331040" y="3225960"/>
              <a:ext cx="217440" cy="6858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37" h="432">
                  <a:moveTo>
                    <a:pt x="0" y="297"/>
                  </a:moveTo>
                  <a:lnTo>
                    <a:pt x="136" y="431"/>
                  </a:lnTo>
                  <a:lnTo>
                    <a:pt x="135" y="135"/>
                  </a:lnTo>
                  <a:lnTo>
                    <a:pt x="0" y="0"/>
                  </a:lnTo>
                  <a:lnTo>
                    <a:pt x="0" y="297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4" name="AutoShape 65"/>
            <p:cNvSpPr/>
            <p:nvPr/>
          </p:nvSpPr>
          <p:spPr>
            <a:xfrm rot="2700000">
              <a:off x="7133760" y="4241520"/>
              <a:ext cx="426960" cy="4273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6:16:00Z</dcterms:created>
  <dc:creator>ppt宝藏</dc:creator>
  <dc:description/>
  <dc:language>en-US</dc:language>
  <cp:lastModifiedBy>a</cp:lastModifiedBy>
  <dcterms:modified xsi:type="dcterms:W3CDTF">2015-07-25T06:45:48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596732052</vt:lpwstr>
  </property>
</Properties>
</file>