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3F9-4C3C-4824-8B2C-95B59689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923-CFF1-4557-A89C-8351E838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0A4-E702-4A59-A24F-38321880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C88-D0CF-4A90-B6E6-5247E855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0D75-76E8-49A0-9F24-B4B70C34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E8E8-A444-4364-9824-8511CA43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30F1-22D2-4730-885D-B70AE9E4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EDE1-ADD3-4604-872F-5CE16054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1579-4B4A-4590-A210-96071007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1A90-2281-4DFC-B312-D94C84F6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C3AE-2C18-4E71-B988-8A7CD34D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4B5-0E8E-44A4-9EB3-7EF6A349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2858-84FF-4507-B76A-86804165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C5A0-91D7-4210-87F5-EF0A4716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022E-9071-4C44-8F85-8B570198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0AB4-418C-435C-85AD-9B7503B9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BAD6-7FEF-4C6B-B8AB-C72E23F3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21D-96A0-4538-B7B1-7B68ED1F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D33-C7F0-4BB5-9A49-98081019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BB9-0C7B-4FAE-868B-1A4CEB15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7D7-4684-4E81-A4C5-C8F752AF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FA8-3DDC-4857-80F3-D59D1222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825-4E0C-4B9C-A53C-AE351150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98A-8E31-4C5D-B87E-E24FAA9D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052640"/>
            <a:ext cx="7772040" cy="1872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e0e8f5">
                  <a:alpha val="0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F5E41E-35F5-4A4D-B1EC-C0D0E98461B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2d050"/>
              </a:buClr>
              <a:buFont typeface="Wingdings" charset="2"/>
              <a:buChar char="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321604-DDED-48CA-8260-9B43CDDA7EE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0" y="3269520"/>
            <a:ext cx="6638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1830960" y="1196640"/>
            <a:ext cx="56995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chemeClr val="accent2"/>
                </a:solidFill>
                <a:latin typeface="方正正大黑简体"/>
                <a:ea typeface="方正正大黑简体"/>
              </a:rPr>
              <a:t>单车情侣通用</a:t>
            </a:r>
            <a:r>
              <a:rPr b="1" lang="en-US" sz="4000" spc="-1" strike="noStrike">
                <a:solidFill>
                  <a:schemeClr val="accent2"/>
                </a:solidFill>
                <a:latin typeface="方正正大黑简体"/>
                <a:ea typeface="方正正大黑简体"/>
              </a:rPr>
              <a:t>PPT</a:t>
            </a:r>
            <a:r>
              <a:rPr b="1" lang="zh-CN" sz="4000" spc="-1" strike="noStrike">
                <a:solidFill>
                  <a:schemeClr val="accent2"/>
                </a:solidFill>
                <a:latin typeface="方正正大黑简体"/>
                <a:ea typeface="方正正大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单车上的浪漫——情人节PPT模板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单车上的浪漫——情人节PPT模板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单车上的浪漫——情人节PPT模板</Template>
  <TotalTime>3</TotalTime>
  <Application>LibreOffice/7.4.7.2$Linux_X86_64 LibreOffice_project/40$Build-2</Application>
  <AppVersion>15.0000</AppVersion>
  <Words>97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4-01-20T09:37:55Z</dcterms:created>
  <dc:creator>lenovo</dc:creator>
  <dc:description/>
  <cp:keywords>XS-普屏 4：3 SC-多彩色 BG-浅色 DH-静态</cp:keywords>
  <dc:language>en-US</dc:language>
  <cp:lastModifiedBy>王玉清</cp:lastModifiedBy>
  <dcterms:modified xsi:type="dcterms:W3CDTF">2016-02-20T03:20:58Z</dcterms:modified>
  <cp:revision>3</cp:revision>
  <dc:subject>TP-人文风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