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ND-1"/>
          <p:cNvPicPr/>
          <p:nvPr/>
        </p:nvPicPr>
        <p:blipFill>
          <a:blip r:embed="rId3"/>
          <a:stretch/>
        </p:blipFill>
        <p:spPr>
          <a:xfrm>
            <a:off x="7586640" y="5445000"/>
            <a:ext cx="1017720" cy="101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ordridesign.com/about.html" TargetMode="External"/><Relationship Id="rId2" Type="http://schemas.openxmlformats.org/officeDocument/2006/relationships/hyperlink" Target="http://www.nordridesign.com/about.html" TargetMode="External"/><Relationship Id="rId3" Type="http://schemas.openxmlformats.org/officeDocument/2006/relationships/hyperlink" Target="http://www.nordridesign.com/about.html" TargetMode="External"/><Relationship Id="rId4" Type="http://schemas.openxmlformats.org/officeDocument/2006/relationships/hyperlink" Target="http://www.nordridesign.com/service_ppt_service.html" TargetMode="External"/><Relationship Id="rId5" Type="http://schemas.openxmlformats.org/officeDocument/2006/relationships/hyperlink" Target="http://www.nordridesign.com/service_ppt_service.html" TargetMode="External"/><Relationship Id="rId6" Type="http://schemas.openxmlformats.org/officeDocument/2006/relationships/hyperlink" Target="http://www.nordridesign.com/service_ppt.html" TargetMode="External"/><Relationship Id="rId7" Type="http://schemas.openxmlformats.org/officeDocument/2006/relationships/hyperlink" Target="http://www.nordridesign.com/service_ppt.html" TargetMode="External"/><Relationship Id="rId8" Type="http://schemas.openxmlformats.org/officeDocument/2006/relationships/hyperlink" Target="http://www.nordridesign.com/service_ppt_pro.html" TargetMode="External"/><Relationship Id="rId9" Type="http://schemas.openxmlformats.org/officeDocument/2006/relationships/hyperlink" Target="http://www.nordridesign.com/service_ppt_pro.html" TargetMode="External"/><Relationship Id="rId10" Type="http://schemas.openxmlformats.org/officeDocument/2006/relationships/hyperlink" Target="http://www.nordridesign.com/contact.html" TargetMode="External"/><Relationship Id="rId11" Type="http://schemas.openxmlformats.org/officeDocument/2006/relationships/hyperlink" Target="http://www.nordridesign.com/contact.html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874160" y="3573360"/>
            <a:ext cx="58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多彩绚丽背景通用</a:t>
            </a:r>
            <a:r>
              <a:rPr b="0" lang="en-US" sz="4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6521400" y="526428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015</a:t>
            </a: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1281240" y="2060640"/>
            <a:ext cx="2307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1"/>
              </a:rPr>
              <a:t>The Team / Nord</a:t>
            </a: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2"/>
              </a:rPr>
              <a:t>ri</a:t>
            </a: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3"/>
              </a:rPr>
              <a:t>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371960" y="2622600"/>
            <a:ext cx="198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4"/>
              </a:rPr>
              <a:t>Objectives / 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5"/>
              </a:rPr>
              <a:t>服务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373400" y="3198960"/>
            <a:ext cx="3050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6"/>
              </a:rPr>
              <a:t>Our advantage / Nordri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7"/>
              </a:rPr>
              <a:t>设计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372680" y="3774960"/>
            <a:ext cx="25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8"/>
              </a:rPr>
              <a:t>Service delivery / 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9"/>
              </a:rPr>
              <a:t>设计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371600" y="4351320"/>
            <a:ext cx="2012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10"/>
              </a:rPr>
              <a:t>Contact us / 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11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103640" y="5445000"/>
            <a:ext cx="457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102200" y="4724280"/>
            <a:ext cx="45734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7640" y="637848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上海诺睿网络信息科技有限公司</dc:creator>
  <dc:description>Nordri设计工作室ppt模版发布供大家免费下载使用。版权为Nordri设计工作室所有。您可以自行使用、修改、复制本模版。转载、发表或以其它方式利用本模版上内容，如果您需更进一步的服务，请和我们联系。</dc:description>
  <cp:keywords>ppt幻灯设计/ppt模板设计</cp:keywords>
  <dc:language>en-US</dc:language>
  <cp:lastModifiedBy>xinxing</cp:lastModifiedBy>
  <dcterms:modified xsi:type="dcterms:W3CDTF">2016-08-08T14:48:45Z</dcterms:modified>
  <cp:revision>32</cp:revision>
  <dc:subject/>
  <dc:title>免费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