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c000"/>
            </a:solidFill>
            <a:ln cap="rnd" w="28440">
              <a:solidFill>
                <a:srgbClr val="ffc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2000</c:v>
                </c:pt>
                <c:pt idx="1">
                  <c:v>2001</c:v>
                </c:pt>
                <c:pt idx="2">
                  <c:v>2002</c:v>
                </c:pt>
                <c:pt idx="3">
                  <c:v>2003</c:v>
                </c:pt>
                <c:pt idx="4">
                  <c:v>2004</c:v>
                </c:pt>
                <c:pt idx="5">
                  <c:v>2005</c:v>
                </c:pt>
                <c:pt idx="6">
                  <c:v>2006</c:v>
                </c:pt>
                <c:pt idx="7">
                  <c:v>2007</c:v>
                </c:pt>
                <c:pt idx="8">
                  <c:v>2008</c:v>
                </c:pt>
                <c:pt idx="9">
                  <c:v>20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9</c:v>
                </c:pt>
                <c:pt idx="1">
                  <c:v>1</c:v>
                </c:pt>
                <c:pt idx="2">
                  <c:v>1.2</c:v>
                </c:pt>
                <c:pt idx="3">
                  <c:v>1.4</c:v>
                </c:pt>
                <c:pt idx="4">
                  <c:v>1.1</c:v>
                </c:pt>
                <c:pt idx="5">
                  <c:v>1.5</c:v>
                </c:pt>
                <c:pt idx="6">
                  <c:v>1.8</c:v>
                </c:pt>
                <c:pt idx="7">
                  <c:v>2.4</c:v>
                </c:pt>
                <c:pt idx="8">
                  <c:v>2</c:v>
                </c:pt>
                <c:pt idx="9">
                  <c:v>2.2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00cc99"/>
            </a:solidFill>
            <a:ln cap="rnd" w="28440">
              <a:solidFill>
                <a:srgbClr val="00cc99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2000</c:v>
                </c:pt>
                <c:pt idx="1">
                  <c:v>2001</c:v>
                </c:pt>
                <c:pt idx="2">
                  <c:v>2002</c:v>
                </c:pt>
                <c:pt idx="3">
                  <c:v>2003</c:v>
                </c:pt>
                <c:pt idx="4">
                  <c:v>2004</c:v>
                </c:pt>
                <c:pt idx="5">
                  <c:v>2005</c:v>
                </c:pt>
                <c:pt idx="6">
                  <c:v>2006</c:v>
                </c:pt>
                <c:pt idx="7">
                  <c:v>2007</c:v>
                </c:pt>
                <c:pt idx="8">
                  <c:v>2008</c:v>
                </c:pt>
                <c:pt idx="9">
                  <c:v>20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1.1</c:v>
                </c:pt>
                <c:pt idx="1">
                  <c:v>1.2</c:v>
                </c:pt>
                <c:pt idx="2">
                  <c:v>1.5</c:v>
                </c:pt>
                <c:pt idx="3">
                  <c:v>1.9</c:v>
                </c:pt>
                <c:pt idx="4">
                  <c:v>1.5</c:v>
                </c:pt>
                <c:pt idx="5">
                  <c:v>2</c:v>
                </c:pt>
                <c:pt idx="6">
                  <c:v>2.3</c:v>
                </c:pt>
                <c:pt idx="7">
                  <c:v>2.7</c:v>
                </c:pt>
                <c:pt idx="8">
                  <c:v>2.2</c:v>
                </c:pt>
                <c:pt idx="9">
                  <c:v>2.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33023870"/>
        <c:axId val="11971354"/>
      </c:lineChart>
      <c:catAx>
        <c:axId val="3302387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11971354"/>
        <c:crosses val="autoZero"/>
        <c:auto val="1"/>
        <c:lblAlgn val="ctr"/>
        <c:lblOffset val="100"/>
        <c:noMultiLvlLbl val="0"/>
      </c:catAx>
      <c:valAx>
        <c:axId val="11971354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3302387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.5</c:v>
                </c:pt>
                <c:pt idx="1">
                  <c:v>2.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.5</c:v>
                </c:pt>
                <c:pt idx="1">
                  <c:v>7.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00cc9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cc9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95959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320-9F29-4D0D-A07C-7F61AE42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2EA-FBBF-4274-A797-3B738D98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7A9-6E64-4074-83AC-32A94221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66D-209F-46B8-9F22-173C927D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BE58-D7F8-4386-89C3-B8C93D4D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3C75-92C9-49D1-B52A-96B62D71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CC53-EBBE-4BA5-A685-D4C40420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5502-D145-4EF1-8499-6818303A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209F-5FB4-4546-95FE-A5C53B4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B5BA-00DB-4C7C-85EA-45093DF6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5851-BAF5-4427-B12D-35DCA48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915-2F78-46ED-8CD2-4668BC0E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A43C-E47B-4546-B94D-DD64F57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2294-29DA-4185-89DA-F19F755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2DA6-8B4F-4516-BBCE-1A686942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163D-0907-4102-AEE2-F1F84C5F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7C12-5F6F-4135-8857-5A4E00C6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7E15-E354-4FDA-A850-4A7FF2CD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0C2B-1A50-4C18-BA63-6680A243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933E2-A7D5-436C-B665-33F9DCFA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2584-2BEE-48AD-864E-4B681A80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40BF-D2E1-4554-B5D8-8DB8076F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F87-98CC-4056-8CA6-4843BD9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C138-6E39-415F-BAEA-12F7852A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C32A-F0CD-4CF4-A16D-B1A1D53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5868-7D60-4EA2-A1EE-8590CD1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BB74-DF71-4EF3-91B3-4A2DCBC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FC3E-3AE4-47D8-95D1-7365FB08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9789-14D6-4949-96E2-6BE3FF76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688A-7C43-4BED-A83D-CD8B1EAD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D081-BE70-480F-9939-590A4233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CA5D-D96A-4BAC-A591-3C790A53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1837-1C89-46FF-9E22-AA9C4F57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E93-2637-4261-AFFC-4FDCB435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CAC4-7FB0-44A5-89A5-E656415A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1CC9-217A-4C6D-A588-4769B22C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53F9-B6F8-473F-AF72-CF32E416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0C4F-3C2E-4D63-899F-C54CA56F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3C09-DBE8-4D9D-AE57-A6729120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EC12-03D5-456C-A6C1-C7C9AFB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4F7D-BFE0-40FF-B150-8E63A88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58E8-DEE8-4B7A-AB3B-5D81AF8B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29E1-7785-4F55-8C79-61F8FA43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8ACA7-4B96-4FF3-839E-3EF02E26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A90-E51C-42C0-A1E5-24801959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A259D-036D-4A4C-BFB1-FF008B7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A6C5-19C0-4899-A5BB-D1CE63B7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FD8B-470F-4160-BA97-7C2E545C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91C8-EF51-409B-91FF-2B0366E2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C07A-9288-4954-86BC-0C9ED969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41161-3B89-4831-9FC7-2FF372A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69F49-DF8B-4A61-8CBE-4522DB2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FA2AB-2D45-415C-A820-DD9B9CC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B81D-7AA9-4128-A289-283F06D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4CD20-7E30-41F3-AE99-7283A995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786-FDF3-47E1-B109-DE0DA2CA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845D-18F5-4577-9AB7-FDBC9F94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BE1FC-28F1-495C-9729-65E737CF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5F9D-E869-4F17-A4FA-4A4A7462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3B8D7-BFE4-4F97-ABE7-61D63000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765E-FFD3-42F9-8743-64807060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BDB10-D1BF-46B2-88EE-922BB848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333C-28E2-449F-BFC0-5F597029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D8951-D296-47FB-8476-F8C0EDA3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71A2-E6F3-4FA8-82A8-EC8D125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A73D-0057-43D6-A7E2-59A2E554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BBE-9DFC-46CF-8D09-B91ADA4A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8C9C3-A3CD-490A-8E3B-C8124875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8FBAD-3C62-4D53-9C6D-7605A1A4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7B8A1-2AE7-4F55-ADC1-559AA063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908-68DD-46F6-896F-C33DF02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36F-C4C2-4206-B533-3923DDC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2884C9-9325-41DD-A1F4-35E095EECEF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9E37ED-7BED-42E2-B930-35020D33F88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6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47" name="组合 12"/>
          <p:cNvGrpSpPr/>
          <p:nvPr/>
        </p:nvGrpSpPr>
        <p:grpSpPr>
          <a:xfrm>
            <a:off x="0" y="1272600"/>
            <a:ext cx="1691280" cy="787680"/>
            <a:chOff x="0" y="1272600"/>
            <a:chExt cx="1691280" cy="787680"/>
          </a:xfrm>
        </p:grpSpPr>
        <p:sp>
          <p:nvSpPr>
            <p:cNvPr id="48" name="矩形 10"/>
            <p:cNvSpPr/>
            <p:nvPr/>
          </p:nvSpPr>
          <p:spPr>
            <a:xfrm>
              <a:off x="0" y="12726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等腰三角形 11"/>
            <p:cNvSpPr/>
            <p:nvPr/>
          </p:nvSpPr>
          <p:spPr>
            <a:xfrm rot="16200000">
              <a:off x="1547640" y="1595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639AB2-A738-4D87-911A-01F4EF9D34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3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94" name="组合 12"/>
          <p:cNvGrpSpPr/>
          <p:nvPr/>
        </p:nvGrpSpPr>
        <p:grpSpPr>
          <a:xfrm>
            <a:off x="0" y="2064600"/>
            <a:ext cx="1691280" cy="787680"/>
            <a:chOff x="0" y="2064600"/>
            <a:chExt cx="1691280" cy="787680"/>
          </a:xfrm>
        </p:grpSpPr>
        <p:sp>
          <p:nvSpPr>
            <p:cNvPr id="95" name="矩形 10"/>
            <p:cNvSpPr/>
            <p:nvPr/>
          </p:nvSpPr>
          <p:spPr>
            <a:xfrm>
              <a:off x="0" y="20646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等腰三角形 11"/>
            <p:cNvSpPr/>
            <p:nvPr/>
          </p:nvSpPr>
          <p:spPr>
            <a:xfrm rot="16200000">
              <a:off x="1547640" y="2387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0C4D3A-4D85-41B2-9AA8-AA2E4085850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0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141" name="组合 12"/>
          <p:cNvGrpSpPr/>
          <p:nvPr/>
        </p:nvGrpSpPr>
        <p:grpSpPr>
          <a:xfrm>
            <a:off x="-5760" y="2856960"/>
            <a:ext cx="1691640" cy="787680"/>
            <a:chOff x="-5760" y="2856960"/>
            <a:chExt cx="1691640" cy="787680"/>
          </a:xfrm>
        </p:grpSpPr>
        <p:sp>
          <p:nvSpPr>
            <p:cNvPr id="142" name="矩形 10"/>
            <p:cNvSpPr/>
            <p:nvPr/>
          </p:nvSpPr>
          <p:spPr>
            <a:xfrm>
              <a:off x="-5760" y="285696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Grap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等腰三角形 11"/>
            <p:cNvSpPr/>
            <p:nvPr/>
          </p:nvSpPr>
          <p:spPr>
            <a:xfrm rot="16200000">
              <a:off x="1542240" y="3179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B1C5E0-22C3-4D75-A343-2D1EC4003F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7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188" name="组合 12"/>
          <p:cNvGrpSpPr/>
          <p:nvPr/>
        </p:nvGrpSpPr>
        <p:grpSpPr>
          <a:xfrm>
            <a:off x="0" y="3645000"/>
            <a:ext cx="1691280" cy="787680"/>
            <a:chOff x="0" y="3645000"/>
            <a:chExt cx="1691280" cy="787680"/>
          </a:xfrm>
        </p:grpSpPr>
        <p:sp>
          <p:nvSpPr>
            <p:cNvPr id="189" name="矩形 10"/>
            <p:cNvSpPr/>
            <p:nvPr/>
          </p:nvSpPr>
          <p:spPr>
            <a:xfrm>
              <a:off x="0" y="36450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等腰三角形 11"/>
            <p:cNvSpPr/>
            <p:nvPr/>
          </p:nvSpPr>
          <p:spPr>
            <a:xfrm rot="16200000">
              <a:off x="1547640" y="39675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1691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EDEEA0-DEAC-4C76-B7A5-7D20E4F48AF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表格 6"/>
          <p:cNvGraphicFramePr/>
          <p:nvPr/>
        </p:nvGraphicFramePr>
        <p:xfrm>
          <a:off x="0" y="1268640"/>
          <a:ext cx="1691280" cy="3960000"/>
        </p:xfrm>
        <a:graphic>
          <a:graphicData uri="http://schemas.openxmlformats.org/drawingml/2006/table">
            <a:tbl>
              <a:tblPr/>
              <a:tblGrid>
                <a:gridCol w="1691640"/>
              </a:tblGrid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34" name="直接连接符 8"/>
          <p:cNvCxnSpPr/>
          <p:nvPr/>
        </p:nvCxnSpPr>
        <p:spPr>
          <a:xfrm>
            <a:off x="1907640" y="126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grpSp>
        <p:nvGrpSpPr>
          <p:cNvPr id="235" name="组合 12"/>
          <p:cNvGrpSpPr/>
          <p:nvPr/>
        </p:nvGrpSpPr>
        <p:grpSpPr>
          <a:xfrm>
            <a:off x="-23760" y="4437000"/>
            <a:ext cx="1691280" cy="787680"/>
            <a:chOff x="-23760" y="4437000"/>
            <a:chExt cx="1691280" cy="787680"/>
          </a:xfrm>
        </p:grpSpPr>
        <p:sp>
          <p:nvSpPr>
            <p:cNvPr id="236" name="矩形 10"/>
            <p:cNvSpPr/>
            <p:nvPr/>
          </p:nvSpPr>
          <p:spPr>
            <a:xfrm>
              <a:off x="-23760" y="4437000"/>
              <a:ext cx="1691280" cy="787680"/>
            </a:xfrm>
            <a:prstGeom prst="rect">
              <a:avLst/>
            </a:prstGeom>
            <a:solidFill>
              <a:srgbClr val="00cc9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等腰三角形 11"/>
            <p:cNvSpPr/>
            <p:nvPr/>
          </p:nvSpPr>
          <p:spPr>
            <a:xfrm rot="16200000">
              <a:off x="1523880" y="47595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3"/>
          <p:cNvSpPr/>
          <p:nvPr/>
        </p:nvSpPr>
        <p:spPr>
          <a:xfrm>
            <a:off x="0" y="4149000"/>
            <a:ext cx="9143640" cy="1079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4"/>
          <p:cNvSpPr/>
          <p:nvPr/>
        </p:nvSpPr>
        <p:spPr>
          <a:xfrm>
            <a:off x="467640" y="4366080"/>
            <a:ext cx="8856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型汇报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文本框 3"/>
          <p:cNvSpPr/>
          <p:nvPr/>
        </p:nvSpPr>
        <p:spPr>
          <a:xfrm>
            <a:off x="0" y="4149000"/>
            <a:ext cx="9143640" cy="1079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"/>
          <p:cNvSpPr/>
          <p:nvPr/>
        </p:nvSpPr>
        <p:spPr>
          <a:xfrm>
            <a:off x="467640" y="4366080"/>
            <a:ext cx="6480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1"/>
          <p:cNvSpPr/>
          <p:nvPr/>
        </p:nvSpPr>
        <p:spPr>
          <a:xfrm>
            <a:off x="1907640" y="404640"/>
            <a:ext cx="216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表格 2"/>
          <p:cNvGraphicFramePr/>
          <p:nvPr/>
        </p:nvGraphicFramePr>
        <p:xfrm>
          <a:off x="1979640" y="1556640"/>
          <a:ext cx="6227640" cy="5386320"/>
        </p:xfrm>
        <a:graphic>
          <a:graphicData uri="http://schemas.openxmlformats.org/drawingml/2006/table">
            <a:tbl>
              <a:tblPr/>
              <a:tblGrid>
                <a:gridCol w="2880000"/>
                <a:gridCol w="468000"/>
                <a:gridCol w="2880000"/>
              </a:tblGrid>
              <a:tr h="216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16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801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文本框 1"/>
          <p:cNvSpPr/>
          <p:nvPr/>
        </p:nvSpPr>
        <p:spPr>
          <a:xfrm>
            <a:off x="1907640" y="404640"/>
            <a:ext cx="410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直接连接符 5"/>
          <p:cNvCxnSpPr/>
          <p:nvPr/>
        </p:nvCxnSpPr>
        <p:spPr>
          <a:xfrm>
            <a:off x="5004000" y="3753000"/>
            <a:ext cx="360" cy="2340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285" name="文本框 6"/>
          <p:cNvSpPr/>
          <p:nvPr/>
        </p:nvSpPr>
        <p:spPr>
          <a:xfrm>
            <a:off x="2015640" y="3643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"/>
          <p:cNvSpPr/>
          <p:nvPr/>
        </p:nvSpPr>
        <p:spPr>
          <a:xfrm>
            <a:off x="5652000" y="3643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9"/>
          <p:cNvSpPr/>
          <p:nvPr/>
        </p:nvSpPr>
        <p:spPr>
          <a:xfrm>
            <a:off x="2000880" y="4056840"/>
            <a:ext cx="2858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5652000" y="4056840"/>
            <a:ext cx="2858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1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3"/>
          <p:cNvSpPr/>
          <p:nvPr/>
        </p:nvSpPr>
        <p:spPr>
          <a:xfrm>
            <a:off x="1907640" y="404640"/>
            <a:ext cx="381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NE CH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图表 11"/>
          <p:cNvGraphicFramePr/>
          <p:nvPr/>
        </p:nvGraphicFramePr>
        <p:xfrm>
          <a:off x="2015640" y="3141000"/>
          <a:ext cx="6095520" cy="2911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3"/>
          <p:cNvSpPr/>
          <p:nvPr/>
        </p:nvSpPr>
        <p:spPr>
          <a:xfrm>
            <a:off x="1907640" y="404640"/>
            <a:ext cx="4968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CLE CH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图表 8"/>
          <p:cNvGraphicFramePr/>
          <p:nvPr/>
        </p:nvGraphicFramePr>
        <p:xfrm>
          <a:off x="176364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95" name="图表 11"/>
          <p:cNvGraphicFramePr/>
          <p:nvPr/>
        </p:nvGraphicFramePr>
        <p:xfrm>
          <a:off x="637236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96" name="图表 12"/>
          <p:cNvGraphicFramePr/>
          <p:nvPr/>
        </p:nvGraphicFramePr>
        <p:xfrm>
          <a:off x="4068000" y="1845000"/>
          <a:ext cx="2628000" cy="194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297" name="文本框 13"/>
          <p:cNvSpPr/>
          <p:nvPr/>
        </p:nvSpPr>
        <p:spPr>
          <a:xfrm>
            <a:off x="2267640" y="2421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7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"/>
          <p:cNvSpPr/>
          <p:nvPr/>
        </p:nvSpPr>
        <p:spPr>
          <a:xfrm>
            <a:off x="4572000" y="2430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5"/>
          <p:cNvSpPr/>
          <p:nvPr/>
        </p:nvSpPr>
        <p:spPr>
          <a:xfrm>
            <a:off x="6876360" y="2430000"/>
            <a:ext cx="172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6"/>
          <p:cNvSpPr/>
          <p:nvPr/>
        </p:nvSpPr>
        <p:spPr>
          <a:xfrm>
            <a:off x="2627640" y="386100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7"/>
          <p:cNvSpPr/>
          <p:nvPr/>
        </p:nvSpPr>
        <p:spPr>
          <a:xfrm>
            <a:off x="5004000" y="386316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8"/>
          <p:cNvSpPr/>
          <p:nvPr/>
        </p:nvSpPr>
        <p:spPr>
          <a:xfrm>
            <a:off x="7236360" y="385632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>
            <a:off x="219204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0"/>
          <p:cNvSpPr/>
          <p:nvPr/>
        </p:nvSpPr>
        <p:spPr>
          <a:xfrm>
            <a:off x="449820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>
            <a:off x="6804360" y="4437000"/>
            <a:ext cx="180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文本框 2"/>
          <p:cNvSpPr/>
          <p:nvPr/>
        </p:nvSpPr>
        <p:spPr>
          <a:xfrm>
            <a:off x="1907640" y="404640"/>
            <a:ext cx="54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TE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表格 5"/>
          <p:cNvGraphicFramePr/>
          <p:nvPr/>
        </p:nvGraphicFramePr>
        <p:xfrm>
          <a:off x="2114280" y="3141000"/>
          <a:ext cx="6095520" cy="31680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1840"/>
              </a:tblGrid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d0d0d"/>
                        </a:solidFill>
                        <a:latin typeface="Calibri Light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6,871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5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54,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1,287,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53,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68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21,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8,555,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24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 Light"/>
                        </a:rPr>
                        <a:t>$11,325,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cd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文本框 2"/>
          <p:cNvSpPr/>
          <p:nvPr/>
        </p:nvSpPr>
        <p:spPr>
          <a:xfrm>
            <a:off x="2021400" y="1556640"/>
            <a:ext cx="259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"/>
          <p:cNvSpPr/>
          <p:nvPr/>
        </p:nvSpPr>
        <p:spPr>
          <a:xfrm>
            <a:off x="2015640" y="2032200"/>
            <a:ext cx="622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表格 4"/>
          <p:cNvGraphicFramePr/>
          <p:nvPr/>
        </p:nvGraphicFramePr>
        <p:xfrm>
          <a:off x="2015640" y="2853000"/>
          <a:ext cx="6095520" cy="3384000"/>
        </p:xfrm>
        <a:graphic>
          <a:graphicData uri="http://schemas.openxmlformats.org/drawingml/2006/table">
            <a:tbl>
              <a:tblPr/>
              <a:tblGrid>
                <a:gridCol w="1188000"/>
                <a:gridCol w="817920"/>
                <a:gridCol w="817920"/>
                <a:gridCol w="817920"/>
                <a:gridCol w="817920"/>
                <a:gridCol w="817920"/>
                <a:gridCol w="817920"/>
              </a:tblGrid>
              <a:tr h="42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</a:rPr>
                        <a:t>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3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X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 Light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313" name="文本框 5"/>
          <p:cNvSpPr/>
          <p:nvPr/>
        </p:nvSpPr>
        <p:spPr>
          <a:xfrm>
            <a:off x="1979640" y="404640"/>
            <a:ext cx="54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ANNING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4" name="直接连接符 7"/>
          <p:cNvCxnSpPr/>
          <p:nvPr/>
        </p:nvCxnSpPr>
        <p:spPr>
          <a:xfrm>
            <a:off x="2012760" y="2222640"/>
            <a:ext cx="648036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315" name="文本框 1"/>
          <p:cNvSpPr/>
          <p:nvPr/>
        </p:nvSpPr>
        <p:spPr>
          <a:xfrm>
            <a:off x="1907640" y="404640"/>
            <a:ext cx="324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"/>
          <p:cNvSpPr/>
          <p:nvPr/>
        </p:nvSpPr>
        <p:spPr>
          <a:xfrm>
            <a:off x="197964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3"/>
          <p:cNvSpPr/>
          <p:nvPr/>
        </p:nvSpPr>
        <p:spPr>
          <a:xfrm>
            <a:off x="3742920" y="1556640"/>
            <a:ext cx="1331640" cy="1331640"/>
          </a:xfrm>
          <a:prstGeom prst="ellipse">
            <a:avLst/>
          </a:prstGeom>
          <a:solidFill>
            <a:srgbClr val="00cc9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4"/>
          <p:cNvSpPr/>
          <p:nvPr/>
        </p:nvSpPr>
        <p:spPr>
          <a:xfrm>
            <a:off x="550584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"/>
          <p:cNvSpPr/>
          <p:nvPr/>
        </p:nvSpPr>
        <p:spPr>
          <a:xfrm>
            <a:off x="7268760" y="1556640"/>
            <a:ext cx="1331640" cy="1331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表格 8"/>
          <p:cNvGraphicFramePr/>
          <p:nvPr/>
        </p:nvGraphicFramePr>
        <p:xfrm>
          <a:off x="1994760" y="3429000"/>
          <a:ext cx="6498000" cy="3659040"/>
        </p:xfrm>
        <a:graphic>
          <a:graphicData uri="http://schemas.openxmlformats.org/drawingml/2006/table">
            <a:tbl>
              <a:tblPr/>
              <a:tblGrid>
                <a:gridCol w="1288800"/>
                <a:gridCol w="5209200"/>
              </a:tblGrid>
              <a:tr h="67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esig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Calibri"/>
                        </a:rPr>
                        <a:t>Te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unc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ppor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9"/>
          <p:cNvSpPr/>
          <p:nvPr/>
        </p:nvSpPr>
        <p:spPr>
          <a:xfrm>
            <a:off x="428760" y="6381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文本框 1"/>
          <p:cNvSpPr/>
          <p:nvPr/>
        </p:nvSpPr>
        <p:spPr>
          <a:xfrm>
            <a:off x="1907640" y="404640"/>
            <a:ext cx="475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-DO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表格 6"/>
          <p:cNvGraphicFramePr/>
          <p:nvPr/>
        </p:nvGraphicFramePr>
        <p:xfrm>
          <a:off x="2051640" y="1606320"/>
          <a:ext cx="6095520" cy="5064480"/>
        </p:xfrm>
        <a:graphic>
          <a:graphicData uri="http://schemas.openxmlformats.org/drawingml/2006/table">
            <a:tbl>
              <a:tblPr/>
              <a:tblGrid>
                <a:gridCol w="1008000"/>
                <a:gridCol w="5087880"/>
              </a:tblGrid>
              <a:tr h="36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9a0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324" name="直接连接符 10"/>
          <p:cNvCxnSpPr/>
          <p:nvPr/>
        </p:nvCxnSpPr>
        <p:spPr>
          <a:xfrm>
            <a:off x="1907640" y="270864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325" name="直接连接符 11"/>
          <p:cNvCxnSpPr/>
          <p:nvPr/>
        </p:nvCxnSpPr>
        <p:spPr>
          <a:xfrm>
            <a:off x="1907640" y="530100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326" name="直接连接符 12"/>
          <p:cNvCxnSpPr/>
          <p:nvPr/>
        </p:nvCxnSpPr>
        <p:spPr>
          <a:xfrm>
            <a:off x="1907640" y="4005000"/>
            <a:ext cx="6265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  <Words>513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01:37:38Z</dcterms:created>
  <dc:creator>Administrator</dc:creator>
  <dc:description/>
  <dc:language>en-US</dc:language>
  <cp:lastModifiedBy>王玉清</cp:lastModifiedBy>
  <dcterms:modified xsi:type="dcterms:W3CDTF">2016-03-01T07:36:20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