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7BC-88A7-4C1A-A05C-B1030377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861-F7EC-474B-8655-0061AFD4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BC8-3E0D-4406-B4AF-868EF5A2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3A7-F563-4150-AAE5-4517414F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7EC-59B9-44E4-90FA-DF2F46BE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E06-9677-462D-A465-C9AF22F8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A87-181D-4F81-A26F-4C59003A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5A0-8CCD-47DF-ADCE-9F124DB1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06C-4133-4D74-926B-B98F53F2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C00-325C-4ED9-8411-8EBC880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744-58A5-48B8-8C04-15FF414C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E1A-FA83-46CD-B4B7-A7EDB03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B54F-6BFD-4CD4-945C-2CDD786638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地球商务科技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49:49Z</dcterms:created>
  <dc:creator>Administrator</dc:creator>
  <dc:description/>
  <cp:keywords/>
  <dc:language>en-US</dc:language>
  <cp:lastModifiedBy>a</cp:lastModifiedBy>
  <cp:lastPrinted>1899-12-30T00:00:00Z</cp:lastPrinted>
  <dcterms:modified xsi:type="dcterms:W3CDTF">2015-07-25T08:59:49Z</dcterms:modified>
  <cp:revision>3</cp:revision>
  <dc:subject/>
  <dc:title>地球商务幻灯片模板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