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0A3-E24B-423C-BE18-A4764108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58F-EEDC-4291-99F7-E4D75D4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7E0-4FC6-4100-9A39-152BAF50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BB2-C887-49BA-95DA-A9CA9E43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0EA-443F-4EC1-AC26-8E051831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1F72-ABE6-401C-9BAD-969157A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25B6-A88A-45A8-A04C-EDC206E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6F6-4D42-4E7B-BCB5-500CF9E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C5B4-89DD-480E-B334-5194B0E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54C-4176-436F-AB0C-6909741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A057-ADBD-4A60-AB02-294E3D9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D3A-A48A-40E1-93FA-03849AF8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8711-0547-44D9-8994-EA8BC74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3E0-F350-4BFB-9BF5-178552D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F6BB-715A-4F9A-9C1A-246271D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DEF4-1EFF-43CF-9255-DE89F77C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151-75A0-4164-AFB0-A762604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3C1A1-73AB-4F90-A347-413B6A5A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BE32-4916-46B5-A3B6-97299BA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FACA-B035-4D57-8D47-BB0506C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B7FB-AB5C-491D-86B3-5840823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779A-257F-4D0D-A3AA-6201122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333-6A80-4EEF-B134-247E1F0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37F9-CCC9-4B09-A7C0-DA0E75E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8A46-0FBB-42E9-ACE4-33053D6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C5E8-EBE0-4DFB-812F-69AA81C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83A1-7EEB-42C5-9776-6AC29BA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FE87-80D9-425B-BCAD-7068464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6076-891A-4134-8585-3373011B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8DE5-3252-49F7-BAFB-F7F09201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B62-A6BB-44E5-8518-974DDFE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68D-CFAA-419D-BE9A-96900D3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027-01E0-4E85-BF0B-751FCB0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2B1-90E4-4CEB-95ED-38DA63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968-632E-4CC5-A2E4-6B5B1DB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F22-03C8-4A15-BEA9-6A13EC0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183-9ECF-43AF-A85B-0F0ABF4E2511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A1C-41C8-48D1-9DFA-41E1D886E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AF0-F9B9-46CA-8490-C5E336A44586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200" y="1828440"/>
            <a:ext cx="792468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Microsoft JhengHei"/>
              </a:rPr>
              <a:t>淡雅菊花通用</a:t>
            </a:r>
            <a:r>
              <a:rPr b="1" lang="en-US" sz="4000" spc="-1" strike="noStrike">
                <a:solidFill>
                  <a:srgbClr val="00b050"/>
                </a:solidFill>
                <a:latin typeface="Microsoft JhengHei"/>
              </a:rPr>
              <a:t>PPT</a:t>
            </a:r>
            <a:r>
              <a:rPr b="1" lang="zh-CN" sz="4000" spc="-1" strike="noStrike">
                <a:solidFill>
                  <a:srgbClr val="00b050"/>
                </a:solidFill>
                <a:latin typeface="Microsoft JhengHei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a6a6a6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5D11-308F-4980-85CC-301EDE2E0489}" type="slidenum"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5200"/>
            <a:ext cx="716256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Microsoft JhengHei"/>
              </a:rPr>
              <a:t>谢谢观看！</a:t>
            </a:r>
            <a:endParaRPr b="1" lang="en-US" sz="4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a6a6a6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1T03:48:37Z</dcterms:modified>
  <cp:revision>12</cp:revision>
  <dc:subject/>
  <dc:title>淡雅菊花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