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5B7-FF84-47EB-84C3-06E8EA18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F2E-AFD3-45E0-80E8-0BF0DBB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83E-4E0C-4404-9849-9F08939C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440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9824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7440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9824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D87-1296-414E-B300-49239191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AA06-53C2-4CE3-A465-60D9F8E7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1313-51A9-4B63-8080-130A2D5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E9BF-7C88-4F08-851B-5DF0B70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2044-96B5-4BAF-B9B3-4A03D51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AA4D-79E0-4816-BFF1-0A7AF927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33130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47A9-1216-4417-B8D7-13FCA61E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20BB-5711-4146-A391-391FA90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504-8E24-4D3A-915A-E44CFE4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E36-9A99-412A-BDC4-84827080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060-BC01-4C51-BE74-C8EA092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8C66-3D4C-49D7-8681-4F7F35F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86D1-F61F-4AAA-8391-627A1CB4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440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9824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7440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09824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08A-55B4-478E-AD4B-05A9865B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91E-4005-4333-9164-7F743554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205-20FE-4EEA-AEA7-84BFFB54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784-8C3F-4C20-B2E1-04D11C0A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33130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156-62D3-4DC2-808E-7033A191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230-B9D7-432F-94FB-050C5AE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638-6ED3-46F0-9B9D-CB04E93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305-291E-45A7-ABB4-8CB705E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08360" y="188640"/>
            <a:ext cx="223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6165360"/>
            <a:ext cx="33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9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3D91-0924-4826-903B-2C99425B6425}" type="slidenum"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892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484360" y="6165360"/>
            <a:ext cx="395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142-4214-4F84-BE90-64B86704871F}" type="slidenum"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763416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粉色罗曼蒂克之吻通用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560" y="3095280"/>
            <a:ext cx="5113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Add your name here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0066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0066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20T04:39:03Z</dcterms:modified>
  <cp:revision>7</cp:revision>
  <dc:subject/>
  <dc:title>Слайд 1</dc:title>
</cp:coreProperties>
</file>