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43AB-0ED1-4750-B5D6-D66A777D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CC5C-A3C2-422A-BC62-A9DBDB42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2221-2270-4DB1-93B9-A47E6534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6CD0-5B70-4AC5-AE77-70FF5C86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3999-A275-4F3A-B3EB-6DA560C0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19F4-1E65-41BF-A0D4-A0A24D0E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1B25-3163-4A34-8A59-3D46C916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E455-5457-458C-909B-D08036EB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F7C0-E548-4A95-AF06-E95A5351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98EA-79C2-4D09-95E1-8D8C0C7B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CAD2-9A27-449C-9314-C843CF1E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75F9-B238-4A2F-8E8C-4E16CC64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1E75-4CAB-42D1-9C85-2D833F44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3490-86F3-46AD-900A-D17C30DC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4189-3CFE-4577-B012-1415DC32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1000-A4E5-47E6-90F6-4B36128B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9E0A-0C0A-40A1-B073-E6293066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F598-69EE-46F2-B005-DBBCD24C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8B16-AAE3-4235-B236-5909159A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DA0D-8603-4011-873C-C52AC952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A69D-65E9-4C85-9D09-564C1423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62A-558D-4F20-8C79-4BA195FD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77B8-676D-4F5E-B17A-223E44A4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F8F1-507A-45DF-9B2D-9B12478B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3E2C-95DC-415F-8656-CF76376CB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438"/>
          <p:cNvPicPr/>
          <p:nvPr/>
        </p:nvPicPr>
        <p:blipFill>
          <a:blip r:embed="rId2"/>
          <a:srcRect l="0" t="0" r="0" b="31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44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3C91-3F11-4B85-A229-F27A3E44A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"/>
          <p:cNvSpPr/>
          <p:nvPr/>
        </p:nvSpPr>
        <p:spPr>
          <a:xfrm>
            <a:off x="2048400" y="7621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粉色女孩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489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"/>
          <p:cNvSpPr/>
          <p:nvPr/>
        </p:nvSpPr>
        <p:spPr>
          <a:xfrm>
            <a:off x="6781680" y="6477120"/>
            <a:ext cx="22100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1ppt.com 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模板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21T04:11:5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