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115ED-F777-40E3-BE7F-2A983D496E3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4BC6F-3A75-4827-A04D-C412E892308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6BD08-6EB3-4B76-A78A-C9B16139A67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1FF3-01BE-4E31-AD25-A2EDBEB75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A4D9-7A13-4DC0-A020-84508FFC9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A836-4982-49F7-BFF4-4B51AD139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6959-D3B7-4B8A-8799-15FF3D3CE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1EAF-90B4-4271-9C3D-EBD054C9F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8209-44D3-4B7A-8DB9-2AFC0D668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7678-B211-4EAC-A879-A1C4A33EB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0C1A-0189-470C-80CA-A59126528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9E2F-02BF-4643-A7C8-75071EAB6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7440-AFC6-4508-82E1-1A89EDB7D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B0DF-E472-4BB4-B4C8-78E63065E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29A4-C907-452D-8A43-96BF22A74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ACC4C-1F03-404F-9E5D-47933A56A5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2603880" y="115920"/>
            <a:ext cx="499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99"/>
                </a:solidFill>
                <a:latin typeface="汉仪综艺体简"/>
                <a:ea typeface="汉仪综艺体简"/>
              </a:rPr>
              <a:t>粉色桃花风格通用</a:t>
            </a:r>
            <a:r>
              <a:rPr b="0" lang="en-US" sz="4000" spc="-1" strike="noStrike">
                <a:solidFill>
                  <a:srgbClr val="ff3399"/>
                </a:solidFill>
                <a:latin typeface="汉仪综艺体简"/>
                <a:ea typeface="汉仪综艺体简"/>
              </a:rPr>
              <a:t>PPT</a:t>
            </a:r>
            <a:r>
              <a:rPr b="0" lang="zh-CN" sz="4000" spc="-1" strike="noStrike">
                <a:solidFill>
                  <a:srgbClr val="ff3399"/>
                </a:solidFill>
                <a:latin typeface="汉仪综艺体简"/>
                <a:ea typeface="汉仪综艺体简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2117520" y="115920"/>
            <a:ext cx="469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Dotum"/>
              </a:rPr>
              <a:t>Name of your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1T07:08:41Z</dcterms:created>
  <dc:creator>admin</dc:creator>
  <dc:description/>
  <dc:language>en-US</dc:language>
  <cp:lastModifiedBy>王玉清</cp:lastModifiedBy>
  <dcterms:modified xsi:type="dcterms:W3CDTF">2016-02-22T03:41:55Z</dcterms:modified>
  <cp:revision>4</cp:revision>
  <dc:subject/>
  <dc:title>幻灯片 1</dc:title>
</cp:coreProperties>
</file>