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55F7-437F-4E41-A667-9C4EEF9F8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0240" y="1723680"/>
            <a:ext cx="77724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60240" y="4036320"/>
            <a:ext cx="77724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9FF0-4D08-4C09-85E4-6826F382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0240" y="172368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42920" y="172368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0240" y="403632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42920" y="403632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A21E-92A3-4F5F-9817-6B1B148C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60240" y="1723680"/>
            <a:ext cx="2502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88240" y="1723680"/>
            <a:ext cx="2502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15880" y="1723680"/>
            <a:ext cx="2502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60240" y="4036320"/>
            <a:ext cx="2502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88240" y="4036320"/>
            <a:ext cx="2502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15880" y="4036320"/>
            <a:ext cx="2502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13FD-EC2D-4ECB-8992-20749E9E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46C8-6AC0-4DFD-9348-FB0347CB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60240" y="1723680"/>
            <a:ext cx="77724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9D60-0C58-475F-AC15-B6888173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0240" y="1723680"/>
            <a:ext cx="77724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8637-26FA-4988-99B6-C74DF021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60240" y="1723680"/>
            <a:ext cx="3792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2920" y="1723680"/>
            <a:ext cx="3792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BA69-D75C-4F89-BE3E-F64C03C9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9A7C-1D5F-4750-8A5B-66A6D0DD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62040" y="236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901C-4A23-4F76-A5C7-AA9AAC10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0240" y="172368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2920" y="1723680"/>
            <a:ext cx="3792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0240" y="403632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5B59-B70C-4BBC-B17D-0B41F513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60240" y="1723680"/>
            <a:ext cx="77724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30D9-8D56-4E84-9A30-5C378B56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60240" y="1723680"/>
            <a:ext cx="3792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2920" y="172368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42920" y="403632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CFF4-732B-4447-8A53-1BD31C4F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0240" y="172368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2920" y="172368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0240" y="4036320"/>
            <a:ext cx="77724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8649-CCA7-4ADC-AF6B-C49FAC24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60240" y="1723680"/>
            <a:ext cx="77724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0240" y="4036320"/>
            <a:ext cx="77724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0FBC-C603-4D1F-A78E-821BB2EF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60240" y="172368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2920" y="172368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60240" y="403632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42920" y="403632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55D4-1E74-4D1B-890C-469F20CE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60240" y="1723680"/>
            <a:ext cx="2502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88240" y="1723680"/>
            <a:ext cx="2502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15880" y="1723680"/>
            <a:ext cx="2502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0240" y="4036320"/>
            <a:ext cx="2502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88240" y="4036320"/>
            <a:ext cx="2502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15880" y="4036320"/>
            <a:ext cx="2502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FDBD-98B8-4ACD-8073-33CF331D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60240" y="1723680"/>
            <a:ext cx="77724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5338-F32E-4E04-BF5A-86363283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0240" y="1723680"/>
            <a:ext cx="3792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2920" y="1723680"/>
            <a:ext cx="3792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2195-1E3A-4093-A99D-D4B63AFC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A391-2634-43D0-B6FF-BC487C36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62040" y="236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4C55-823F-4C47-AF4A-C74FFD15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0240" y="172368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2920" y="1723680"/>
            <a:ext cx="3792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0240" y="403632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6F9A-DFFD-479F-86FD-432D1614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0240" y="1723680"/>
            <a:ext cx="3792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2920" y="172368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42920" y="403632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E092-62D5-4CD4-B09C-BE2B2C03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60240" y="172368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2920" y="172368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0240" y="4036320"/>
            <a:ext cx="77724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E967-F925-45B9-B6A7-2DDC00CE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3bg_2"/>
          <p:cNvPicPr/>
          <p:nvPr/>
        </p:nvPicPr>
        <p:blipFill>
          <a:blip r:embed="rId2"/>
          <a:stretch/>
        </p:blipFill>
        <p:spPr>
          <a:xfrm>
            <a:off x="0" y="0"/>
            <a:ext cx="9144000" cy="14652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"/>
          <p:cNvGrpSpPr/>
          <p:nvPr/>
        </p:nvGrpSpPr>
        <p:grpSpPr>
          <a:xfrm>
            <a:off x="0" y="0"/>
            <a:ext cx="9143640" cy="110880"/>
            <a:chOff x="0" y="0"/>
            <a:chExt cx="9143640" cy="110880"/>
          </a:xfrm>
        </p:grpSpPr>
        <p:sp>
          <p:nvSpPr>
            <p:cNvPr id="2" name="Rectangle 4"/>
            <p:cNvSpPr/>
            <p:nvPr/>
          </p:nvSpPr>
          <p:spPr>
            <a:xfrm>
              <a:off x="0" y="0"/>
              <a:ext cx="9143640" cy="110880"/>
            </a:xfrm>
            <a:prstGeom prst="rect">
              <a:avLst/>
            </a:prstGeom>
            <a:solidFill>
              <a:srgbClr val="ff6e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8538840" y="0"/>
              <a:ext cx="604800" cy="110880"/>
            </a:xfrm>
            <a:prstGeom prst="rect">
              <a:avLst/>
            </a:prstGeom>
            <a:solidFill>
              <a:srgbClr val="fe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266680" y="0"/>
              <a:ext cx="604800" cy="110880"/>
            </a:xfrm>
            <a:prstGeom prst="rect">
              <a:avLst/>
            </a:prstGeom>
            <a:solidFill>
              <a:srgbClr val="fe8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8024760" y="0"/>
              <a:ext cx="604800" cy="110880"/>
            </a:xfrm>
            <a:prstGeom prst="rect">
              <a:avLst/>
            </a:prstGeom>
            <a:solidFill>
              <a:srgbClr val="fd9a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854480" y="0"/>
              <a:ext cx="604800" cy="110880"/>
            </a:xfrm>
            <a:prstGeom prst="rect">
              <a:avLst/>
            </a:prstGeom>
            <a:solidFill>
              <a:srgbClr val="fda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7722360" y="0"/>
              <a:ext cx="604800" cy="110880"/>
            </a:xfrm>
            <a:prstGeom prst="rect">
              <a:avLst/>
            </a:prstGeom>
            <a:solidFill>
              <a:srgbClr val="fdb7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-윤고딕140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60240" y="1723680"/>
            <a:ext cx="77724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8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0000"/>
                </a:solidFill>
                <a:latin typeface="-윤고딕140"/>
              </a:rPr>
              <a:t>Click to edit the outline text format</a:t>
            </a: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0000"/>
                </a:solidFill>
                <a:latin typeface="-윤고딕140"/>
              </a:rPr>
              <a:t>Second Outline Level</a:t>
            </a: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  <a:p>
            <a:pPr lvl="2" marL="1143000" indent="-228600">
              <a:spcBef>
                <a:spcPts val="624"/>
              </a:spcBef>
              <a:buClr>
                <a:srgbClr val="8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0000"/>
                </a:solidFill>
                <a:latin typeface="-윤고딕140"/>
              </a:rPr>
              <a:t>Third Outline Level</a:t>
            </a: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  <a:p>
            <a:pPr lvl="3" marL="1600200" indent="-228600">
              <a:spcBef>
                <a:spcPts val="624"/>
              </a:spcBef>
              <a:buClr>
                <a:srgbClr val="8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0000"/>
                </a:solidFill>
                <a:latin typeface="-윤고딕140"/>
              </a:rPr>
              <a:t>Fourth Outline Level</a:t>
            </a: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  <a:p>
            <a:pPr lvl="4" marL="2057400" indent="-228600">
              <a:spcBef>
                <a:spcPts val="624"/>
              </a:spcBef>
              <a:buClr>
                <a:srgbClr val="8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0000"/>
                </a:solidFill>
                <a:latin typeface="-윤고딕140"/>
              </a:rPr>
              <a:t>Fifth Outline Level</a:t>
            </a: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0000"/>
                </a:solidFill>
                <a:latin typeface="-윤고딕140"/>
              </a:rPr>
              <a:t>Sixth Outline Level</a:t>
            </a: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0000"/>
                </a:solidFill>
                <a:latin typeface="-윤고딕140"/>
              </a:rPr>
              <a:t>Seventh Outline Level</a:t>
            </a: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05DF-CE39-4266-988F-BA653A5B9661}" type="slidenum">
              <a: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13bg_2"/>
          <p:cNvPicPr/>
          <p:nvPr/>
        </p:nvPicPr>
        <p:blipFill>
          <a:blip r:embed="rId2"/>
          <a:stretch/>
        </p:blipFill>
        <p:spPr>
          <a:xfrm>
            <a:off x="0" y="0"/>
            <a:ext cx="9144000" cy="146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13bg_22"/>
          <p:cNvPicPr/>
          <p:nvPr/>
        </p:nvPicPr>
        <p:blipFill>
          <a:blip r:embed="rId3"/>
          <a:stretch/>
        </p:blipFill>
        <p:spPr>
          <a:xfrm>
            <a:off x="0" y="5392800"/>
            <a:ext cx="9144000" cy="1465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0" y="1628640"/>
            <a:ext cx="9144000" cy="3610080"/>
          </a:xfrm>
          <a:prstGeom prst="rect">
            <a:avLst/>
          </a:prstGeom>
          <a:solidFill>
            <a:srgbClr val="262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1482840"/>
            <a:ext cx="9144000" cy="220680"/>
          </a:xfrm>
          <a:prstGeom prst="rect">
            <a:avLst/>
          </a:prstGeom>
          <a:solidFill>
            <a:srgbClr val="ff6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5132520"/>
            <a:ext cx="9144000" cy="231480"/>
          </a:xfrm>
          <a:prstGeom prst="rect">
            <a:avLst/>
          </a:prstGeom>
          <a:solidFill>
            <a:srgbClr val="ff6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4" name="Group 7"/>
          <p:cNvGrpSpPr/>
          <p:nvPr/>
        </p:nvGrpSpPr>
        <p:grpSpPr>
          <a:xfrm>
            <a:off x="0" y="0"/>
            <a:ext cx="9143640" cy="110880"/>
            <a:chOff x="0" y="0"/>
            <a:chExt cx="9143640" cy="110880"/>
          </a:xfrm>
        </p:grpSpPr>
        <p:sp>
          <p:nvSpPr>
            <p:cNvPr id="55" name="Rectangle 8"/>
            <p:cNvSpPr/>
            <p:nvPr/>
          </p:nvSpPr>
          <p:spPr>
            <a:xfrm>
              <a:off x="0" y="0"/>
              <a:ext cx="9143640" cy="110880"/>
            </a:xfrm>
            <a:prstGeom prst="rect">
              <a:avLst/>
            </a:prstGeom>
            <a:solidFill>
              <a:srgbClr val="ff6e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8538840" y="0"/>
              <a:ext cx="604800" cy="110880"/>
            </a:xfrm>
            <a:prstGeom prst="rect">
              <a:avLst/>
            </a:prstGeom>
            <a:solidFill>
              <a:srgbClr val="fe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8266680" y="0"/>
              <a:ext cx="604800" cy="110880"/>
            </a:xfrm>
            <a:prstGeom prst="rect">
              <a:avLst/>
            </a:prstGeom>
            <a:solidFill>
              <a:srgbClr val="fe8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8024760" y="0"/>
              <a:ext cx="604800" cy="110880"/>
            </a:xfrm>
            <a:prstGeom prst="rect">
              <a:avLst/>
            </a:prstGeom>
            <a:solidFill>
              <a:srgbClr val="fd9a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7854480" y="0"/>
              <a:ext cx="604800" cy="110880"/>
            </a:xfrm>
            <a:prstGeom prst="rect">
              <a:avLst/>
            </a:prstGeom>
            <a:solidFill>
              <a:srgbClr val="fda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7722360" y="0"/>
              <a:ext cx="604800" cy="110880"/>
            </a:xfrm>
            <a:prstGeom prst="rect">
              <a:avLst/>
            </a:prstGeom>
            <a:solidFill>
              <a:srgbClr val="fdb7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1" name="Group 19"/>
          <p:cNvGrpSpPr/>
          <p:nvPr/>
        </p:nvGrpSpPr>
        <p:grpSpPr>
          <a:xfrm>
            <a:off x="0" y="6746760"/>
            <a:ext cx="9143640" cy="110880"/>
            <a:chOff x="0" y="6746760"/>
            <a:chExt cx="9143640" cy="110880"/>
          </a:xfrm>
        </p:grpSpPr>
        <p:sp>
          <p:nvSpPr>
            <p:cNvPr id="62" name="Rectangle 20"/>
            <p:cNvSpPr/>
            <p:nvPr/>
          </p:nvSpPr>
          <p:spPr>
            <a:xfrm>
              <a:off x="0" y="6746760"/>
              <a:ext cx="9143640" cy="110880"/>
            </a:xfrm>
            <a:prstGeom prst="rect">
              <a:avLst/>
            </a:prstGeom>
            <a:solidFill>
              <a:srgbClr val="ff6e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" name="Rectangle 21"/>
            <p:cNvSpPr/>
            <p:nvPr/>
          </p:nvSpPr>
          <p:spPr>
            <a:xfrm>
              <a:off x="8538840" y="6746760"/>
              <a:ext cx="604800" cy="110880"/>
            </a:xfrm>
            <a:prstGeom prst="rect">
              <a:avLst/>
            </a:prstGeom>
            <a:solidFill>
              <a:srgbClr val="fe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" name="Rectangle 22"/>
            <p:cNvSpPr/>
            <p:nvPr/>
          </p:nvSpPr>
          <p:spPr>
            <a:xfrm>
              <a:off x="8266680" y="6746760"/>
              <a:ext cx="604800" cy="110880"/>
            </a:xfrm>
            <a:prstGeom prst="rect">
              <a:avLst/>
            </a:prstGeom>
            <a:solidFill>
              <a:srgbClr val="fe8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" name="Rectangle 23"/>
            <p:cNvSpPr/>
            <p:nvPr/>
          </p:nvSpPr>
          <p:spPr>
            <a:xfrm>
              <a:off x="8024760" y="6746760"/>
              <a:ext cx="604800" cy="110880"/>
            </a:xfrm>
            <a:prstGeom prst="rect">
              <a:avLst/>
            </a:prstGeom>
            <a:solidFill>
              <a:srgbClr val="fd9a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" name="Rectangle 24"/>
            <p:cNvSpPr/>
            <p:nvPr/>
          </p:nvSpPr>
          <p:spPr>
            <a:xfrm>
              <a:off x="7854480" y="6746760"/>
              <a:ext cx="604800" cy="110880"/>
            </a:xfrm>
            <a:prstGeom prst="rect">
              <a:avLst/>
            </a:prstGeom>
            <a:solidFill>
              <a:srgbClr val="fda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7722360" y="6746760"/>
              <a:ext cx="604800" cy="110880"/>
            </a:xfrm>
            <a:prstGeom prst="rect">
              <a:avLst/>
            </a:prstGeom>
            <a:solidFill>
              <a:srgbClr val="fdb7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-윤고딕140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60240" y="1723680"/>
            <a:ext cx="77724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8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0000"/>
                </a:solidFill>
                <a:latin typeface="-윤고딕140"/>
              </a:rPr>
              <a:t>Click to edit the outline text format</a:t>
            </a: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0000"/>
                </a:solidFill>
                <a:latin typeface="-윤고딕140"/>
              </a:rPr>
              <a:t>Second Outline Level</a:t>
            </a: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  <a:p>
            <a:pPr lvl="2" marL="1143000" indent="-228600">
              <a:spcBef>
                <a:spcPts val="624"/>
              </a:spcBef>
              <a:buClr>
                <a:srgbClr val="8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0000"/>
                </a:solidFill>
                <a:latin typeface="-윤고딕140"/>
              </a:rPr>
              <a:t>Third Outline Level</a:t>
            </a: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  <a:p>
            <a:pPr lvl="3" marL="1600200" indent="-228600">
              <a:spcBef>
                <a:spcPts val="624"/>
              </a:spcBef>
              <a:buClr>
                <a:srgbClr val="8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0000"/>
                </a:solidFill>
                <a:latin typeface="-윤고딕140"/>
              </a:rPr>
              <a:t>Fourth Outline Level</a:t>
            </a: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  <a:p>
            <a:pPr lvl="4" marL="2057400" indent="-228600">
              <a:spcBef>
                <a:spcPts val="624"/>
              </a:spcBef>
              <a:buClr>
                <a:srgbClr val="8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0000"/>
                </a:solidFill>
                <a:latin typeface="-윤고딕140"/>
              </a:rPr>
              <a:t>Fifth Outline Level</a:t>
            </a: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0000"/>
                </a:solidFill>
                <a:latin typeface="-윤고딕140"/>
              </a:rPr>
              <a:t>Sixth Outline Level</a:t>
            </a: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0000"/>
                </a:solidFill>
                <a:latin typeface="-윤고딕140"/>
              </a:rPr>
              <a:t>Seventh Outline Level</a:t>
            </a: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9A4F-E109-4013-885F-2E31E413C206}" type="slidenum">
              <a: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62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汉仪方叠体简"/>
                <a:ea typeface="汉仪方叠体简"/>
              </a:rPr>
              <a:t>古典黄通用</a:t>
            </a:r>
            <a:r>
              <a:rPr b="0" lang="en-US" sz="4000" spc="-1" strike="noStrike">
                <a:solidFill>
                  <a:srgbClr val="eaeaea"/>
                </a:solidFill>
                <a:latin typeface="汉仪方叠体简"/>
                <a:ea typeface="汉仪方叠体简"/>
              </a:rPr>
              <a:t>PPT</a:t>
            </a:r>
            <a:r>
              <a:rPr b="0" lang="zh-CN" sz="4000" spc="-1" strike="noStrike">
                <a:solidFill>
                  <a:srgbClr val="eaeaea"/>
                </a:solidFill>
                <a:latin typeface="汉仪方叠体简"/>
                <a:ea typeface="汉仪方叠体简"/>
              </a:rPr>
              <a:t>模板免费下载</a:t>
            </a:r>
            <a:endParaRPr b="0" lang="en-US" sz="40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11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60240" y="1723680"/>
            <a:ext cx="77724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500" spc="-1" strike="noStrike">
              <a:solidFill>
                <a:srgbClr val="800000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王玉清</cp:lastModifiedBy>
  <dcterms:modified xsi:type="dcterms:W3CDTF">2016-02-21T07:18:28Z</dcterms:modified>
  <cp:revision>11</cp:revision>
  <dc:subject/>
  <dc:title>PowerPoint 프레젠테이션</dc:title>
</cp:coreProperties>
</file>