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F0A8A-FB24-4E11-A621-77FF6486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4F41F-8CAF-4727-B35F-DF0B92C4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8FBB-4052-4790-BEB0-6901DB4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3195C-DA41-4A0C-BF69-81E1F63E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B2187-C572-48B3-8609-38F9489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F383A-5A3C-4135-AE76-B4610C73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E774E-F550-48B4-B2ED-8442ACE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7F90F-2F7D-4375-BB6B-40E6604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E657D-A181-4201-AD77-D9FD2FE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E782-B853-4FA6-AD40-390757BE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A86B2-24C1-4B84-B9D6-2DF85CA4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39D9D-1126-4B97-B1A7-DBB38A0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未命名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446"/>
                </a:solidFill>
                <a:latin typeface="Arial"/>
                <a:ea typeface="华文隶书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B8789-27DD-4071-95D2-3E0D969E95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3446"/>
                </a:solidFill>
                <a:latin typeface="Arial"/>
                <a:ea typeface="华文隶书"/>
              </a:rPr>
              <a:t>古典莲花通用</a:t>
            </a:r>
            <a:r>
              <a:rPr b="0" lang="en-US" sz="4000" spc="-1" strike="noStrike">
                <a:solidFill>
                  <a:srgbClr val="003446"/>
                </a:solidFill>
                <a:latin typeface="Arial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3446"/>
                </a:solidFill>
                <a:latin typeface="Arial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44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  <a:ea typeface="华文隶书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淡雅的荷花PPT模板">
  <a:themeElements>
    <a:clrScheme name="自治模板1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淡雅的荷花PPT模板">
  <a:themeElements>
    <a:clrScheme name="自治模板1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淡雅的荷花PPT模板</Template>
  <TotalTime>0</TotalTime>
  <Application>LibreOffice/7.4.7.2$Linux_X86_64 LibreOffice_project/40$Build-2</Application>
  <AppVersion>15.0000</AppVersion>
  <Words>12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27:28Z</dcterms:created>
  <dc:creator>jccook</dc:creator>
  <dc:description/>
  <dc:language>en-US</dc:language>
  <cp:lastModifiedBy>王玉清</cp:lastModifiedBy>
  <dcterms:modified xsi:type="dcterms:W3CDTF">2016-02-22T03:32:3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