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52C-A297-4ADD-8E8B-77ABF47E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95C-B2F5-4C94-9F00-52D5AD34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40C-5B74-4667-8E09-38209FFB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306-51B3-40EC-82C9-DD5FE2EA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8122-F91E-47BE-B54C-E281442F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B620-E277-470D-A6F1-18964F81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851A-02DE-471F-9C67-4433C807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D07D-39CA-4E82-835E-9C14B502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B598-0099-4406-BD55-CA45738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D3ED-9F14-489B-83EB-1F10B715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A4F4-D903-4532-829A-940FA420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C74-8747-4EBF-ABB9-B055D425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2519-30A1-4C7B-852A-CC16601B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2D63-D6E3-4DC5-9E71-62CDF75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1F36-E857-4A50-B934-17E93D22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8946-E567-4D5C-8F4E-954A3B57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6281-0D24-49AE-8DD3-335BE628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C63-14CC-4937-9C18-B4B2E62C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7F4-39CF-44E9-B0B9-28725AF2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FCE-B864-4A84-AF4D-91C3B6D3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8D2-34D6-4DF6-9C67-6C17D4DE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3CA-8993-4A5D-9EDD-08B568D2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C55-EC0C-4D7B-BB10-470ADE6D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86B-9F24-4B6F-B3D0-A328D6AA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21EB-EFBC-4490-B9DF-69200985F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8D63-5926-4F8A-834D-F37EBA999055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1066680"/>
            <a:ext cx="74944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e30"/>
                </a:solidFill>
                <a:latin typeface="方正粗倩简体"/>
                <a:ea typeface="方正粗倩简体"/>
              </a:rPr>
              <a:t>古典中国风通用</a:t>
            </a:r>
            <a:r>
              <a:rPr b="0" lang="en-US" sz="4000" spc="-1" strike="noStrike">
                <a:solidFill>
                  <a:srgbClr val="001e3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001e30"/>
                </a:solidFill>
                <a:latin typeface="方正粗倩简体"/>
                <a:ea typeface="方正粗倩简体"/>
              </a:rPr>
              <a:t>模板下载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 技术</cp:keywords>
  <dc:language>en-US</dc:language>
  <cp:lastModifiedBy>王玉清</cp:lastModifiedBy>
  <dcterms:modified xsi:type="dcterms:W3CDTF">2016-02-22T03:03:51Z</dcterms:modified>
  <cp:revision>4</cp:revision>
  <dc:subject/>
  <dc:title>企业教练管理技术站长素材 SC.CHINAZ.COM</dc:title>
</cp:coreProperties>
</file>