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92B-8B08-4D3E-B351-4D2D4547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4488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3B4-8262-43C8-AE18-BB93B12C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88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1EA-813E-47F4-A82F-506CECD6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664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8000" y="167616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664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78000" y="3944880"/>
            <a:ext cx="213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918-296B-49E2-AFCC-DDCFD7E5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325-CD19-4717-AD93-3F49EDFF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A98-35D0-4261-B6B1-CF28B430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5B6-C62A-423C-B951-C33520D6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F7C-7F1D-4577-8CEF-D8464269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B17-E961-4B72-A663-1FEF4C57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9F9-D349-4A95-BF62-B7D161D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880" y="394488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097-AB85-44D2-8165-A3C055C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880" y="1676160"/>
            <a:ext cx="3234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44880"/>
            <a:ext cx="6629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6F4-8E1E-4436-95D6-7FF6C02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4e5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econd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3" marL="16002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Four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4" marL="2057400" indent="-22860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Fif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5" marL="2057400" indent="-228600">
              <a:spcBef>
                <a:spcPts val="601"/>
              </a:spcBef>
              <a:buClr>
                <a:srgbClr val="8383a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ix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6" marL="2057400" indent="-228600">
              <a:spcBef>
                <a:spcPts val="601"/>
              </a:spcBef>
              <a:buClr>
                <a:srgbClr val="8383ad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Seventh Outline Level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74e5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4C99-7363-4EB6-BEAA-85500BB06BDD}" type="slidenum">
              <a:rPr b="0" lang="zh-CN" sz="1400" spc="-1" strike="noStrike">
                <a:solidFill>
                  <a:srgbClr val="374e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74e5f"/>
                </a:solidFill>
                <a:latin typeface="宋体"/>
              </a:rPr>
              <a:t>公司会议商务管理</a:t>
            </a:r>
            <a:r>
              <a:rPr b="0" lang="en-US" sz="4000" spc="-1" strike="noStrike">
                <a:solidFill>
                  <a:srgbClr val="374e5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374e5f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4e5f"/>
                </a:solidFill>
                <a:latin typeface="宋体"/>
              </a:rPr>
              <a:t>演说者</a:t>
            </a: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383ad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研究与开发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销售与营销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常规和管理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改进领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需要关注</a:t>
            </a: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注意的领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结果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下一阶段的目标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策略性措施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财务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其他关键努力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总结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总结关键成功</a:t>
            </a:r>
            <a:r>
              <a:rPr b="0" lang="en-US" sz="2400" spc="-1" strike="noStrike">
                <a:solidFill>
                  <a:srgbClr val="374e5f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挑战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重申关键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感谢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议程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审阅关键目标和关键成功因素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我们如何做？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组织概述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公司面临的最重要问题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根据前几个目标进行审查和比较进度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收入和利润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4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74e5f"/>
                </a:solidFill>
                <a:latin typeface="宋体"/>
              </a:rPr>
              <a:t>下一阶段的目标</a:t>
            </a:r>
            <a:endParaRPr b="0" lang="en-US" sz="26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对关键目标</a:t>
            </a:r>
            <a:br>
              <a:rPr sz="3600"/>
            </a:b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与重要成功因素的审阅 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怎样可让公司做到独一无二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怎样可使公司取得成功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共享远景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审阅去年的关键措施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我们做得如何？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针对每个目标简要概述工作成果 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组织概述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每个组织的简介和主要目标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任何更改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组织结构图在此处可能很有效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公司面临的最重要问题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解决任何突出问题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对前几个目标的审查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财务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竞争情况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进度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目标进度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关键财务结果概述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收入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利润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主要支出领域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  <a:p>
            <a:pPr lvl="1" marL="743040" indent="-285840">
              <a:spcBef>
                <a:spcPts val="499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4e5f"/>
                </a:solidFill>
                <a:latin typeface="宋体"/>
              </a:rPr>
              <a:t>总人数</a:t>
            </a:r>
            <a:endParaRPr b="0" lang="en-US" sz="2000" spc="-1" strike="noStrike">
              <a:solidFill>
                <a:srgbClr val="374e5f"/>
              </a:solidFill>
              <a:latin typeface="宋体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74e5f"/>
                </a:solidFill>
                <a:latin typeface="宋体"/>
              </a:rPr>
              <a:t>收入和利润</a:t>
            </a:r>
            <a:endParaRPr b="0" lang="en-US" sz="36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预测与实际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总利润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重要趋势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比较公司与剩余市场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374e5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4e5f"/>
                </a:solidFill>
                <a:latin typeface="宋体"/>
              </a:rPr>
              <a:t>使用多张幻灯片来展示有意义的详细信息</a:t>
            </a:r>
            <a:endParaRPr b="0" lang="en-US" sz="2400" spc="-1" strike="noStrike">
              <a:solidFill>
                <a:srgbClr val="374e5f"/>
              </a:solidFill>
              <a:latin typeface="宋体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68360" y="60818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8383ad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37:37Z</dcterms:created>
  <dc:creator>ppt宝藏</dc:creator>
  <dc:description/>
  <dc:language>en-US</dc:language>
  <cp:lastModifiedBy>a</cp:lastModifiedBy>
  <dcterms:modified xsi:type="dcterms:W3CDTF">2015-07-25T06:42:26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42052</vt:lpwstr>
  </property>
</Properties>
</file>