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3B4F-6443-4B69-B379-680BFA0A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19BD-D5CD-409E-AD2E-7C070D74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BE0D-6E60-44B2-A120-BE1FB01F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408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6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408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6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5EF6-2DAA-49C6-B3A4-F16CA730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EB32-46FC-4F2B-B942-5417D609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A052-4A0A-477A-9B14-12EC8141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FC4-1334-49A4-BE72-A10F2BA6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DDF-C37E-4A72-A513-74CC956F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618D-061C-4559-ADB5-FCECBD96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22E4-465B-44AB-B80E-808B8C7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135-8878-4D9B-81AC-1E38DA6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7446-F88E-4EC7-AB0F-F1EFC36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62DE-313D-434A-BC3B-BDA192D6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0516-9594-463A-8A02-3221B01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FF58-5C1D-4453-88BE-7F0C3BBE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7D48-6C61-4777-B37D-C83A7570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D268-ACF9-4F95-84F7-A25AC6CF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A8B7-9625-42E7-9A51-47D7AA96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887A-6203-4812-BC2B-0A1A147F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CF7B-AF72-4628-8CC6-6C6943EE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CCD9-BA48-4D88-B6F8-A2EADA3B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B697-4049-4C42-87C7-BCADB8F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7169-D638-421A-94EC-92D3923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530D-54DF-471C-B513-DA4090A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476280"/>
            <a:ext cx="9144000" cy="649080"/>
          </a:xfrm>
          <a:prstGeom prst="rect">
            <a:avLst/>
          </a:prstGeom>
          <a:gradFill rotWithShape="0">
            <a:gsLst>
              <a:gs pos="0">
                <a:srgbClr val="998f33"/>
              </a:gs>
              <a:gs pos="100000">
                <a:srgbClr val="db86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8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461280"/>
            <a:ext cx="25905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cc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2396-677F-4B1C-AA7D-C36673B1CC55}" type="slidenum">
              <a:rPr b="0" lang="zh-CN" sz="1000" spc="-1" strike="noStrike">
                <a:solidFill>
                  <a:srgbClr val="ffffcc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49"/>
          <p:cNvSpPr/>
          <p:nvPr/>
        </p:nvSpPr>
        <p:spPr>
          <a:xfrm>
            <a:off x="6553080" y="304920"/>
            <a:ext cx="242568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581880" y="304560"/>
            <a:ext cx="22096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b8647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b8647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4"/>
          <p:cNvSpPr/>
          <p:nvPr/>
        </p:nvSpPr>
        <p:spPr>
          <a:xfrm>
            <a:off x="378000" y="3049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8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5A32-1933-44C7-8D35-B78A4FE6C475}" type="slidenum">
              <a:rPr b="0" lang="zh-CN" sz="1000" spc="-1" strike="noStrike">
                <a:solidFill>
                  <a:srgbClr val="ffffcc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534160" cy="1447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23760" y="3808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股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5"/>
          <p:cNvSpPr/>
          <p:nvPr/>
        </p:nvSpPr>
        <p:spPr>
          <a:xfrm>
            <a:off x="6581880" y="304920"/>
            <a:ext cx="2209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b8647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2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4c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ffcc00"/>
            </a:solidFill>
            <a:ln w="25560">
              <a:solidFill>
                <a:srgbClr val="ffffcc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7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8f33"/>
                </a:gs>
                <a:gs pos="100000">
                  <a:srgbClr val="e9e7d4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998f33"/>
            </a:solidFill>
            <a:ln w="25560">
              <a:solidFill>
                <a:srgbClr val="ffffcc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2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f4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db8647"/>
            </a:solidFill>
            <a:ln w="25560">
              <a:solidFill>
                <a:srgbClr val="ffffcc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19"/>
          <p:cNvGrpSpPr/>
          <p:nvPr/>
        </p:nvGrpSpPr>
        <p:grpSpPr>
          <a:xfrm>
            <a:off x="2133720" y="4419720"/>
            <a:ext cx="4724280" cy="685800"/>
            <a:chOff x="2133720" y="4419720"/>
            <a:chExt cx="4724280" cy="685800"/>
          </a:xfrm>
        </p:grpSpPr>
        <p:sp>
          <p:nvSpPr>
            <p:cNvPr id="107" name="AutoShape 20"/>
            <p:cNvSpPr/>
            <p:nvPr/>
          </p:nvSpPr>
          <p:spPr>
            <a:xfrm>
              <a:off x="2514600" y="4538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b7ca"/>
                </a:gs>
                <a:gs pos="100000">
                  <a:srgbClr val="e7f0f4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21"/>
            <p:cNvSpPr/>
            <p:nvPr/>
          </p:nvSpPr>
          <p:spPr>
            <a:xfrm>
              <a:off x="2133720" y="4419720"/>
              <a:ext cx="685800" cy="685800"/>
            </a:xfrm>
            <a:prstGeom prst="diamond">
              <a:avLst/>
            </a:prstGeom>
            <a:solidFill>
              <a:srgbClr val="90b7ca"/>
            </a:solidFill>
            <a:ln w="25560">
              <a:solidFill>
                <a:srgbClr val="ffffcc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74320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2289600" y="451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5"/>
          <p:cNvSpPr/>
          <p:nvPr/>
        </p:nvSpPr>
        <p:spPr>
          <a:xfrm>
            <a:off x="6581880" y="304920"/>
            <a:ext cx="2209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b8647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8200" y="1523520"/>
            <a:ext cx="799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998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371600" y="57150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[Image information in product]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● Title Master- www.iclickart.co.kr  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● Slide Master –www.iclickart.co.kr 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● Note to customers: This image has been licensed to be used within this PowerPoint template onl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6581880" y="304920"/>
            <a:ext cx="2209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b8647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18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683d2e"/>
                </a:gs>
                <a:gs pos="100000">
                  <a:srgbClr val="d1c4c0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db8647"/>
                </a:gs>
                <a:gs pos="100000">
                  <a:srgbClr val="4c2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8f33"/>
                </a:gs>
                <a:gs pos="100000">
                  <a:srgbClr val="302d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5b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83d2e"/>
                </a:gs>
                <a:gs pos="100000">
                  <a:srgbClr val="2516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b7ca"/>
                </a:gs>
                <a:gs pos="100000">
                  <a:srgbClr val="323f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1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2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85800" y="59436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db8647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5"/>
          <p:cNvSpPr/>
          <p:nvPr/>
        </p:nvSpPr>
        <p:spPr>
          <a:xfrm>
            <a:off x="6581880" y="304920"/>
            <a:ext cx="2209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b8647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36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37" name="Line 3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151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50000">
                    <a:srgbClr val="765e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8647"/>
                  </a:gs>
                  <a:gs pos="50000">
                    <a:srgbClr val="653e21"/>
                  </a:gs>
                  <a:gs pos="100000">
                    <a:srgbClr val="db864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db8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b7ca"/>
                  </a:gs>
                  <a:gs pos="50000">
                    <a:srgbClr val="43555d"/>
                  </a:gs>
                  <a:gs pos="100000">
                    <a:srgbClr val="90b7c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8f33"/>
                  </a:gs>
                  <a:gs pos="50000">
                    <a:srgbClr val="474218"/>
                  </a:gs>
                  <a:gs pos="100000">
                    <a:srgbClr val="998f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998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b994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db8647"/>
                  </a:gs>
                  <a:gs pos="50000">
                    <a:srgbClr val="9f6134"/>
                  </a:gs>
                  <a:gs pos="100000">
                    <a:srgbClr val="db864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0b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0b7ca"/>
                  </a:gs>
                  <a:gs pos="50000">
                    <a:srgbClr val="688593"/>
                  </a:gs>
                  <a:gs pos="100000">
                    <a:srgbClr val="90b7c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998f33"/>
                  </a:gs>
                  <a:gs pos="50000">
                    <a:srgbClr val="6f6825"/>
                  </a:gs>
                  <a:gs pos="100000">
                    <a:srgbClr val="998f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1835280" y="263700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b8647"/>
                    </a:gs>
                    <a:gs pos="100000">
                      <a:srgbClr val="998f33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b8647"/>
                  </a:gs>
                  <a:gs pos="100000">
                    <a:srgbClr val="998f33"/>
                  </a:gs>
                </a:gsLst>
                <a:lin ang="108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89A8-BEA5-4F93-BBD1-B5B0D6D8F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7:22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