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2531-23D8-41CF-96FA-18451660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54C6-94D0-438C-B6E3-3C10D350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1A08-D6A8-4C5D-87E7-E86F29E1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5BB3-8241-410F-815E-A96B7CE3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7567-4CA1-4E44-A976-398FC02E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9590-904B-4F91-9448-8159550B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3D63-377A-4A5D-8B82-217F6E1C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1768-52F5-42D3-A2D7-C3107F4F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590E-DE30-4A0A-BEB5-E5E83AE7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7934-1853-46F4-9613-A9D9E8D0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134A-2283-4CD9-B9D6-B1647462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6AA3-BC4A-454C-A8E0-0BAD00E3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0CA859-3CA0-4665-B16E-796BB40A359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70000"/>
          </a:blip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8"/>
          <p:cNvSpPr/>
          <p:nvPr/>
        </p:nvSpPr>
        <p:spPr>
          <a:xfrm>
            <a:off x="8431560" y="2376720"/>
            <a:ext cx="67680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3200" spc="299" strike="noStrike">
                <a:solidFill>
                  <a:srgbClr val="2b2b2b"/>
                </a:solidFill>
                <a:latin typeface="叶根友毛笔行书简体"/>
                <a:ea typeface="叶根友毛笔行书简体"/>
              </a:rPr>
              <a:t>躬行不肯小心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39"/>
          <p:cNvSpPr/>
          <p:nvPr/>
        </p:nvSpPr>
        <p:spPr>
          <a:xfrm>
            <a:off x="10022760" y="61128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000000"/>
                </a:solidFill>
                <a:latin typeface="叶根友毛笔行书简体"/>
                <a:ea typeface="叶根友毛笔行书简体"/>
              </a:rPr>
              <a:t>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0"/>
          <p:cNvSpPr/>
          <p:nvPr/>
        </p:nvSpPr>
        <p:spPr>
          <a:xfrm>
            <a:off x="9075240" y="1558440"/>
            <a:ext cx="67680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3200" spc="299" strike="noStrike">
                <a:solidFill>
                  <a:srgbClr val="2b2b2b"/>
                </a:solidFill>
                <a:latin typeface="叶根友毛笔行书简体"/>
                <a:ea typeface="叶根友毛笔行书简体"/>
              </a:rPr>
              <a:t>有幸一身通透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直接连接符 42"/>
          <p:cNvCxnSpPr/>
          <p:nvPr/>
        </p:nvCxnSpPr>
        <p:spPr>
          <a:xfrm>
            <a:off x="9752400" y="1127880"/>
            <a:ext cx="360" cy="210816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sp>
        <p:nvSpPr>
          <p:cNvPr id="45" name="任意多边形 78"/>
          <p:cNvSpPr/>
          <p:nvPr/>
        </p:nvSpPr>
        <p:spPr>
          <a:xfrm>
            <a:off x="1901880" y="3181320"/>
            <a:ext cx="1412280" cy="3676320"/>
          </a:xfrm>
          <a:custGeom>
            <a:avLst/>
            <a:gdLst>
              <a:gd name="textAreaLeft" fmla="*/ 0 w 1412280"/>
              <a:gd name="textAreaRight" fmla="*/ 1412640 w 1412280"/>
              <a:gd name="textAreaTop" fmla="*/ 0 h 3676320"/>
              <a:gd name="textAreaBottom" fmla="*/ 3676680 h 3676320"/>
            </a:gdLst>
            <a:ahLst/>
            <a:rect l="textAreaLeft" t="textAreaTop" r="textAreaRight" b="textAreaBottom"/>
            <a:pathLst>
              <a:path w="1412724" h="3676650">
                <a:moveTo>
                  <a:pt x="574524" y="0"/>
                </a:moveTo>
                <a:cubicBezTo>
                  <a:pt x="52236" y="417512"/>
                  <a:pt x="-89051" y="1177925"/>
                  <a:pt x="50649" y="1790700"/>
                </a:cubicBezTo>
                <a:cubicBezTo>
                  <a:pt x="190349" y="2403475"/>
                  <a:pt x="677711" y="3125787"/>
                  <a:pt x="1412724" y="3676650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任意多边形 79"/>
          <p:cNvSpPr/>
          <p:nvPr/>
        </p:nvSpPr>
        <p:spPr>
          <a:xfrm>
            <a:off x="2759040" y="3286080"/>
            <a:ext cx="4117680" cy="2285640"/>
          </a:xfrm>
          <a:custGeom>
            <a:avLst/>
            <a:gdLst>
              <a:gd name="textAreaLeft" fmla="*/ 0 w 4117680"/>
              <a:gd name="textAreaRight" fmla="*/ 4118040 w 4117680"/>
              <a:gd name="textAreaTop" fmla="*/ 0 h 2285640"/>
              <a:gd name="textAreaBottom" fmla="*/ 2286000 h 2285640"/>
            </a:gdLst>
            <a:ahLst/>
            <a:rect l="textAreaLeft" t="textAreaTop" r="textAreaRight" b="textAreaBottom"/>
            <a:pathLst>
              <a:path w="4118058" h="2286000">
                <a:moveTo>
                  <a:pt x="3258" y="0"/>
                </a:moveTo>
                <a:cubicBezTo>
                  <a:pt x="-44367" y="652462"/>
                  <a:pt x="431883" y="1457325"/>
                  <a:pt x="1308183" y="1809750"/>
                </a:cubicBezTo>
                <a:cubicBezTo>
                  <a:pt x="2184483" y="2162175"/>
                  <a:pt x="3089358" y="2233612"/>
                  <a:pt x="4118058" y="2286000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任意多边形 80"/>
          <p:cNvSpPr/>
          <p:nvPr/>
        </p:nvSpPr>
        <p:spPr>
          <a:xfrm>
            <a:off x="1114560" y="2819520"/>
            <a:ext cx="1333080" cy="362160"/>
          </a:xfrm>
          <a:custGeom>
            <a:avLst/>
            <a:gdLst>
              <a:gd name="textAreaLeft" fmla="*/ 0 w 1333080"/>
              <a:gd name="textAreaRight" fmla="*/ 1333440 w 1333080"/>
              <a:gd name="textAreaTop" fmla="*/ 0 h 362160"/>
              <a:gd name="textAreaBottom" fmla="*/ 362520 h 362160"/>
            </a:gdLst>
            <a:ahLst/>
            <a:rect l="textAreaLeft" t="textAreaTop" r="textAreaRight" b="textAreaBottom"/>
            <a:pathLst>
              <a:path w="1333500" h="362418">
                <a:moveTo>
                  <a:pt x="1333500" y="247650"/>
                </a:moveTo>
                <a:cubicBezTo>
                  <a:pt x="1087437" y="354806"/>
                  <a:pt x="946150" y="365125"/>
                  <a:pt x="685800" y="361950"/>
                </a:cubicBezTo>
                <a:cubicBezTo>
                  <a:pt x="425450" y="358775"/>
                  <a:pt x="198437" y="173831"/>
                  <a:pt x="0" y="0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任意多边形 81"/>
          <p:cNvSpPr/>
          <p:nvPr/>
        </p:nvSpPr>
        <p:spPr>
          <a:xfrm>
            <a:off x="1400040" y="3114720"/>
            <a:ext cx="1171080" cy="1285560"/>
          </a:xfrm>
          <a:custGeom>
            <a:avLst/>
            <a:gdLst>
              <a:gd name="textAreaLeft" fmla="*/ 0 w 1171080"/>
              <a:gd name="textAreaRight" fmla="*/ 1171440 w 1171080"/>
              <a:gd name="textAreaTop" fmla="*/ 0 h 1285560"/>
              <a:gd name="textAreaBottom" fmla="*/ 1285920 h 1285560"/>
            </a:gdLst>
            <a:ahLst/>
            <a:rect l="textAreaLeft" t="textAreaTop" r="textAreaRight" b="textAreaBottom"/>
            <a:pathLst>
              <a:path w="1171575" h="1285875">
                <a:moveTo>
                  <a:pt x="1171575" y="0"/>
                </a:moveTo>
                <a:cubicBezTo>
                  <a:pt x="916781" y="150019"/>
                  <a:pt x="671512" y="233363"/>
                  <a:pt x="466725" y="514350"/>
                </a:cubicBezTo>
                <a:cubicBezTo>
                  <a:pt x="261938" y="795337"/>
                  <a:pt x="0" y="1285875"/>
                  <a:pt x="0" y="1285875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任意多边形 82"/>
          <p:cNvSpPr/>
          <p:nvPr/>
        </p:nvSpPr>
        <p:spPr>
          <a:xfrm>
            <a:off x="1638360" y="3133800"/>
            <a:ext cx="894960" cy="1533240"/>
          </a:xfrm>
          <a:custGeom>
            <a:avLst/>
            <a:gdLst>
              <a:gd name="textAreaLeft" fmla="*/ 0 w 894960"/>
              <a:gd name="textAreaRight" fmla="*/ 895320 w 894960"/>
              <a:gd name="textAreaTop" fmla="*/ 0 h 1533240"/>
              <a:gd name="textAreaBottom" fmla="*/ 1533600 h 1533240"/>
            </a:gdLst>
            <a:ahLst/>
            <a:rect l="textAreaLeft" t="textAreaTop" r="textAreaRight" b="textAreaBottom"/>
            <a:pathLst>
              <a:path w="895350" h="1533525">
                <a:moveTo>
                  <a:pt x="895350" y="0"/>
                </a:moveTo>
                <a:cubicBezTo>
                  <a:pt x="665162" y="186531"/>
                  <a:pt x="406400" y="420688"/>
                  <a:pt x="257175" y="676275"/>
                </a:cubicBezTo>
                <a:cubicBezTo>
                  <a:pt x="107950" y="931863"/>
                  <a:pt x="1587" y="1208881"/>
                  <a:pt x="0" y="1533525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任意多边形 83"/>
          <p:cNvSpPr/>
          <p:nvPr/>
        </p:nvSpPr>
        <p:spPr>
          <a:xfrm>
            <a:off x="2266920" y="3209760"/>
            <a:ext cx="247320" cy="657000"/>
          </a:xfrm>
          <a:custGeom>
            <a:avLst/>
            <a:gdLst>
              <a:gd name="textAreaLeft" fmla="*/ 0 w 247320"/>
              <a:gd name="textAreaRight" fmla="*/ 247680 w 247320"/>
              <a:gd name="textAreaTop" fmla="*/ 0 h 657000"/>
              <a:gd name="textAreaBottom" fmla="*/ 657360 h 657000"/>
            </a:gdLst>
            <a:ahLst/>
            <a:rect l="textAreaLeft" t="textAreaTop" r="textAreaRight" b="textAreaBottom"/>
            <a:pathLst>
              <a:path w="247650" h="657225">
                <a:moveTo>
                  <a:pt x="247650" y="0"/>
                </a:moveTo>
                <a:cubicBezTo>
                  <a:pt x="127000" y="219075"/>
                  <a:pt x="34925" y="419100"/>
                  <a:pt x="0" y="657225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任意多边形 84"/>
          <p:cNvSpPr/>
          <p:nvPr/>
        </p:nvSpPr>
        <p:spPr>
          <a:xfrm>
            <a:off x="2617920" y="3167640"/>
            <a:ext cx="105840" cy="885600"/>
          </a:xfrm>
          <a:custGeom>
            <a:avLst/>
            <a:gdLst>
              <a:gd name="textAreaLeft" fmla="*/ 0 w 105840"/>
              <a:gd name="textAreaRight" fmla="*/ 106200 w 105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106092" h="885825">
                <a:moveTo>
                  <a:pt x="106092" y="0"/>
                </a:moveTo>
                <a:cubicBezTo>
                  <a:pt x="-14558" y="219075"/>
                  <a:pt x="-30433" y="647700"/>
                  <a:pt x="48942" y="885825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85"/>
          <p:cNvSpPr/>
          <p:nvPr/>
        </p:nvSpPr>
        <p:spPr>
          <a:xfrm>
            <a:off x="2064600" y="3038760"/>
            <a:ext cx="2347560" cy="936000"/>
          </a:xfrm>
          <a:custGeom>
            <a:avLst/>
            <a:gdLst>
              <a:gd name="textAreaLeft" fmla="*/ 0 w 2347560"/>
              <a:gd name="textAreaRight" fmla="*/ 2347920 w 2347560"/>
              <a:gd name="textAreaTop" fmla="*/ 0 h 936000"/>
              <a:gd name="textAreaBottom" fmla="*/ 936360 h 936000"/>
            </a:gdLst>
            <a:ahLst/>
            <a:rect l="textAreaLeft" t="textAreaTop" r="textAreaRight" b="textAreaBottom"/>
            <a:pathLst>
              <a:path w="2347904" h="936477">
                <a:moveTo>
                  <a:pt x="2347357" y="15953"/>
                </a:moveTo>
                <a:cubicBezTo>
                  <a:pt x="2339410" y="-18174"/>
                  <a:pt x="2344086" y="3331"/>
                  <a:pt x="2237967" y="72051"/>
                </a:cubicBezTo>
                <a:cubicBezTo>
                  <a:pt x="2131848" y="140771"/>
                  <a:pt x="1914000" y="302053"/>
                  <a:pt x="1710644" y="428274"/>
                </a:cubicBezTo>
                <a:cubicBezTo>
                  <a:pt x="1506820" y="551690"/>
                  <a:pt x="1236147" y="699414"/>
                  <a:pt x="1118808" y="770472"/>
                </a:cubicBezTo>
                <a:cubicBezTo>
                  <a:pt x="1001469" y="841530"/>
                  <a:pt x="1043076" y="842465"/>
                  <a:pt x="1006612" y="854620"/>
                </a:cubicBezTo>
                <a:cubicBezTo>
                  <a:pt x="970148" y="866775"/>
                  <a:pt x="937424" y="869112"/>
                  <a:pt x="883196" y="860230"/>
                </a:cubicBezTo>
                <a:cubicBezTo>
                  <a:pt x="828968" y="851348"/>
                  <a:pt x="725187" y="819092"/>
                  <a:pt x="681243" y="801328"/>
                </a:cubicBezTo>
                <a:cubicBezTo>
                  <a:pt x="637299" y="783564"/>
                  <a:pt x="684982" y="787303"/>
                  <a:pt x="619534" y="753644"/>
                </a:cubicBezTo>
                <a:cubicBezTo>
                  <a:pt x="554086" y="719985"/>
                  <a:pt x="351666" y="624151"/>
                  <a:pt x="288556" y="599374"/>
                </a:cubicBezTo>
                <a:cubicBezTo>
                  <a:pt x="225446" y="574597"/>
                  <a:pt x="208148" y="580674"/>
                  <a:pt x="240872" y="604983"/>
                </a:cubicBezTo>
                <a:cubicBezTo>
                  <a:pt x="273596" y="629292"/>
                  <a:pt x="487704" y="718115"/>
                  <a:pt x="484899" y="745229"/>
                </a:cubicBezTo>
                <a:cubicBezTo>
                  <a:pt x="482094" y="772343"/>
                  <a:pt x="298841" y="771875"/>
                  <a:pt x="224043" y="767668"/>
                </a:cubicBezTo>
                <a:cubicBezTo>
                  <a:pt x="149246" y="763461"/>
                  <a:pt x="71175" y="723257"/>
                  <a:pt x="36114" y="719985"/>
                </a:cubicBezTo>
                <a:cubicBezTo>
                  <a:pt x="1053" y="716713"/>
                  <a:pt x="-12504" y="735412"/>
                  <a:pt x="13675" y="748034"/>
                </a:cubicBezTo>
                <a:cubicBezTo>
                  <a:pt x="39854" y="760656"/>
                  <a:pt x="125871" y="787770"/>
                  <a:pt x="193189" y="795717"/>
                </a:cubicBezTo>
                <a:cubicBezTo>
                  <a:pt x="260507" y="803664"/>
                  <a:pt x="301178" y="777485"/>
                  <a:pt x="417582" y="795717"/>
                </a:cubicBezTo>
                <a:cubicBezTo>
                  <a:pt x="533986" y="813949"/>
                  <a:pt x="786895" y="882670"/>
                  <a:pt x="891611" y="905109"/>
                </a:cubicBezTo>
                <a:cubicBezTo>
                  <a:pt x="996327" y="927548"/>
                  <a:pt x="991185" y="946715"/>
                  <a:pt x="1045881" y="930353"/>
                </a:cubicBezTo>
                <a:cubicBezTo>
                  <a:pt x="1100577" y="913991"/>
                  <a:pt x="1219785" y="806937"/>
                  <a:pt x="1219785" y="806937"/>
                </a:cubicBezTo>
                <a:lnTo>
                  <a:pt x="1724669" y="467543"/>
                </a:lnTo>
                <a:cubicBezTo>
                  <a:pt x="1882679" y="362359"/>
                  <a:pt x="2059855" y="252033"/>
                  <a:pt x="2167844" y="175833"/>
                </a:cubicBezTo>
                <a:cubicBezTo>
                  <a:pt x="2275833" y="99633"/>
                  <a:pt x="2355304" y="50080"/>
                  <a:pt x="2347357" y="15953"/>
                </a:cubicBez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" name="任意多边形 86"/>
          <p:cNvSpPr/>
          <p:nvPr/>
        </p:nvSpPr>
        <p:spPr>
          <a:xfrm>
            <a:off x="3335760" y="2850120"/>
            <a:ext cx="197640" cy="1026000"/>
          </a:xfrm>
          <a:custGeom>
            <a:avLst/>
            <a:gdLst>
              <a:gd name="textAreaLeft" fmla="*/ 0 w 197640"/>
              <a:gd name="textAreaRight" fmla="*/ 198000 w 197640"/>
              <a:gd name="textAreaTop" fmla="*/ 0 h 1026000"/>
              <a:gd name="textAreaBottom" fmla="*/ 1026360 h 1026000"/>
            </a:gdLst>
            <a:ahLst/>
            <a:rect l="textAreaLeft" t="textAreaTop" r="textAreaRight" b="textAreaBottom"/>
            <a:pathLst>
              <a:path w="198017" h="1026379">
                <a:moveTo>
                  <a:pt x="47418" y="0"/>
                </a:moveTo>
                <a:cubicBezTo>
                  <a:pt x="-80309" y="297099"/>
                  <a:pt x="77367" y="718404"/>
                  <a:pt x="198017" y="1026379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任意多边形 87"/>
          <p:cNvSpPr/>
          <p:nvPr/>
        </p:nvSpPr>
        <p:spPr>
          <a:xfrm>
            <a:off x="3224520" y="2885760"/>
            <a:ext cx="1209600" cy="204480"/>
          </a:xfrm>
          <a:custGeom>
            <a:avLst/>
            <a:gdLst>
              <a:gd name="textAreaLeft" fmla="*/ 0 w 1209600"/>
              <a:gd name="textAreaRight" fmla="*/ 1209960 w 1209600"/>
              <a:gd name="textAreaTop" fmla="*/ 0 h 204480"/>
              <a:gd name="textAreaBottom" fmla="*/ 204840 h 204480"/>
            </a:gdLst>
            <a:ahLst/>
            <a:rect l="textAreaLeft" t="textAreaTop" r="textAreaRight" b="textAreaBottom"/>
            <a:pathLst>
              <a:path w="1210025" h="204822">
                <a:moveTo>
                  <a:pt x="12396" y="62144"/>
                </a:moveTo>
                <a:cubicBezTo>
                  <a:pt x="46055" y="76636"/>
                  <a:pt x="188169" y="85986"/>
                  <a:pt x="259227" y="87388"/>
                </a:cubicBezTo>
                <a:cubicBezTo>
                  <a:pt x="330285" y="88790"/>
                  <a:pt x="320001" y="61209"/>
                  <a:pt x="438742" y="70559"/>
                </a:cubicBezTo>
                <a:cubicBezTo>
                  <a:pt x="557483" y="79909"/>
                  <a:pt x="865555" y="121514"/>
                  <a:pt x="971674" y="143486"/>
                </a:cubicBezTo>
                <a:cubicBezTo>
                  <a:pt x="1077793" y="165458"/>
                  <a:pt x="1036187" y="194910"/>
                  <a:pt x="1075456" y="202390"/>
                </a:cubicBezTo>
                <a:cubicBezTo>
                  <a:pt x="1114725" y="209870"/>
                  <a:pt x="1194196" y="198650"/>
                  <a:pt x="1207286" y="188365"/>
                </a:cubicBezTo>
                <a:cubicBezTo>
                  <a:pt x="1220376" y="178080"/>
                  <a:pt x="1183913" y="150499"/>
                  <a:pt x="1153994" y="140682"/>
                </a:cubicBezTo>
                <a:cubicBezTo>
                  <a:pt x="1124075" y="130865"/>
                  <a:pt x="1126411" y="143019"/>
                  <a:pt x="1027772" y="129462"/>
                </a:cubicBezTo>
                <a:cubicBezTo>
                  <a:pt x="929133" y="115905"/>
                  <a:pt x="693054" y="77103"/>
                  <a:pt x="562158" y="59339"/>
                </a:cubicBezTo>
                <a:cubicBezTo>
                  <a:pt x="431262" y="41575"/>
                  <a:pt x="242398" y="22876"/>
                  <a:pt x="242398" y="22876"/>
                </a:cubicBezTo>
                <a:cubicBezTo>
                  <a:pt x="158251" y="13059"/>
                  <a:pt x="94205" y="-2836"/>
                  <a:pt x="57274" y="436"/>
                </a:cubicBezTo>
                <a:cubicBezTo>
                  <a:pt x="20343" y="3708"/>
                  <a:pt x="-21263" y="47652"/>
                  <a:pt x="12396" y="62144"/>
                </a:cubicBezTo>
                <a:close/>
              </a:path>
            </a:pathLst>
          </a:custGeom>
          <a:solidFill>
            <a:schemeClr val="bg1">
              <a:lumMod val="50000"/>
            </a:schemeClr>
          </a:solidFill>
          <a:ln>
            <a:solidFill>
              <a:srgbClr val="ffffff">
                <a:lumMod val="5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任意多边形 88"/>
          <p:cNvSpPr/>
          <p:nvPr/>
        </p:nvSpPr>
        <p:spPr>
          <a:xfrm>
            <a:off x="2939400" y="1545480"/>
            <a:ext cx="190080" cy="1041120"/>
          </a:xfrm>
          <a:custGeom>
            <a:avLst/>
            <a:gdLst>
              <a:gd name="textAreaLeft" fmla="*/ 0 w 190080"/>
              <a:gd name="textAreaRight" fmla="*/ 190440 w 190080"/>
              <a:gd name="textAreaTop" fmla="*/ 0 h 1041120"/>
              <a:gd name="textAreaBottom" fmla="*/ 1041480 h 1041120"/>
            </a:gdLst>
            <a:ahLst/>
            <a:rect l="textAreaLeft" t="textAreaTop" r="textAreaRight" b="textAreaBottom"/>
            <a:pathLst>
              <a:path w="190487" h="1041652">
                <a:moveTo>
                  <a:pt x="15582" y="847"/>
                </a:moveTo>
                <a:cubicBezTo>
                  <a:pt x="-48856" y="20281"/>
                  <a:pt x="106102" y="301556"/>
                  <a:pt x="126047" y="461116"/>
                </a:cubicBezTo>
                <a:cubicBezTo>
                  <a:pt x="145992" y="620676"/>
                  <a:pt x="147526" y="892234"/>
                  <a:pt x="135252" y="958206"/>
                </a:cubicBezTo>
                <a:cubicBezTo>
                  <a:pt x="122978" y="1024178"/>
                  <a:pt x="172585" y="1045658"/>
                  <a:pt x="181279" y="1041055"/>
                </a:cubicBezTo>
                <a:cubicBezTo>
                  <a:pt x="189973" y="1036452"/>
                  <a:pt x="193553" y="1028269"/>
                  <a:pt x="187416" y="930590"/>
                </a:cubicBezTo>
                <a:cubicBezTo>
                  <a:pt x="181279" y="832911"/>
                  <a:pt x="163892" y="605846"/>
                  <a:pt x="144458" y="454980"/>
                </a:cubicBezTo>
                <a:cubicBezTo>
                  <a:pt x="117353" y="301046"/>
                  <a:pt x="80020" y="-18587"/>
                  <a:pt x="15582" y="847"/>
                </a:cubicBezTo>
                <a:close/>
              </a:path>
            </a:pathLst>
          </a:custGeom>
          <a:solidFill>
            <a:schemeClr val="tx1">
              <a:lumMod val="75000"/>
              <a:lumOff val="25000"/>
            </a:schemeClr>
          </a:solidFill>
          <a:ln w="3175">
            <a:solidFill>
              <a:srgbClr val="000000">
                <a:lumMod val="75000"/>
                <a:lumOff val="2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任意多边形 89"/>
          <p:cNvSpPr/>
          <p:nvPr/>
        </p:nvSpPr>
        <p:spPr>
          <a:xfrm>
            <a:off x="2351880" y="2348640"/>
            <a:ext cx="1345320" cy="1055880"/>
          </a:xfrm>
          <a:custGeom>
            <a:avLst/>
            <a:gdLst>
              <a:gd name="textAreaLeft" fmla="*/ 0 w 1345320"/>
              <a:gd name="textAreaRight" fmla="*/ 1345680 w 1345320"/>
              <a:gd name="textAreaTop" fmla="*/ 0 h 1055880"/>
              <a:gd name="textAreaBottom" fmla="*/ 1056240 h 1055880"/>
            </a:gdLst>
            <a:ahLst/>
            <a:rect l="textAreaLeft" t="textAreaTop" r="textAreaRight" b="textAreaBottom"/>
            <a:pathLst>
              <a:path w="1345715" h="1056173">
                <a:moveTo>
                  <a:pt x="264140" y="481163"/>
                </a:moveTo>
                <a:cubicBezTo>
                  <a:pt x="201240" y="498780"/>
                  <a:pt x="146223" y="468521"/>
                  <a:pt x="135722" y="480125"/>
                </a:cubicBezTo>
                <a:cubicBezTo>
                  <a:pt x="125221" y="491729"/>
                  <a:pt x="203594" y="536022"/>
                  <a:pt x="201136" y="550789"/>
                </a:cubicBezTo>
                <a:cubicBezTo>
                  <a:pt x="198678" y="565556"/>
                  <a:pt x="136704" y="565147"/>
                  <a:pt x="120971" y="568730"/>
                </a:cubicBezTo>
                <a:cubicBezTo>
                  <a:pt x="105238" y="572313"/>
                  <a:pt x="111441" y="570945"/>
                  <a:pt x="106739" y="572288"/>
                </a:cubicBezTo>
                <a:cubicBezTo>
                  <a:pt x="103133" y="573318"/>
                  <a:pt x="99683" y="574859"/>
                  <a:pt x="96065" y="575846"/>
                </a:cubicBezTo>
                <a:cubicBezTo>
                  <a:pt x="91076" y="577207"/>
                  <a:pt x="66481" y="582425"/>
                  <a:pt x="56927" y="586520"/>
                </a:cubicBezTo>
                <a:cubicBezTo>
                  <a:pt x="30879" y="597683"/>
                  <a:pt x="54702" y="590634"/>
                  <a:pt x="28463" y="597194"/>
                </a:cubicBezTo>
                <a:cubicBezTo>
                  <a:pt x="27277" y="600752"/>
                  <a:pt x="26985" y="604747"/>
                  <a:pt x="24905" y="607868"/>
                </a:cubicBezTo>
                <a:cubicBezTo>
                  <a:pt x="22114" y="612055"/>
                  <a:pt x="15613" y="613704"/>
                  <a:pt x="14231" y="618542"/>
                </a:cubicBezTo>
                <a:cubicBezTo>
                  <a:pt x="12470" y="624707"/>
                  <a:pt x="22768" y="642731"/>
                  <a:pt x="24905" y="647005"/>
                </a:cubicBezTo>
                <a:cubicBezTo>
                  <a:pt x="23919" y="651935"/>
                  <a:pt x="21208" y="669314"/>
                  <a:pt x="17789" y="675469"/>
                </a:cubicBezTo>
                <a:cubicBezTo>
                  <a:pt x="-2600" y="712172"/>
                  <a:pt x="8051" y="683338"/>
                  <a:pt x="0" y="707491"/>
                </a:cubicBezTo>
                <a:cubicBezTo>
                  <a:pt x="2372" y="714607"/>
                  <a:pt x="3141" y="722478"/>
                  <a:pt x="7116" y="728839"/>
                </a:cubicBezTo>
                <a:cubicBezTo>
                  <a:pt x="12351" y="737216"/>
                  <a:pt x="28403" y="738078"/>
                  <a:pt x="35579" y="739513"/>
                </a:cubicBezTo>
                <a:cubicBezTo>
                  <a:pt x="56927" y="738327"/>
                  <a:pt x="78322" y="737807"/>
                  <a:pt x="99623" y="735955"/>
                </a:cubicBezTo>
                <a:cubicBezTo>
                  <a:pt x="105648" y="735431"/>
                  <a:pt x="111366" y="732397"/>
                  <a:pt x="117413" y="732397"/>
                </a:cubicBezTo>
                <a:cubicBezTo>
                  <a:pt x="135242" y="732397"/>
                  <a:pt x="152992" y="734769"/>
                  <a:pt x="170782" y="735955"/>
                </a:cubicBezTo>
                <a:cubicBezTo>
                  <a:pt x="169596" y="750187"/>
                  <a:pt x="171455" y="766127"/>
                  <a:pt x="167224" y="778650"/>
                </a:cubicBezTo>
                <a:cubicBezTo>
                  <a:pt x="162993" y="791173"/>
                  <a:pt x="163023" y="797457"/>
                  <a:pt x="145394" y="811096"/>
                </a:cubicBezTo>
                <a:cubicBezTo>
                  <a:pt x="127765" y="824735"/>
                  <a:pt x="77381" y="845730"/>
                  <a:pt x="61451" y="860484"/>
                </a:cubicBezTo>
                <a:cubicBezTo>
                  <a:pt x="45521" y="875238"/>
                  <a:pt x="42856" y="897250"/>
                  <a:pt x="49811" y="899622"/>
                </a:cubicBezTo>
                <a:cubicBezTo>
                  <a:pt x="56766" y="901994"/>
                  <a:pt x="87693" y="880726"/>
                  <a:pt x="103181" y="874716"/>
                </a:cubicBezTo>
                <a:cubicBezTo>
                  <a:pt x="118669" y="868706"/>
                  <a:pt x="137864" y="863895"/>
                  <a:pt x="142742" y="863559"/>
                </a:cubicBezTo>
                <a:cubicBezTo>
                  <a:pt x="172345" y="861517"/>
                  <a:pt x="176712" y="868786"/>
                  <a:pt x="206362" y="867600"/>
                </a:cubicBezTo>
                <a:cubicBezTo>
                  <a:pt x="214833" y="864776"/>
                  <a:pt x="222041" y="859801"/>
                  <a:pt x="241942" y="856926"/>
                </a:cubicBezTo>
                <a:cubicBezTo>
                  <a:pt x="261843" y="854051"/>
                  <a:pt x="302047" y="849166"/>
                  <a:pt x="325767" y="850352"/>
                </a:cubicBezTo>
                <a:cubicBezTo>
                  <a:pt x="324581" y="861026"/>
                  <a:pt x="314027" y="884887"/>
                  <a:pt x="309544" y="892506"/>
                </a:cubicBezTo>
                <a:cubicBezTo>
                  <a:pt x="305061" y="900125"/>
                  <a:pt x="302225" y="894387"/>
                  <a:pt x="298870" y="896064"/>
                </a:cubicBezTo>
                <a:cubicBezTo>
                  <a:pt x="271984" y="909507"/>
                  <a:pt x="310811" y="900080"/>
                  <a:pt x="259732" y="910296"/>
                </a:cubicBezTo>
                <a:cubicBezTo>
                  <a:pt x="252964" y="911650"/>
                  <a:pt x="238563" y="913765"/>
                  <a:pt x="231268" y="917412"/>
                </a:cubicBezTo>
                <a:cubicBezTo>
                  <a:pt x="222716" y="921688"/>
                  <a:pt x="214561" y="926724"/>
                  <a:pt x="206362" y="931643"/>
                </a:cubicBezTo>
                <a:cubicBezTo>
                  <a:pt x="191471" y="940577"/>
                  <a:pt x="199270" y="938241"/>
                  <a:pt x="181456" y="945875"/>
                </a:cubicBezTo>
                <a:cubicBezTo>
                  <a:pt x="174311" y="948937"/>
                  <a:pt x="163772" y="951186"/>
                  <a:pt x="156551" y="952991"/>
                </a:cubicBezTo>
                <a:cubicBezTo>
                  <a:pt x="154179" y="958921"/>
                  <a:pt x="149890" y="964410"/>
                  <a:pt x="149435" y="970781"/>
                </a:cubicBezTo>
                <a:cubicBezTo>
                  <a:pt x="147485" y="998083"/>
                  <a:pt x="149417" y="997439"/>
                  <a:pt x="160109" y="1013477"/>
                </a:cubicBezTo>
                <a:cubicBezTo>
                  <a:pt x="166020" y="1031216"/>
                  <a:pt x="159989" y="1018424"/>
                  <a:pt x="174340" y="1034825"/>
                </a:cubicBezTo>
                <a:cubicBezTo>
                  <a:pt x="179341" y="1040540"/>
                  <a:pt x="182060" y="1048708"/>
                  <a:pt x="188572" y="1052615"/>
                </a:cubicBezTo>
                <a:cubicBezTo>
                  <a:pt x="194758" y="1056327"/>
                  <a:pt x="202804" y="1054987"/>
                  <a:pt x="209920" y="1056173"/>
                </a:cubicBezTo>
                <a:cubicBezTo>
                  <a:pt x="230082" y="1054987"/>
                  <a:pt x="250433" y="1055611"/>
                  <a:pt x="270406" y="1052615"/>
                </a:cubicBezTo>
                <a:cubicBezTo>
                  <a:pt x="274635" y="1051981"/>
                  <a:pt x="277255" y="1047411"/>
                  <a:pt x="281080" y="1045499"/>
                </a:cubicBezTo>
                <a:cubicBezTo>
                  <a:pt x="284435" y="1043822"/>
                  <a:pt x="288196" y="1043127"/>
                  <a:pt x="291754" y="1041941"/>
                </a:cubicBezTo>
                <a:cubicBezTo>
                  <a:pt x="295312" y="1038383"/>
                  <a:pt x="299637" y="1035454"/>
                  <a:pt x="302428" y="1031267"/>
                </a:cubicBezTo>
                <a:cubicBezTo>
                  <a:pt x="314005" y="1013902"/>
                  <a:pt x="296304" y="1026717"/>
                  <a:pt x="313102" y="1009919"/>
                </a:cubicBezTo>
                <a:cubicBezTo>
                  <a:pt x="316125" y="1006895"/>
                  <a:pt x="320217" y="1005175"/>
                  <a:pt x="323775" y="1002803"/>
                </a:cubicBezTo>
                <a:cubicBezTo>
                  <a:pt x="331826" y="978650"/>
                  <a:pt x="320134" y="1006444"/>
                  <a:pt x="348681" y="977897"/>
                </a:cubicBezTo>
                <a:cubicBezTo>
                  <a:pt x="352239" y="974339"/>
                  <a:pt x="354986" y="969719"/>
                  <a:pt x="359355" y="967223"/>
                </a:cubicBezTo>
                <a:cubicBezTo>
                  <a:pt x="363601" y="964797"/>
                  <a:pt x="368885" y="965008"/>
                  <a:pt x="373587" y="963665"/>
                </a:cubicBezTo>
                <a:cubicBezTo>
                  <a:pt x="377193" y="962635"/>
                  <a:pt x="380600" y="960921"/>
                  <a:pt x="384261" y="960107"/>
                </a:cubicBezTo>
                <a:cubicBezTo>
                  <a:pt x="391303" y="958542"/>
                  <a:pt x="398567" y="958114"/>
                  <a:pt x="405609" y="956549"/>
                </a:cubicBezTo>
                <a:cubicBezTo>
                  <a:pt x="417775" y="953846"/>
                  <a:pt x="422414" y="949313"/>
                  <a:pt x="434073" y="942317"/>
                </a:cubicBezTo>
                <a:cubicBezTo>
                  <a:pt x="436445" y="938759"/>
                  <a:pt x="438451" y="934928"/>
                  <a:pt x="441189" y="931643"/>
                </a:cubicBezTo>
                <a:cubicBezTo>
                  <a:pt x="454570" y="915586"/>
                  <a:pt x="449341" y="927162"/>
                  <a:pt x="458979" y="910296"/>
                </a:cubicBezTo>
                <a:cubicBezTo>
                  <a:pt x="464404" y="900803"/>
                  <a:pt x="466800" y="895373"/>
                  <a:pt x="469652" y="885390"/>
                </a:cubicBezTo>
                <a:cubicBezTo>
                  <a:pt x="470995" y="880688"/>
                  <a:pt x="470498" y="875227"/>
                  <a:pt x="473210" y="871158"/>
                </a:cubicBezTo>
                <a:cubicBezTo>
                  <a:pt x="475582" y="867600"/>
                  <a:pt x="480637" y="866825"/>
                  <a:pt x="483884" y="864042"/>
                </a:cubicBezTo>
                <a:cubicBezTo>
                  <a:pt x="493379" y="855903"/>
                  <a:pt x="497480" y="847721"/>
                  <a:pt x="508790" y="842694"/>
                </a:cubicBezTo>
                <a:cubicBezTo>
                  <a:pt x="515644" y="839648"/>
                  <a:pt x="523284" y="838624"/>
                  <a:pt x="530138" y="835578"/>
                </a:cubicBezTo>
                <a:cubicBezTo>
                  <a:pt x="534046" y="833841"/>
                  <a:pt x="536987" y="830374"/>
                  <a:pt x="540812" y="828462"/>
                </a:cubicBezTo>
                <a:cubicBezTo>
                  <a:pt x="544167" y="826785"/>
                  <a:pt x="548131" y="826581"/>
                  <a:pt x="551486" y="824904"/>
                </a:cubicBezTo>
                <a:cubicBezTo>
                  <a:pt x="555311" y="822992"/>
                  <a:pt x="558875" y="820526"/>
                  <a:pt x="562160" y="817788"/>
                </a:cubicBezTo>
                <a:cubicBezTo>
                  <a:pt x="572928" y="808815"/>
                  <a:pt x="578766" y="796736"/>
                  <a:pt x="594182" y="792882"/>
                </a:cubicBezTo>
                <a:cubicBezTo>
                  <a:pt x="608414" y="789324"/>
                  <a:pt x="622280" y="783668"/>
                  <a:pt x="636877" y="782208"/>
                </a:cubicBezTo>
                <a:lnTo>
                  <a:pt x="672457" y="778650"/>
                </a:lnTo>
                <a:cubicBezTo>
                  <a:pt x="680786" y="777670"/>
                  <a:pt x="689001" y="775736"/>
                  <a:pt x="697363" y="775093"/>
                </a:cubicBezTo>
                <a:cubicBezTo>
                  <a:pt x="719862" y="773363"/>
                  <a:pt x="742431" y="772721"/>
                  <a:pt x="764965" y="771535"/>
                </a:cubicBezTo>
                <a:cubicBezTo>
                  <a:pt x="772081" y="769163"/>
                  <a:pt x="779755" y="768062"/>
                  <a:pt x="786312" y="764419"/>
                </a:cubicBezTo>
                <a:cubicBezTo>
                  <a:pt x="820997" y="745149"/>
                  <a:pt x="772130" y="759959"/>
                  <a:pt x="811218" y="750187"/>
                </a:cubicBezTo>
                <a:cubicBezTo>
                  <a:pt x="814776" y="747815"/>
                  <a:pt x="818179" y="745193"/>
                  <a:pt x="821892" y="743071"/>
                </a:cubicBezTo>
                <a:cubicBezTo>
                  <a:pt x="826497" y="740440"/>
                  <a:pt x="832374" y="739705"/>
                  <a:pt x="836124" y="735955"/>
                </a:cubicBezTo>
                <a:cubicBezTo>
                  <a:pt x="839874" y="732205"/>
                  <a:pt x="840157" y="726039"/>
                  <a:pt x="843240" y="721723"/>
                </a:cubicBezTo>
                <a:cubicBezTo>
                  <a:pt x="849466" y="713006"/>
                  <a:pt x="856077" y="709607"/>
                  <a:pt x="864588" y="703933"/>
                </a:cubicBezTo>
                <a:cubicBezTo>
                  <a:pt x="869965" y="682424"/>
                  <a:pt x="866600" y="694340"/>
                  <a:pt x="875262" y="668353"/>
                </a:cubicBezTo>
                <a:lnTo>
                  <a:pt x="878820" y="657679"/>
                </a:lnTo>
                <a:cubicBezTo>
                  <a:pt x="880006" y="654121"/>
                  <a:pt x="880701" y="650360"/>
                  <a:pt x="882378" y="647005"/>
                </a:cubicBezTo>
                <a:cubicBezTo>
                  <a:pt x="884750" y="642261"/>
                  <a:pt x="887405" y="637648"/>
                  <a:pt x="889494" y="632773"/>
                </a:cubicBezTo>
                <a:cubicBezTo>
                  <a:pt x="892621" y="625477"/>
                  <a:pt x="895833" y="609512"/>
                  <a:pt x="900168" y="604310"/>
                </a:cubicBezTo>
                <a:cubicBezTo>
                  <a:pt x="902569" y="601429"/>
                  <a:pt x="907284" y="601938"/>
                  <a:pt x="910842" y="600752"/>
                </a:cubicBezTo>
                <a:cubicBezTo>
                  <a:pt x="915586" y="597194"/>
                  <a:pt x="920139" y="593367"/>
                  <a:pt x="925073" y="590078"/>
                </a:cubicBezTo>
                <a:cubicBezTo>
                  <a:pt x="930827" y="586242"/>
                  <a:pt x="937612" y="583905"/>
                  <a:pt x="942863" y="579404"/>
                </a:cubicBezTo>
                <a:cubicBezTo>
                  <a:pt x="946110" y="576621"/>
                  <a:pt x="946353" y="570996"/>
                  <a:pt x="949979" y="568730"/>
                </a:cubicBezTo>
                <a:cubicBezTo>
                  <a:pt x="956340" y="564755"/>
                  <a:pt x="964618" y="564969"/>
                  <a:pt x="971327" y="561614"/>
                </a:cubicBezTo>
                <a:lnTo>
                  <a:pt x="985559" y="554498"/>
                </a:lnTo>
                <a:cubicBezTo>
                  <a:pt x="990303" y="548568"/>
                  <a:pt x="993472" y="540920"/>
                  <a:pt x="999791" y="536708"/>
                </a:cubicBezTo>
                <a:cubicBezTo>
                  <a:pt x="1004823" y="533353"/>
                  <a:pt x="1011747" y="534741"/>
                  <a:pt x="1017581" y="533150"/>
                </a:cubicBezTo>
                <a:cubicBezTo>
                  <a:pt x="1024818" y="531176"/>
                  <a:pt x="1032220" y="529389"/>
                  <a:pt x="1038929" y="526034"/>
                </a:cubicBezTo>
                <a:cubicBezTo>
                  <a:pt x="1097636" y="496681"/>
                  <a:pt x="1023833" y="532324"/>
                  <a:pt x="1081624" y="508244"/>
                </a:cubicBezTo>
                <a:cubicBezTo>
                  <a:pt x="1137731" y="484865"/>
                  <a:pt x="1068978" y="508901"/>
                  <a:pt x="1124320" y="490454"/>
                </a:cubicBezTo>
                <a:cubicBezTo>
                  <a:pt x="1158365" y="456409"/>
                  <a:pt x="1114777" y="496814"/>
                  <a:pt x="1145668" y="476222"/>
                </a:cubicBezTo>
                <a:cubicBezTo>
                  <a:pt x="1149855" y="473431"/>
                  <a:pt x="1153029" y="469336"/>
                  <a:pt x="1156342" y="465549"/>
                </a:cubicBezTo>
                <a:cubicBezTo>
                  <a:pt x="1161343" y="459834"/>
                  <a:pt x="1164062" y="451666"/>
                  <a:pt x="1170574" y="447759"/>
                </a:cubicBezTo>
                <a:cubicBezTo>
                  <a:pt x="1176760" y="444047"/>
                  <a:pt x="1184806" y="445387"/>
                  <a:pt x="1191922" y="444201"/>
                </a:cubicBezTo>
                <a:cubicBezTo>
                  <a:pt x="1195480" y="440643"/>
                  <a:pt x="1198730" y="436748"/>
                  <a:pt x="1202596" y="433527"/>
                </a:cubicBezTo>
                <a:cubicBezTo>
                  <a:pt x="1232317" y="408759"/>
                  <a:pt x="1192760" y="446921"/>
                  <a:pt x="1223944" y="415737"/>
                </a:cubicBezTo>
                <a:cubicBezTo>
                  <a:pt x="1225130" y="412179"/>
                  <a:pt x="1224850" y="407715"/>
                  <a:pt x="1227502" y="405063"/>
                </a:cubicBezTo>
                <a:cubicBezTo>
                  <a:pt x="1231252" y="401313"/>
                  <a:pt x="1236767" y="399809"/>
                  <a:pt x="1241733" y="397947"/>
                </a:cubicBezTo>
                <a:cubicBezTo>
                  <a:pt x="1246312" y="396230"/>
                  <a:pt x="1251263" y="395732"/>
                  <a:pt x="1255965" y="394389"/>
                </a:cubicBezTo>
                <a:cubicBezTo>
                  <a:pt x="1259571" y="393359"/>
                  <a:pt x="1263081" y="392017"/>
                  <a:pt x="1266639" y="390831"/>
                </a:cubicBezTo>
                <a:cubicBezTo>
                  <a:pt x="1269011" y="387273"/>
                  <a:pt x="1271843" y="383982"/>
                  <a:pt x="1273755" y="380157"/>
                </a:cubicBezTo>
                <a:cubicBezTo>
                  <a:pt x="1275432" y="376802"/>
                  <a:pt x="1274661" y="372135"/>
                  <a:pt x="1277313" y="369483"/>
                </a:cubicBezTo>
                <a:cubicBezTo>
                  <a:pt x="1279965" y="366831"/>
                  <a:pt x="1284429" y="367111"/>
                  <a:pt x="1287987" y="365925"/>
                </a:cubicBezTo>
                <a:cubicBezTo>
                  <a:pt x="1290359" y="362367"/>
                  <a:pt x="1291764" y="357922"/>
                  <a:pt x="1295103" y="355251"/>
                </a:cubicBezTo>
                <a:cubicBezTo>
                  <a:pt x="1298032" y="352908"/>
                  <a:pt x="1300440" y="357020"/>
                  <a:pt x="1305777" y="351693"/>
                </a:cubicBezTo>
                <a:cubicBezTo>
                  <a:pt x="1311114" y="346366"/>
                  <a:pt x="1300296" y="332231"/>
                  <a:pt x="1327125" y="323288"/>
                </a:cubicBezTo>
                <a:cubicBezTo>
                  <a:pt x="1333487" y="310262"/>
                  <a:pt x="1340984" y="291327"/>
                  <a:pt x="1343949" y="273537"/>
                </a:cubicBezTo>
                <a:cubicBezTo>
                  <a:pt x="1346914" y="255747"/>
                  <a:pt x="1345347" y="242602"/>
                  <a:pt x="1344915" y="234280"/>
                </a:cubicBezTo>
                <a:cubicBezTo>
                  <a:pt x="1344483" y="225958"/>
                  <a:pt x="1342834" y="227053"/>
                  <a:pt x="1341357" y="223606"/>
                </a:cubicBezTo>
                <a:cubicBezTo>
                  <a:pt x="1339268" y="218731"/>
                  <a:pt x="1336395" y="214221"/>
                  <a:pt x="1334241" y="209374"/>
                </a:cubicBezTo>
                <a:cubicBezTo>
                  <a:pt x="1330164" y="200201"/>
                  <a:pt x="1327570" y="188471"/>
                  <a:pt x="1320009" y="180910"/>
                </a:cubicBezTo>
                <a:cubicBezTo>
                  <a:pt x="1316985" y="177886"/>
                  <a:pt x="1312359" y="176818"/>
                  <a:pt x="1309335" y="173794"/>
                </a:cubicBezTo>
                <a:cubicBezTo>
                  <a:pt x="1282855" y="147316"/>
                  <a:pt x="1313143" y="169217"/>
                  <a:pt x="1287987" y="152447"/>
                </a:cubicBezTo>
                <a:cubicBezTo>
                  <a:pt x="1264267" y="154819"/>
                  <a:pt x="1240466" y="156480"/>
                  <a:pt x="1216828" y="159563"/>
                </a:cubicBezTo>
                <a:cubicBezTo>
                  <a:pt x="1213109" y="160048"/>
                  <a:pt x="1209760" y="162091"/>
                  <a:pt x="1206154" y="163121"/>
                </a:cubicBezTo>
                <a:cubicBezTo>
                  <a:pt x="1201452" y="164464"/>
                  <a:pt x="1196717" y="165719"/>
                  <a:pt x="1191922" y="166678"/>
                </a:cubicBezTo>
                <a:cubicBezTo>
                  <a:pt x="1120684" y="180924"/>
                  <a:pt x="1201431" y="162719"/>
                  <a:pt x="1159900" y="173794"/>
                </a:cubicBezTo>
                <a:cubicBezTo>
                  <a:pt x="1145725" y="177574"/>
                  <a:pt x="1130325" y="177907"/>
                  <a:pt x="1117204" y="184468"/>
                </a:cubicBezTo>
                <a:cubicBezTo>
                  <a:pt x="1112460" y="186840"/>
                  <a:pt x="1107847" y="189495"/>
                  <a:pt x="1102972" y="191584"/>
                </a:cubicBezTo>
                <a:cubicBezTo>
                  <a:pt x="1095826" y="194647"/>
                  <a:pt x="1085288" y="196894"/>
                  <a:pt x="1078066" y="198700"/>
                </a:cubicBezTo>
                <a:cubicBezTo>
                  <a:pt x="1075694" y="202258"/>
                  <a:pt x="1074169" y="206558"/>
                  <a:pt x="1070951" y="209374"/>
                </a:cubicBezTo>
                <a:cubicBezTo>
                  <a:pt x="1064515" y="215006"/>
                  <a:pt x="1049603" y="223606"/>
                  <a:pt x="1049603" y="223606"/>
                </a:cubicBezTo>
                <a:cubicBezTo>
                  <a:pt x="1047231" y="227164"/>
                  <a:pt x="1045772" y="231542"/>
                  <a:pt x="1042487" y="234280"/>
                </a:cubicBezTo>
                <a:cubicBezTo>
                  <a:pt x="1038412" y="237676"/>
                  <a:pt x="1032891" y="238820"/>
                  <a:pt x="1028255" y="241396"/>
                </a:cubicBezTo>
                <a:cubicBezTo>
                  <a:pt x="1003048" y="255400"/>
                  <a:pt x="1019304" y="249124"/>
                  <a:pt x="999791" y="255628"/>
                </a:cubicBezTo>
                <a:cubicBezTo>
                  <a:pt x="989117" y="253256"/>
                  <a:pt x="973834" y="257610"/>
                  <a:pt x="967769" y="248512"/>
                </a:cubicBezTo>
                <a:cubicBezTo>
                  <a:pt x="961157" y="238595"/>
                  <a:pt x="969752" y="224747"/>
                  <a:pt x="971327" y="212932"/>
                </a:cubicBezTo>
                <a:cubicBezTo>
                  <a:pt x="972126" y="206938"/>
                  <a:pt x="972429" y="200668"/>
                  <a:pt x="974885" y="195142"/>
                </a:cubicBezTo>
                <a:cubicBezTo>
                  <a:pt x="976962" y="190469"/>
                  <a:pt x="991223" y="173576"/>
                  <a:pt x="996233" y="170236"/>
                </a:cubicBezTo>
                <a:cubicBezTo>
                  <a:pt x="999354" y="168156"/>
                  <a:pt x="1003349" y="167864"/>
                  <a:pt x="1006907" y="166678"/>
                </a:cubicBezTo>
                <a:cubicBezTo>
                  <a:pt x="1011651" y="161934"/>
                  <a:pt x="1016773" y="157541"/>
                  <a:pt x="1021139" y="152447"/>
                </a:cubicBezTo>
                <a:cubicBezTo>
                  <a:pt x="1023922" y="149200"/>
                  <a:pt x="1024629" y="144039"/>
                  <a:pt x="1028255" y="141773"/>
                </a:cubicBezTo>
                <a:cubicBezTo>
                  <a:pt x="1034616" y="137798"/>
                  <a:pt x="1043362" y="138818"/>
                  <a:pt x="1049603" y="134657"/>
                </a:cubicBezTo>
                <a:cubicBezTo>
                  <a:pt x="1064464" y="124750"/>
                  <a:pt x="1057253" y="130565"/>
                  <a:pt x="1070951" y="116867"/>
                </a:cubicBezTo>
                <a:cubicBezTo>
                  <a:pt x="1073398" y="94840"/>
                  <a:pt x="1071601" y="85098"/>
                  <a:pt x="1081624" y="67055"/>
                </a:cubicBezTo>
                <a:cubicBezTo>
                  <a:pt x="1084504" y="61871"/>
                  <a:pt x="1088740" y="57567"/>
                  <a:pt x="1092298" y="52823"/>
                </a:cubicBezTo>
                <a:cubicBezTo>
                  <a:pt x="1097118" y="38363"/>
                  <a:pt x="1106256" y="15701"/>
                  <a:pt x="1092298" y="3012"/>
                </a:cubicBezTo>
                <a:cubicBezTo>
                  <a:pt x="1083479" y="-5005"/>
                  <a:pt x="1068579" y="5384"/>
                  <a:pt x="1056719" y="6570"/>
                </a:cubicBezTo>
                <a:cubicBezTo>
                  <a:pt x="1050789" y="10128"/>
                  <a:pt x="1045350" y="14675"/>
                  <a:pt x="1038929" y="17243"/>
                </a:cubicBezTo>
                <a:cubicBezTo>
                  <a:pt x="1033314" y="19489"/>
                  <a:pt x="1026973" y="19210"/>
                  <a:pt x="1021139" y="20801"/>
                </a:cubicBezTo>
                <a:lnTo>
                  <a:pt x="989117" y="31475"/>
                </a:lnTo>
                <a:lnTo>
                  <a:pt x="946421" y="45707"/>
                </a:lnTo>
                <a:cubicBezTo>
                  <a:pt x="942863" y="46893"/>
                  <a:pt x="944742" y="42581"/>
                  <a:pt x="935747" y="49265"/>
                </a:cubicBezTo>
                <a:cubicBezTo>
                  <a:pt x="926752" y="55949"/>
                  <a:pt x="906783" y="73799"/>
                  <a:pt x="892451" y="85810"/>
                </a:cubicBezTo>
                <a:cubicBezTo>
                  <a:pt x="878119" y="97821"/>
                  <a:pt x="866691" y="110919"/>
                  <a:pt x="849755" y="121332"/>
                </a:cubicBezTo>
                <a:cubicBezTo>
                  <a:pt x="832819" y="131745"/>
                  <a:pt x="806576" y="145052"/>
                  <a:pt x="790836" y="148288"/>
                </a:cubicBezTo>
                <a:cubicBezTo>
                  <a:pt x="775096" y="151524"/>
                  <a:pt x="767337" y="137683"/>
                  <a:pt x="755316" y="140748"/>
                </a:cubicBezTo>
                <a:cubicBezTo>
                  <a:pt x="743295" y="143813"/>
                  <a:pt x="729556" y="156426"/>
                  <a:pt x="718711" y="166678"/>
                </a:cubicBezTo>
                <a:cubicBezTo>
                  <a:pt x="707866" y="176930"/>
                  <a:pt x="708771" y="181088"/>
                  <a:pt x="690247" y="202258"/>
                </a:cubicBezTo>
                <a:cubicBezTo>
                  <a:pt x="685829" y="207307"/>
                  <a:pt x="680759" y="211746"/>
                  <a:pt x="676015" y="216490"/>
                </a:cubicBezTo>
                <a:cubicBezTo>
                  <a:pt x="674829" y="220048"/>
                  <a:pt x="673487" y="223558"/>
                  <a:pt x="672457" y="227164"/>
                </a:cubicBezTo>
                <a:cubicBezTo>
                  <a:pt x="671114" y="231866"/>
                  <a:pt x="670616" y="236817"/>
                  <a:pt x="668899" y="241396"/>
                </a:cubicBezTo>
                <a:cubicBezTo>
                  <a:pt x="667037" y="246362"/>
                  <a:pt x="663872" y="250753"/>
                  <a:pt x="661783" y="255628"/>
                </a:cubicBezTo>
                <a:cubicBezTo>
                  <a:pt x="652945" y="276251"/>
                  <a:pt x="664784" y="256463"/>
                  <a:pt x="651109" y="276976"/>
                </a:cubicBezTo>
                <a:cubicBezTo>
                  <a:pt x="650932" y="277862"/>
                  <a:pt x="646911" y="301793"/>
                  <a:pt x="643993" y="305440"/>
                </a:cubicBezTo>
                <a:cubicBezTo>
                  <a:pt x="641322" y="308779"/>
                  <a:pt x="636877" y="310184"/>
                  <a:pt x="633319" y="312556"/>
                </a:cubicBezTo>
                <a:cubicBezTo>
                  <a:pt x="629327" y="324531"/>
                  <a:pt x="629680" y="325149"/>
                  <a:pt x="622645" y="337461"/>
                </a:cubicBezTo>
                <a:cubicBezTo>
                  <a:pt x="617849" y="345854"/>
                  <a:pt x="610318" y="354721"/>
                  <a:pt x="604856" y="362367"/>
                </a:cubicBezTo>
                <a:cubicBezTo>
                  <a:pt x="598889" y="370721"/>
                  <a:pt x="596127" y="377674"/>
                  <a:pt x="587066" y="383715"/>
                </a:cubicBezTo>
                <a:cubicBezTo>
                  <a:pt x="583945" y="385795"/>
                  <a:pt x="579904" y="385956"/>
                  <a:pt x="576392" y="387273"/>
                </a:cubicBezTo>
                <a:cubicBezTo>
                  <a:pt x="570412" y="389516"/>
                  <a:pt x="564532" y="392017"/>
                  <a:pt x="558602" y="394389"/>
                </a:cubicBezTo>
                <a:cubicBezTo>
                  <a:pt x="555044" y="397947"/>
                  <a:pt x="551748" y="401788"/>
                  <a:pt x="547928" y="405063"/>
                </a:cubicBezTo>
                <a:cubicBezTo>
                  <a:pt x="530026" y="420408"/>
                  <a:pt x="521905" y="419192"/>
                  <a:pt x="505232" y="444201"/>
                </a:cubicBezTo>
                <a:lnTo>
                  <a:pt x="491000" y="465549"/>
                </a:lnTo>
                <a:lnTo>
                  <a:pt x="483884" y="476222"/>
                </a:lnTo>
                <a:cubicBezTo>
                  <a:pt x="474064" y="505683"/>
                  <a:pt x="483009" y="493409"/>
                  <a:pt x="455421" y="511802"/>
                </a:cubicBezTo>
                <a:lnTo>
                  <a:pt x="444747" y="518918"/>
                </a:lnTo>
                <a:lnTo>
                  <a:pt x="434073" y="526034"/>
                </a:lnTo>
                <a:cubicBezTo>
                  <a:pt x="432887" y="529592"/>
                  <a:pt x="433167" y="534056"/>
                  <a:pt x="430515" y="536708"/>
                </a:cubicBezTo>
                <a:cubicBezTo>
                  <a:pt x="425879" y="541344"/>
                  <a:pt x="400658" y="557576"/>
                  <a:pt x="391377" y="558056"/>
                </a:cubicBezTo>
                <a:cubicBezTo>
                  <a:pt x="328592" y="561304"/>
                  <a:pt x="411540" y="492909"/>
                  <a:pt x="348681" y="494012"/>
                </a:cubicBezTo>
                <a:cubicBezTo>
                  <a:pt x="343938" y="494095"/>
                  <a:pt x="327040" y="463546"/>
                  <a:pt x="264140" y="481163"/>
                </a:cubicBezTo>
                <a:close/>
              </a:path>
            </a:pathLst>
          </a:custGeom>
          <a:gradFill rotWithShape="0">
            <a:gsLst>
              <a:gs pos="0">
                <a:srgbClr val="404040"/>
              </a:gs>
              <a:gs pos="100000">
                <a:srgbClr val="0d0d0d"/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glow rad="13968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" name="任意多边形 90"/>
          <p:cNvSpPr/>
          <p:nvPr/>
        </p:nvSpPr>
        <p:spPr>
          <a:xfrm>
            <a:off x="2895120" y="2933640"/>
            <a:ext cx="343080" cy="1161720"/>
          </a:xfrm>
          <a:custGeom>
            <a:avLst/>
            <a:gdLst>
              <a:gd name="textAreaLeft" fmla="*/ 0 w 343080"/>
              <a:gd name="textAreaRight" fmla="*/ 343440 w 343080"/>
              <a:gd name="textAreaTop" fmla="*/ 0 h 1161720"/>
              <a:gd name="textAreaBottom" fmla="*/ 1162080 h 1161720"/>
            </a:gdLst>
            <a:ahLst/>
            <a:rect l="textAreaLeft" t="textAreaTop" r="textAreaRight" b="textAreaBottom"/>
            <a:pathLst>
              <a:path w="343497" h="1162050">
                <a:moveTo>
                  <a:pt x="343497" y="0"/>
                </a:moveTo>
                <a:cubicBezTo>
                  <a:pt x="237928" y="141287"/>
                  <a:pt x="141884" y="292100"/>
                  <a:pt x="76797" y="476250"/>
                </a:cubicBezTo>
                <a:cubicBezTo>
                  <a:pt x="11710" y="660400"/>
                  <a:pt x="-16866" y="1012825"/>
                  <a:pt x="10122" y="1162050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任意多边形 91"/>
          <p:cNvSpPr/>
          <p:nvPr/>
        </p:nvSpPr>
        <p:spPr>
          <a:xfrm>
            <a:off x="2520000" y="2512080"/>
            <a:ext cx="875520" cy="751320"/>
          </a:xfrm>
          <a:custGeom>
            <a:avLst/>
            <a:gdLst>
              <a:gd name="textAreaLeft" fmla="*/ 0 w 875520"/>
              <a:gd name="textAreaRight" fmla="*/ 875880 w 875520"/>
              <a:gd name="textAreaTop" fmla="*/ 0 h 751320"/>
              <a:gd name="textAreaBottom" fmla="*/ 751680 h 751320"/>
            </a:gdLst>
            <a:ahLst/>
            <a:rect l="textAreaLeft" t="textAreaTop" r="textAreaRight" b="textAreaBottom"/>
            <a:pathLst>
              <a:path w="876001" h="751845">
                <a:moveTo>
                  <a:pt x="20959" y="686017"/>
                </a:moveTo>
                <a:cubicBezTo>
                  <a:pt x="47928" y="693745"/>
                  <a:pt x="144636" y="649140"/>
                  <a:pt x="175546" y="659851"/>
                </a:cubicBezTo>
                <a:cubicBezTo>
                  <a:pt x="206456" y="670562"/>
                  <a:pt x="135167" y="765052"/>
                  <a:pt x="206419" y="750283"/>
                </a:cubicBezTo>
                <a:cubicBezTo>
                  <a:pt x="277671" y="735514"/>
                  <a:pt x="347812" y="665614"/>
                  <a:pt x="410929" y="635278"/>
                </a:cubicBezTo>
                <a:cubicBezTo>
                  <a:pt x="474046" y="604943"/>
                  <a:pt x="516791" y="629682"/>
                  <a:pt x="585121" y="568270"/>
                </a:cubicBezTo>
                <a:cubicBezTo>
                  <a:pt x="653451" y="506858"/>
                  <a:pt x="786525" y="331739"/>
                  <a:pt x="820912" y="266806"/>
                </a:cubicBezTo>
                <a:cubicBezTo>
                  <a:pt x="855299" y="201873"/>
                  <a:pt x="782928" y="228995"/>
                  <a:pt x="791446" y="203577"/>
                </a:cubicBezTo>
                <a:cubicBezTo>
                  <a:pt x="799964" y="178159"/>
                  <a:pt x="896561" y="151746"/>
                  <a:pt x="872020" y="114295"/>
                </a:cubicBezTo>
                <a:cubicBezTo>
                  <a:pt x="847479" y="76844"/>
                  <a:pt x="851376" y="3755"/>
                  <a:pt x="793633" y="216"/>
                </a:cubicBezTo>
                <a:cubicBezTo>
                  <a:pt x="735890" y="-3323"/>
                  <a:pt x="607939" y="37094"/>
                  <a:pt x="525562" y="93058"/>
                </a:cubicBezTo>
                <a:cubicBezTo>
                  <a:pt x="443185" y="149022"/>
                  <a:pt x="367442" y="278851"/>
                  <a:pt x="299371" y="336001"/>
                </a:cubicBezTo>
                <a:cubicBezTo>
                  <a:pt x="231300" y="393151"/>
                  <a:pt x="165545" y="402219"/>
                  <a:pt x="117136" y="435958"/>
                </a:cubicBezTo>
                <a:cubicBezTo>
                  <a:pt x="68727" y="469697"/>
                  <a:pt x="-2407" y="515407"/>
                  <a:pt x="8915" y="538435"/>
                </a:cubicBezTo>
                <a:cubicBezTo>
                  <a:pt x="20237" y="561463"/>
                  <a:pt x="184268" y="561618"/>
                  <a:pt x="185071" y="574126"/>
                </a:cubicBezTo>
                <a:cubicBezTo>
                  <a:pt x="185874" y="586634"/>
                  <a:pt x="32782" y="596024"/>
                  <a:pt x="13732" y="613486"/>
                </a:cubicBezTo>
                <a:cubicBezTo>
                  <a:pt x="-5318" y="630948"/>
                  <a:pt x="-6010" y="678290"/>
                  <a:pt x="20959" y="686017"/>
                </a:cubicBezTo>
                <a:close/>
              </a:path>
            </a:pathLst>
          </a:custGeom>
          <a:solidFill>
            <a:schemeClr val="tx1"/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任意多边形 92"/>
          <p:cNvSpPr/>
          <p:nvPr/>
        </p:nvSpPr>
        <p:spPr>
          <a:xfrm>
            <a:off x="2629800" y="2683800"/>
            <a:ext cx="377640" cy="684720"/>
          </a:xfrm>
          <a:custGeom>
            <a:avLst/>
            <a:gdLst>
              <a:gd name="textAreaLeft" fmla="*/ 0 w 377640"/>
              <a:gd name="textAreaRight" fmla="*/ 378000 w 377640"/>
              <a:gd name="textAreaTop" fmla="*/ 0 h 684720"/>
              <a:gd name="textAreaBottom" fmla="*/ 685080 h 684720"/>
            </a:gdLst>
            <a:ahLst/>
            <a:rect l="textAreaLeft" t="textAreaTop" r="textAreaRight" b="textAreaBottom"/>
            <a:pathLst>
              <a:path w="378027" h="685180">
                <a:moveTo>
                  <a:pt x="189220" y="168337"/>
                </a:moveTo>
                <a:cubicBezTo>
                  <a:pt x="164017" y="124955"/>
                  <a:pt x="132168" y="122505"/>
                  <a:pt x="119056" y="100553"/>
                </a:cubicBezTo>
                <a:cubicBezTo>
                  <a:pt x="105944" y="78601"/>
                  <a:pt x="122544" y="69831"/>
                  <a:pt x="110547" y="36622"/>
                </a:cubicBezTo>
                <a:cubicBezTo>
                  <a:pt x="98550" y="3413"/>
                  <a:pt x="91391" y="-3331"/>
                  <a:pt x="61357" y="1313"/>
                </a:cubicBezTo>
                <a:cubicBezTo>
                  <a:pt x="31323" y="5957"/>
                  <a:pt x="-8985" y="31175"/>
                  <a:pt x="1781" y="64485"/>
                </a:cubicBezTo>
                <a:cubicBezTo>
                  <a:pt x="12547" y="97795"/>
                  <a:pt x="49386" y="90117"/>
                  <a:pt x="68805" y="115447"/>
                </a:cubicBezTo>
                <a:cubicBezTo>
                  <a:pt x="88224" y="140777"/>
                  <a:pt x="91473" y="155300"/>
                  <a:pt x="118297" y="216463"/>
                </a:cubicBezTo>
                <a:cubicBezTo>
                  <a:pt x="145121" y="277626"/>
                  <a:pt x="202729" y="429654"/>
                  <a:pt x="229747" y="482424"/>
                </a:cubicBezTo>
                <a:cubicBezTo>
                  <a:pt x="256765" y="535194"/>
                  <a:pt x="272385" y="506909"/>
                  <a:pt x="280406" y="533083"/>
                </a:cubicBezTo>
                <a:cubicBezTo>
                  <a:pt x="288427" y="559257"/>
                  <a:pt x="292227" y="616671"/>
                  <a:pt x="277874" y="639468"/>
                </a:cubicBezTo>
                <a:cubicBezTo>
                  <a:pt x="263521" y="662265"/>
                  <a:pt x="314551" y="687121"/>
                  <a:pt x="331066" y="685061"/>
                </a:cubicBezTo>
                <a:cubicBezTo>
                  <a:pt x="347581" y="683001"/>
                  <a:pt x="384774" y="662569"/>
                  <a:pt x="376963" y="627106"/>
                </a:cubicBezTo>
                <a:cubicBezTo>
                  <a:pt x="369152" y="591643"/>
                  <a:pt x="338090" y="605206"/>
                  <a:pt x="327063" y="586580"/>
                </a:cubicBezTo>
                <a:cubicBezTo>
                  <a:pt x="316036" y="567954"/>
                  <a:pt x="311376" y="537127"/>
                  <a:pt x="310802" y="515352"/>
                </a:cubicBezTo>
                <a:cubicBezTo>
                  <a:pt x="310228" y="493577"/>
                  <a:pt x="334173" y="492233"/>
                  <a:pt x="323619" y="455927"/>
                </a:cubicBezTo>
                <a:cubicBezTo>
                  <a:pt x="313065" y="419621"/>
                  <a:pt x="292675" y="408774"/>
                  <a:pt x="270275" y="360842"/>
                </a:cubicBezTo>
                <a:cubicBezTo>
                  <a:pt x="247875" y="312910"/>
                  <a:pt x="214423" y="211719"/>
                  <a:pt x="189220" y="168337"/>
                </a:cubicBezTo>
                <a:close/>
              </a:path>
            </a:pathLst>
          </a:custGeom>
          <a:solidFill>
            <a:schemeClr val="tx1"/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" name="任意多边形 93"/>
          <p:cNvSpPr/>
          <p:nvPr/>
        </p:nvSpPr>
        <p:spPr>
          <a:xfrm>
            <a:off x="1838880" y="2409480"/>
            <a:ext cx="669960" cy="428040"/>
          </a:xfrm>
          <a:custGeom>
            <a:avLst/>
            <a:gdLst>
              <a:gd name="textAreaLeft" fmla="*/ 0 w 669960"/>
              <a:gd name="textAreaRight" fmla="*/ 670320 w 669960"/>
              <a:gd name="textAreaTop" fmla="*/ 0 h 428040"/>
              <a:gd name="textAreaBottom" fmla="*/ 428400 h 428040"/>
            </a:gdLst>
            <a:ahLst/>
            <a:rect l="textAreaLeft" t="textAreaTop" r="textAreaRight" b="textAreaBottom"/>
            <a:pathLst>
              <a:path w="670228" h="428547">
                <a:moveTo>
                  <a:pt x="670228" y="428547"/>
                </a:moveTo>
                <a:cubicBezTo>
                  <a:pt x="409445" y="308122"/>
                  <a:pt x="191019" y="220087"/>
                  <a:pt x="0" y="0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任意多边形 94"/>
          <p:cNvSpPr/>
          <p:nvPr/>
        </p:nvSpPr>
        <p:spPr>
          <a:xfrm>
            <a:off x="1784520" y="-46080"/>
            <a:ext cx="2050920" cy="2455200"/>
          </a:xfrm>
          <a:custGeom>
            <a:avLst/>
            <a:gdLst>
              <a:gd name="textAreaLeft" fmla="*/ 0 w 2050920"/>
              <a:gd name="textAreaRight" fmla="*/ 2051280 w 2050920"/>
              <a:gd name="textAreaTop" fmla="*/ 0 h 2455200"/>
              <a:gd name="textAreaBottom" fmla="*/ 2455560 h 2455200"/>
            </a:gdLst>
            <a:ahLst/>
            <a:rect l="textAreaLeft" t="textAreaTop" r="textAreaRight" b="textAreaBottom"/>
            <a:pathLst>
              <a:path w="2051388" h="2455653">
                <a:moveTo>
                  <a:pt x="51604" y="2455653"/>
                </a:moveTo>
                <a:cubicBezTo>
                  <a:pt x="-110494" y="2276768"/>
                  <a:pt x="117046" y="1352601"/>
                  <a:pt x="625154" y="862642"/>
                </a:cubicBezTo>
                <a:cubicBezTo>
                  <a:pt x="1133262" y="372683"/>
                  <a:pt x="1452331" y="227642"/>
                  <a:pt x="2051388" y="0"/>
                </a:cubicBezTo>
              </a:path>
            </a:pathLst>
          </a:custGeom>
          <a:noFill/>
          <a:ln w="19050">
            <a:solidFill>
              <a:srgbClr val="000000"/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95"/>
          <p:cNvSpPr/>
          <p:nvPr/>
        </p:nvSpPr>
        <p:spPr>
          <a:xfrm>
            <a:off x="1644480" y="1541520"/>
            <a:ext cx="1314360" cy="224208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2242080"/>
              <a:gd name="textAreaBottom" fmla="*/ 2242440 h 2242080"/>
            </a:gdLst>
            <a:ahLst/>
            <a:rect l="textAreaLeft" t="textAreaTop" r="textAreaRight" b="textAreaBottom"/>
            <a:pathLst>
              <a:path w="1314728" h="2242469">
                <a:moveTo>
                  <a:pt x="1307530" y="4989"/>
                </a:moveTo>
                <a:cubicBezTo>
                  <a:pt x="1363273" y="56642"/>
                  <a:pt x="1082509" y="348657"/>
                  <a:pt x="905561" y="630955"/>
                </a:cubicBezTo>
                <a:cubicBezTo>
                  <a:pt x="728613" y="913253"/>
                  <a:pt x="283687" y="1615929"/>
                  <a:pt x="258117" y="1704914"/>
                </a:cubicBezTo>
                <a:cubicBezTo>
                  <a:pt x="232547" y="1793899"/>
                  <a:pt x="249935" y="1895670"/>
                  <a:pt x="236638" y="1974938"/>
                </a:cubicBezTo>
                <a:cubicBezTo>
                  <a:pt x="223341" y="2054206"/>
                  <a:pt x="189588" y="2155466"/>
                  <a:pt x="178337" y="2180525"/>
                </a:cubicBezTo>
                <a:cubicBezTo>
                  <a:pt x="167086" y="2205584"/>
                  <a:pt x="165042" y="2156489"/>
                  <a:pt x="169133" y="2125293"/>
                </a:cubicBezTo>
                <a:cubicBezTo>
                  <a:pt x="173224" y="2094097"/>
                  <a:pt x="194190" y="2049092"/>
                  <a:pt x="202884" y="1993348"/>
                </a:cubicBezTo>
                <a:cubicBezTo>
                  <a:pt x="211578" y="1937604"/>
                  <a:pt x="225898" y="1821004"/>
                  <a:pt x="202885" y="1833789"/>
                </a:cubicBezTo>
                <a:cubicBezTo>
                  <a:pt x="179872" y="1846574"/>
                  <a:pt x="90374" y="2005111"/>
                  <a:pt x="64804" y="2070060"/>
                </a:cubicBezTo>
                <a:cubicBezTo>
                  <a:pt x="39234" y="2135009"/>
                  <a:pt x="60202" y="2197401"/>
                  <a:pt x="49462" y="2223483"/>
                </a:cubicBezTo>
                <a:cubicBezTo>
                  <a:pt x="38722" y="2249565"/>
                  <a:pt x="4457" y="2247008"/>
                  <a:pt x="366" y="2226552"/>
                </a:cubicBezTo>
                <a:cubicBezTo>
                  <a:pt x="-3725" y="2206096"/>
                  <a:pt x="27982" y="2152909"/>
                  <a:pt x="24914" y="2100745"/>
                </a:cubicBezTo>
                <a:cubicBezTo>
                  <a:pt x="21846" y="2048581"/>
                  <a:pt x="24403" y="2052672"/>
                  <a:pt x="55599" y="1987212"/>
                </a:cubicBezTo>
                <a:cubicBezTo>
                  <a:pt x="86795" y="1921752"/>
                  <a:pt x="33098" y="2005111"/>
                  <a:pt x="212091" y="1707982"/>
                </a:cubicBezTo>
                <a:cubicBezTo>
                  <a:pt x="335852" y="1410853"/>
                  <a:pt x="701509" y="881033"/>
                  <a:pt x="884082" y="597201"/>
                </a:cubicBezTo>
                <a:cubicBezTo>
                  <a:pt x="1066655" y="313369"/>
                  <a:pt x="1251787" y="-46664"/>
                  <a:pt x="1307530" y="4989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 w="6350">
            <a:solidFill>
              <a:srgbClr val="000000">
                <a:lumMod val="85000"/>
                <a:lumOff val="1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" name="任意多边形 96"/>
          <p:cNvSpPr/>
          <p:nvPr/>
        </p:nvSpPr>
        <p:spPr>
          <a:xfrm>
            <a:off x="3416760" y="2048760"/>
            <a:ext cx="568800" cy="442800"/>
          </a:xfrm>
          <a:custGeom>
            <a:avLst/>
            <a:gdLst>
              <a:gd name="textAreaLeft" fmla="*/ 0 w 568800"/>
              <a:gd name="textAreaRight" fmla="*/ 569160 w 56880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569295" h="443032">
                <a:moveTo>
                  <a:pt x="16954" y="205509"/>
                </a:moveTo>
                <a:cubicBezTo>
                  <a:pt x="50910" y="235397"/>
                  <a:pt x="95913" y="213759"/>
                  <a:pt x="136668" y="249640"/>
                </a:cubicBezTo>
                <a:cubicBezTo>
                  <a:pt x="177423" y="285521"/>
                  <a:pt x="198706" y="391880"/>
                  <a:pt x="261482" y="420797"/>
                </a:cubicBezTo>
                <a:cubicBezTo>
                  <a:pt x="324258" y="449714"/>
                  <a:pt x="463527" y="450353"/>
                  <a:pt x="513322" y="423143"/>
                </a:cubicBezTo>
                <a:cubicBezTo>
                  <a:pt x="563117" y="395933"/>
                  <a:pt x="582271" y="327111"/>
                  <a:pt x="560250" y="257537"/>
                </a:cubicBezTo>
                <a:cubicBezTo>
                  <a:pt x="538229" y="187963"/>
                  <a:pt x="477567" y="29229"/>
                  <a:pt x="381197" y="5697"/>
                </a:cubicBezTo>
                <a:cubicBezTo>
                  <a:pt x="284827" y="-17835"/>
                  <a:pt x="122514" y="37012"/>
                  <a:pt x="61807" y="70314"/>
                </a:cubicBezTo>
                <a:cubicBezTo>
                  <a:pt x="1100" y="103616"/>
                  <a:pt x="-17002" y="175621"/>
                  <a:pt x="16954" y="205509"/>
                </a:cubicBez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100000">
                <a:srgbClr val="808080"/>
              </a:gs>
            </a:gsLst>
            <a:lin ang="8100000"/>
          </a:gradFill>
          <a:ln w="9525">
            <a:noFill/>
          </a:ln>
          <a:effectLst>
            <a:glow rad="13968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任意多边形 97"/>
          <p:cNvSpPr/>
          <p:nvPr/>
        </p:nvSpPr>
        <p:spPr>
          <a:xfrm>
            <a:off x="3458160" y="2270160"/>
            <a:ext cx="189000" cy="159480"/>
          </a:xfrm>
          <a:custGeom>
            <a:avLst/>
            <a:gdLst>
              <a:gd name="textAreaLeft" fmla="*/ 0 w 189000"/>
              <a:gd name="textAreaRight" fmla="*/ 189360 w 189000"/>
              <a:gd name="textAreaTop" fmla="*/ 0 h 159480"/>
              <a:gd name="textAreaBottom" fmla="*/ 159840 h 159480"/>
            </a:gdLst>
            <a:ahLst/>
            <a:rect l="textAreaLeft" t="textAreaTop" r="textAreaRight" b="textAreaBottom"/>
            <a:pathLst>
              <a:path w="189235" h="159998">
                <a:moveTo>
                  <a:pt x="1" y="3731"/>
                </a:moveTo>
                <a:cubicBezTo>
                  <a:pt x="-121" y="7418"/>
                  <a:pt x="69386" y="9118"/>
                  <a:pt x="99567" y="34688"/>
                </a:cubicBezTo>
                <a:cubicBezTo>
                  <a:pt x="129748" y="60258"/>
                  <a:pt x="168013" y="144414"/>
                  <a:pt x="181088" y="157154"/>
                </a:cubicBezTo>
                <a:cubicBezTo>
                  <a:pt x="194163" y="169894"/>
                  <a:pt x="190294" y="137209"/>
                  <a:pt x="178020" y="111127"/>
                </a:cubicBezTo>
                <a:cubicBezTo>
                  <a:pt x="165746" y="85045"/>
                  <a:pt x="129971" y="30467"/>
                  <a:pt x="100301" y="12568"/>
                </a:cubicBezTo>
                <a:cubicBezTo>
                  <a:pt x="70631" y="-5331"/>
                  <a:pt x="123" y="44"/>
                  <a:pt x="1" y="3731"/>
                </a:cubicBezTo>
                <a:close/>
              </a:path>
            </a:pathLst>
          </a:custGeom>
          <a:solidFill>
            <a:srgbClr val="000000"/>
          </a:solidFill>
          <a:ln>
            <a:solidFill>
              <a:srgbClr val="000000"/>
            </a:solidFill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" name="任意多边形 98"/>
          <p:cNvSpPr/>
          <p:nvPr/>
        </p:nvSpPr>
        <p:spPr>
          <a:xfrm>
            <a:off x="3888000" y="2500200"/>
            <a:ext cx="121680" cy="226080"/>
          </a:xfrm>
          <a:custGeom>
            <a:avLst/>
            <a:gdLst>
              <a:gd name="textAreaLeft" fmla="*/ 0 w 121680"/>
              <a:gd name="textAreaRight" fmla="*/ 122040 w 121680"/>
              <a:gd name="textAreaTop" fmla="*/ 0 h 226080"/>
              <a:gd name="textAreaBottom" fmla="*/ 226440 h 226080"/>
            </a:gdLst>
            <a:ahLst/>
            <a:rect l="textAreaLeft" t="textAreaTop" r="textAreaRight" b="textAreaBottom"/>
            <a:pathLst>
              <a:path w="122091" h="226263">
                <a:moveTo>
                  <a:pt x="29064" y="4"/>
                </a:moveTo>
                <a:cubicBezTo>
                  <a:pt x="49304" y="401"/>
                  <a:pt x="46130" y="38104"/>
                  <a:pt x="50496" y="61916"/>
                </a:cubicBezTo>
                <a:cubicBezTo>
                  <a:pt x="54862" y="85728"/>
                  <a:pt x="36208" y="120257"/>
                  <a:pt x="55258" y="142879"/>
                </a:cubicBezTo>
                <a:cubicBezTo>
                  <a:pt x="74308" y="165501"/>
                  <a:pt x="119155" y="155182"/>
                  <a:pt x="121933" y="169072"/>
                </a:cubicBezTo>
                <a:cubicBezTo>
                  <a:pt x="124711" y="182963"/>
                  <a:pt x="90183" y="227810"/>
                  <a:pt x="71927" y="226222"/>
                </a:cubicBezTo>
                <a:cubicBezTo>
                  <a:pt x="53671" y="224635"/>
                  <a:pt x="26683" y="189709"/>
                  <a:pt x="12396" y="159547"/>
                </a:cubicBezTo>
                <a:cubicBezTo>
                  <a:pt x="-1891" y="129385"/>
                  <a:pt x="-305" y="87712"/>
                  <a:pt x="489" y="59534"/>
                </a:cubicBezTo>
                <a:cubicBezTo>
                  <a:pt x="1283" y="31356"/>
                  <a:pt x="8824" y="-393"/>
                  <a:pt x="29064" y="4"/>
                </a:cubicBezTo>
                <a:close/>
              </a:path>
            </a:pathLst>
          </a:custGeom>
          <a:solidFill>
            <a:srgbClr val="898586"/>
          </a:solidFill>
          <a:ln>
            <a:solidFill>
              <a:srgbClr val="898586"/>
            </a:solidFill>
          </a:ln>
          <a:effectLst>
            <a:glow rad="6336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" name="任意多边形 99"/>
          <p:cNvSpPr/>
          <p:nvPr/>
        </p:nvSpPr>
        <p:spPr>
          <a:xfrm>
            <a:off x="3663360" y="1649880"/>
            <a:ext cx="583560" cy="524160"/>
          </a:xfrm>
          <a:custGeom>
            <a:avLst/>
            <a:gdLst>
              <a:gd name="textAreaLeft" fmla="*/ 0 w 583560"/>
              <a:gd name="textAreaRight" fmla="*/ 583920 w 58356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583940" h="524692">
                <a:moveTo>
                  <a:pt x="51474" y="340939"/>
                </a:moveTo>
                <a:cubicBezTo>
                  <a:pt x="78065" y="359195"/>
                  <a:pt x="130849" y="280614"/>
                  <a:pt x="165774" y="298077"/>
                </a:cubicBezTo>
                <a:cubicBezTo>
                  <a:pt x="200699" y="315539"/>
                  <a:pt x="207843" y="408011"/>
                  <a:pt x="261024" y="445714"/>
                </a:cubicBezTo>
                <a:cubicBezTo>
                  <a:pt x="314205" y="483417"/>
                  <a:pt x="437237" y="529454"/>
                  <a:pt x="484862" y="524295"/>
                </a:cubicBezTo>
                <a:cubicBezTo>
                  <a:pt x="532487" y="519136"/>
                  <a:pt x="531296" y="453652"/>
                  <a:pt x="546774" y="414758"/>
                </a:cubicBezTo>
                <a:cubicBezTo>
                  <a:pt x="562252" y="375864"/>
                  <a:pt x="598367" y="352845"/>
                  <a:pt x="577730" y="290933"/>
                </a:cubicBezTo>
                <a:cubicBezTo>
                  <a:pt x="557093" y="229021"/>
                  <a:pt x="543599" y="115117"/>
                  <a:pt x="422949" y="43283"/>
                </a:cubicBezTo>
                <a:cubicBezTo>
                  <a:pt x="302299" y="-28551"/>
                  <a:pt x="261819" y="4785"/>
                  <a:pt x="182444" y="31376"/>
                </a:cubicBezTo>
                <a:cubicBezTo>
                  <a:pt x="112594" y="57967"/>
                  <a:pt x="28058" y="136945"/>
                  <a:pt x="6230" y="188539"/>
                </a:cubicBezTo>
                <a:cubicBezTo>
                  <a:pt x="-15598" y="240133"/>
                  <a:pt x="24883" y="322683"/>
                  <a:pt x="51474" y="340939"/>
                </a:cubicBez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100000">
                <a:srgbClr val="808080"/>
              </a:gs>
            </a:gsLst>
            <a:lin ang="8100000"/>
          </a:gradFill>
          <a:ln>
            <a:noFill/>
          </a:ln>
          <a:effectLst>
            <a:glow rad="13968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" name="任意多边形 100"/>
          <p:cNvSpPr/>
          <p:nvPr/>
        </p:nvSpPr>
        <p:spPr>
          <a:xfrm>
            <a:off x="4205160" y="2112120"/>
            <a:ext cx="144720" cy="232200"/>
          </a:xfrm>
          <a:custGeom>
            <a:avLst/>
            <a:gdLst>
              <a:gd name="textAreaLeft" fmla="*/ 0 w 144720"/>
              <a:gd name="textAreaRight" fmla="*/ 145080 w 144720"/>
              <a:gd name="textAreaTop" fmla="*/ 0 h 232200"/>
              <a:gd name="textAreaBottom" fmla="*/ 232560 h 232200"/>
            </a:gdLst>
            <a:ahLst/>
            <a:rect l="textAreaLeft" t="textAreaTop" r="textAreaRight" b="textAreaBottom"/>
            <a:pathLst>
              <a:path w="144998" h="232525">
                <a:moveTo>
                  <a:pt x="46976" y="27"/>
                </a:moveTo>
                <a:cubicBezTo>
                  <a:pt x="89058" y="1680"/>
                  <a:pt x="89836" y="60559"/>
                  <a:pt x="95932" y="89515"/>
                </a:cubicBezTo>
                <a:cubicBezTo>
                  <a:pt x="102028" y="118471"/>
                  <a:pt x="75393" y="151990"/>
                  <a:pt x="83552" y="173763"/>
                </a:cubicBezTo>
                <a:cubicBezTo>
                  <a:pt x="91711" y="195536"/>
                  <a:pt x="147832" y="211666"/>
                  <a:pt x="144887" y="220151"/>
                </a:cubicBezTo>
                <a:cubicBezTo>
                  <a:pt x="141942" y="228636"/>
                  <a:pt x="95597" y="240673"/>
                  <a:pt x="65879" y="224671"/>
                </a:cubicBezTo>
                <a:cubicBezTo>
                  <a:pt x="36161" y="208669"/>
                  <a:pt x="3790" y="148480"/>
                  <a:pt x="640" y="111039"/>
                </a:cubicBezTo>
                <a:cubicBezTo>
                  <a:pt x="-2510" y="73598"/>
                  <a:pt x="4894" y="-1626"/>
                  <a:pt x="46976" y="27"/>
                </a:cubicBezTo>
                <a:close/>
              </a:path>
            </a:pathLst>
          </a:custGeom>
          <a:solidFill>
            <a:srgbClr val="807e7f"/>
          </a:solidFill>
          <a:ln>
            <a:solidFill>
              <a:srgbClr val="807e7f"/>
            </a:solidFill>
          </a:ln>
          <a:effectLst>
            <a:glow rad="6336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" name="任意多边形 101"/>
          <p:cNvSpPr/>
          <p:nvPr/>
        </p:nvSpPr>
        <p:spPr>
          <a:xfrm>
            <a:off x="3918240" y="1336680"/>
            <a:ext cx="509400" cy="402840"/>
          </a:xfrm>
          <a:custGeom>
            <a:avLst/>
            <a:gdLst>
              <a:gd name="textAreaLeft" fmla="*/ 0 w 509400"/>
              <a:gd name="textAreaRight" fmla="*/ 509760 w 509400"/>
              <a:gd name="textAreaTop" fmla="*/ 0 h 402840"/>
              <a:gd name="textAreaBottom" fmla="*/ 403200 h 402840"/>
            </a:gdLst>
            <a:ahLst/>
            <a:rect l="textAreaLeft" t="textAreaTop" r="textAreaRight" b="textAreaBottom"/>
            <a:pathLst>
              <a:path w="509776" h="403317">
                <a:moveTo>
                  <a:pt x="38109" y="282492"/>
                </a:moveTo>
                <a:cubicBezTo>
                  <a:pt x="77409" y="273758"/>
                  <a:pt x="116274" y="221357"/>
                  <a:pt x="148152" y="230090"/>
                </a:cubicBezTo>
                <a:cubicBezTo>
                  <a:pt x="180030" y="238823"/>
                  <a:pt x="188327" y="306071"/>
                  <a:pt x="229374" y="334892"/>
                </a:cubicBezTo>
                <a:cubicBezTo>
                  <a:pt x="270421" y="363713"/>
                  <a:pt x="349023" y="407381"/>
                  <a:pt x="394437" y="403014"/>
                </a:cubicBezTo>
                <a:cubicBezTo>
                  <a:pt x="439851" y="398647"/>
                  <a:pt x="488323" y="361530"/>
                  <a:pt x="501860" y="308692"/>
                </a:cubicBezTo>
                <a:cubicBezTo>
                  <a:pt x="515397" y="255854"/>
                  <a:pt x="514522" y="137078"/>
                  <a:pt x="475658" y="85987"/>
                </a:cubicBezTo>
                <a:cubicBezTo>
                  <a:pt x="436794" y="34896"/>
                  <a:pt x="350333" y="-10519"/>
                  <a:pt x="268675" y="2145"/>
                </a:cubicBezTo>
                <a:cubicBezTo>
                  <a:pt x="187017" y="14809"/>
                  <a:pt x="60818" y="94284"/>
                  <a:pt x="22390" y="141008"/>
                </a:cubicBezTo>
                <a:cubicBezTo>
                  <a:pt x="-16038" y="187733"/>
                  <a:pt x="-1191" y="259785"/>
                  <a:pt x="38109" y="282492"/>
                </a:cubicBez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100000">
                <a:srgbClr val="808080"/>
              </a:gs>
            </a:gsLst>
            <a:lin ang="8100000"/>
          </a:gradFill>
          <a:ln>
            <a:noFill/>
          </a:ln>
          <a:effectLst>
            <a:glow rad="13968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" name="任意多边形 102"/>
          <p:cNvSpPr/>
          <p:nvPr/>
        </p:nvSpPr>
        <p:spPr>
          <a:xfrm>
            <a:off x="4362840" y="1692000"/>
            <a:ext cx="138960" cy="299160"/>
          </a:xfrm>
          <a:custGeom>
            <a:avLst/>
            <a:gdLst>
              <a:gd name="textAreaLeft" fmla="*/ 0 w 138960"/>
              <a:gd name="textAreaRight" fmla="*/ 139320 w 138960"/>
              <a:gd name="textAreaTop" fmla="*/ 0 h 299160"/>
              <a:gd name="textAreaBottom" fmla="*/ 299520 h 299160"/>
            </a:gdLst>
            <a:ahLst/>
            <a:rect l="textAreaLeft" t="textAreaTop" r="textAreaRight" b="textAreaBottom"/>
            <a:pathLst>
              <a:path w="139301" h="299363">
                <a:moveTo>
                  <a:pt x="93960" y="8496"/>
                </a:moveTo>
                <a:cubicBezTo>
                  <a:pt x="173871" y="60024"/>
                  <a:pt x="60337" y="167010"/>
                  <a:pt x="67760" y="215481"/>
                </a:cubicBezTo>
                <a:cubicBezTo>
                  <a:pt x="75183" y="263952"/>
                  <a:pt x="147671" y="298450"/>
                  <a:pt x="138501" y="299323"/>
                </a:cubicBezTo>
                <a:cubicBezTo>
                  <a:pt x="129331" y="300196"/>
                  <a:pt x="46362" y="287532"/>
                  <a:pt x="12739" y="220721"/>
                </a:cubicBezTo>
                <a:cubicBezTo>
                  <a:pt x="-20884" y="153910"/>
                  <a:pt x="14049" y="-43032"/>
                  <a:pt x="93960" y="8496"/>
                </a:cubicBezTo>
                <a:close/>
              </a:path>
            </a:pathLst>
          </a:custGeom>
          <a:solidFill>
            <a:srgbClr val="312f30"/>
          </a:solidFill>
          <a:ln>
            <a:noFill/>
          </a:ln>
          <a:effectLst>
            <a:glow rad="6336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" name="任意多边形 103"/>
          <p:cNvSpPr/>
          <p:nvPr/>
        </p:nvSpPr>
        <p:spPr>
          <a:xfrm rot="20132400">
            <a:off x="4689000" y="1647000"/>
            <a:ext cx="98280" cy="209880"/>
          </a:xfrm>
          <a:custGeom>
            <a:avLst/>
            <a:gdLst>
              <a:gd name="textAreaLeft" fmla="*/ 0 w 98280"/>
              <a:gd name="textAreaRight" fmla="*/ 98640 w 98280"/>
              <a:gd name="textAreaTop" fmla="*/ 0 h 209880"/>
              <a:gd name="textAreaBottom" fmla="*/ 210240 h 209880"/>
            </a:gdLst>
            <a:ahLst/>
            <a:rect l="textAreaLeft" t="textAreaTop" r="textAreaRight" b="textAreaBottom"/>
            <a:pathLst>
              <a:path w="139301" h="299363">
                <a:moveTo>
                  <a:pt x="93960" y="8496"/>
                </a:moveTo>
                <a:cubicBezTo>
                  <a:pt x="173871" y="60024"/>
                  <a:pt x="60337" y="167010"/>
                  <a:pt x="67760" y="215481"/>
                </a:cubicBezTo>
                <a:cubicBezTo>
                  <a:pt x="75183" y="263952"/>
                  <a:pt x="147671" y="298450"/>
                  <a:pt x="138501" y="299323"/>
                </a:cubicBezTo>
                <a:cubicBezTo>
                  <a:pt x="129331" y="300196"/>
                  <a:pt x="46362" y="287532"/>
                  <a:pt x="12739" y="220721"/>
                </a:cubicBezTo>
                <a:cubicBezTo>
                  <a:pt x="-20884" y="153910"/>
                  <a:pt x="14049" y="-43032"/>
                  <a:pt x="93960" y="8496"/>
                </a:cubicBezTo>
                <a:close/>
              </a:path>
            </a:pathLst>
          </a:custGeom>
          <a:solidFill>
            <a:srgbClr val="312f30"/>
          </a:solidFill>
          <a:ln>
            <a:noFill/>
          </a:ln>
          <a:effectLst>
            <a:glow rad="6336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" name="任意多边形 104"/>
          <p:cNvSpPr/>
          <p:nvPr/>
        </p:nvSpPr>
        <p:spPr>
          <a:xfrm>
            <a:off x="4362120" y="1227960"/>
            <a:ext cx="411480" cy="420840"/>
          </a:xfrm>
          <a:custGeom>
            <a:avLst/>
            <a:gdLst>
              <a:gd name="textAreaLeft" fmla="*/ 0 w 411480"/>
              <a:gd name="textAreaRight" fmla="*/ 411840 w 41148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411903" h="421352">
                <a:moveTo>
                  <a:pt x="303" y="118683"/>
                </a:moveTo>
                <a:cubicBezTo>
                  <a:pt x="-5810" y="164098"/>
                  <a:pt x="82399" y="139645"/>
                  <a:pt x="102486" y="168465"/>
                </a:cubicBezTo>
                <a:cubicBezTo>
                  <a:pt x="122573" y="197285"/>
                  <a:pt x="99429" y="250559"/>
                  <a:pt x="120826" y="291606"/>
                </a:cubicBezTo>
                <a:cubicBezTo>
                  <a:pt x="142223" y="332653"/>
                  <a:pt x="192441" y="400340"/>
                  <a:pt x="230868" y="414750"/>
                </a:cubicBezTo>
                <a:cubicBezTo>
                  <a:pt x="269295" y="429160"/>
                  <a:pt x="321260" y="421300"/>
                  <a:pt x="351391" y="378069"/>
                </a:cubicBezTo>
                <a:cubicBezTo>
                  <a:pt x="381522" y="334838"/>
                  <a:pt x="415146" y="213442"/>
                  <a:pt x="411653" y="155364"/>
                </a:cubicBezTo>
                <a:cubicBezTo>
                  <a:pt x="408160" y="97286"/>
                  <a:pt x="380212" y="53619"/>
                  <a:pt x="330431" y="29602"/>
                </a:cubicBezTo>
                <a:cubicBezTo>
                  <a:pt x="280650" y="5585"/>
                  <a:pt x="194187" y="-8826"/>
                  <a:pt x="139166" y="6021"/>
                </a:cubicBezTo>
                <a:cubicBezTo>
                  <a:pt x="84145" y="20868"/>
                  <a:pt x="6416" y="73268"/>
                  <a:pt x="303" y="118683"/>
                </a:cubicBez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100000">
                <a:srgbClr val="808080"/>
              </a:gs>
            </a:gsLst>
            <a:lin ang="8100000"/>
          </a:gradFill>
          <a:ln>
            <a:noFill/>
          </a:ln>
          <a:effectLst>
            <a:glow rad="13968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" name="任意多边形 105"/>
          <p:cNvSpPr/>
          <p:nvPr/>
        </p:nvSpPr>
        <p:spPr>
          <a:xfrm>
            <a:off x="4813560" y="1191960"/>
            <a:ext cx="371880" cy="315360"/>
          </a:xfrm>
          <a:custGeom>
            <a:avLst/>
            <a:gdLst>
              <a:gd name="textAreaLeft" fmla="*/ 0 w 371880"/>
              <a:gd name="textAreaRight" fmla="*/ 372240 w 371880"/>
              <a:gd name="textAreaTop" fmla="*/ 0 h 315360"/>
              <a:gd name="textAreaBottom" fmla="*/ 315720 h 315360"/>
            </a:gdLst>
            <a:ahLst/>
            <a:rect l="textAreaLeft" t="textAreaTop" r="textAreaRight" b="textAreaBottom"/>
            <a:pathLst>
              <a:path w="372262" h="315665">
                <a:moveTo>
                  <a:pt x="9932" y="94363"/>
                </a:moveTo>
                <a:cubicBezTo>
                  <a:pt x="27399" y="52442"/>
                  <a:pt x="92464" y="-1706"/>
                  <a:pt x="151415" y="41"/>
                </a:cubicBezTo>
                <a:cubicBezTo>
                  <a:pt x="210366" y="1788"/>
                  <a:pt x="338749" y="53315"/>
                  <a:pt x="363639" y="104843"/>
                </a:cubicBezTo>
                <a:cubicBezTo>
                  <a:pt x="388529" y="156371"/>
                  <a:pt x="357089" y="284754"/>
                  <a:pt x="300758" y="309208"/>
                </a:cubicBezTo>
                <a:cubicBezTo>
                  <a:pt x="244427" y="333662"/>
                  <a:pt x="99013" y="283008"/>
                  <a:pt x="46612" y="251567"/>
                </a:cubicBezTo>
                <a:cubicBezTo>
                  <a:pt x="-5789" y="220126"/>
                  <a:pt x="-7535" y="136284"/>
                  <a:pt x="9932" y="94363"/>
                </a:cubicBez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100000">
                <a:srgbClr val="808080"/>
              </a:gs>
            </a:gsLst>
            <a:lin ang="8100000"/>
          </a:gradFill>
          <a:ln>
            <a:noFill/>
          </a:ln>
          <a:effectLst>
            <a:glow rad="13968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" name="任意多边形 106"/>
          <p:cNvSpPr/>
          <p:nvPr/>
        </p:nvSpPr>
        <p:spPr>
          <a:xfrm>
            <a:off x="5420880" y="1106280"/>
            <a:ext cx="576000" cy="311400"/>
          </a:xfrm>
          <a:custGeom>
            <a:avLst/>
            <a:gdLst>
              <a:gd name="textAreaLeft" fmla="*/ 0 w 576000"/>
              <a:gd name="textAreaRight" fmla="*/ 576360 w 57600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576264" h="311703">
                <a:moveTo>
                  <a:pt x="15640" y="308546"/>
                </a:moveTo>
                <a:cubicBezTo>
                  <a:pt x="45334" y="325576"/>
                  <a:pt x="174154" y="268372"/>
                  <a:pt x="240965" y="264005"/>
                </a:cubicBezTo>
                <a:cubicBezTo>
                  <a:pt x="307776" y="259638"/>
                  <a:pt x="366291" y="301995"/>
                  <a:pt x="416509" y="282345"/>
                </a:cubicBezTo>
                <a:cubicBezTo>
                  <a:pt x="466727" y="262695"/>
                  <a:pt x="526987" y="172302"/>
                  <a:pt x="542271" y="146102"/>
                </a:cubicBezTo>
                <a:cubicBezTo>
                  <a:pt x="557555" y="119902"/>
                  <a:pt x="502971" y="141299"/>
                  <a:pt x="508211" y="125142"/>
                </a:cubicBezTo>
                <a:cubicBezTo>
                  <a:pt x="513451" y="108985"/>
                  <a:pt x="591179" y="69247"/>
                  <a:pt x="573712" y="49160"/>
                </a:cubicBezTo>
                <a:cubicBezTo>
                  <a:pt x="556245" y="29073"/>
                  <a:pt x="495547" y="-14158"/>
                  <a:pt x="403408" y="4619"/>
                </a:cubicBezTo>
                <a:cubicBezTo>
                  <a:pt x="311269" y="23396"/>
                  <a:pt x="128739" y="112478"/>
                  <a:pt x="62801" y="161823"/>
                </a:cubicBezTo>
                <a:cubicBezTo>
                  <a:pt x="-3137" y="211167"/>
                  <a:pt x="-14054" y="291516"/>
                  <a:pt x="15640" y="308546"/>
                </a:cubicBezTo>
                <a:close/>
              </a:path>
            </a:pathLst>
          </a:custGeom>
          <a:solidFill>
            <a:srgbClr val="3f3b40"/>
          </a:solidFill>
          <a:ln>
            <a:solidFill>
              <a:srgbClr val="2a2829"/>
            </a:solidFill>
          </a:ln>
          <a:effectLst>
            <a:glow rad="22860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" name="任意多边形 107"/>
          <p:cNvSpPr/>
          <p:nvPr/>
        </p:nvSpPr>
        <p:spPr>
          <a:xfrm>
            <a:off x="5433480" y="1431720"/>
            <a:ext cx="477000" cy="164160"/>
          </a:xfrm>
          <a:custGeom>
            <a:avLst/>
            <a:gdLst>
              <a:gd name="textAreaLeft" fmla="*/ 0 w 477000"/>
              <a:gd name="textAreaRight" fmla="*/ 477360 w 477000"/>
              <a:gd name="textAreaTop" fmla="*/ 0 h 164160"/>
              <a:gd name="textAreaBottom" fmla="*/ 164520 h 164160"/>
            </a:gdLst>
            <a:ahLst/>
            <a:rect l="textAreaLeft" t="textAreaTop" r="textAreaRight" b="textAreaBottom"/>
            <a:pathLst>
              <a:path w="477355" h="164601">
                <a:moveTo>
                  <a:pt x="5752" y="27537"/>
                </a:moveTo>
                <a:cubicBezTo>
                  <a:pt x="32389" y="48497"/>
                  <a:pt x="184353" y="69894"/>
                  <a:pt x="270378" y="127099"/>
                </a:cubicBezTo>
                <a:cubicBezTo>
                  <a:pt x="356403" y="184304"/>
                  <a:pt x="458585" y="162033"/>
                  <a:pt x="474742" y="150680"/>
                </a:cubicBezTo>
                <a:cubicBezTo>
                  <a:pt x="490899" y="139327"/>
                  <a:pt x="429328" y="83869"/>
                  <a:pt x="367320" y="58978"/>
                </a:cubicBezTo>
                <a:cubicBezTo>
                  <a:pt x="305312" y="34087"/>
                  <a:pt x="170815" y="6576"/>
                  <a:pt x="110554" y="1336"/>
                </a:cubicBezTo>
                <a:cubicBezTo>
                  <a:pt x="50293" y="-3904"/>
                  <a:pt x="-20885" y="6577"/>
                  <a:pt x="5752" y="27537"/>
                </a:cubicBezTo>
                <a:close/>
              </a:path>
            </a:pathLst>
          </a:custGeom>
          <a:solidFill>
            <a:srgbClr val="3f3b40"/>
          </a:solidFill>
          <a:ln>
            <a:solidFill>
              <a:srgbClr val="2a2829"/>
            </a:solidFill>
          </a:ln>
          <a:effectLst>
            <a:glow rad="22860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" name="任意多边形 108"/>
          <p:cNvSpPr/>
          <p:nvPr/>
        </p:nvSpPr>
        <p:spPr>
          <a:xfrm>
            <a:off x="5347440" y="1467000"/>
            <a:ext cx="550080" cy="464400"/>
          </a:xfrm>
          <a:custGeom>
            <a:avLst/>
            <a:gdLst>
              <a:gd name="textAreaLeft" fmla="*/ 0 w 550080"/>
              <a:gd name="textAreaRight" fmla="*/ 550440 w 550080"/>
              <a:gd name="textAreaTop" fmla="*/ 0 h 464400"/>
              <a:gd name="textAreaBottom" fmla="*/ 464760 h 464400"/>
            </a:gdLst>
            <a:ahLst/>
            <a:rect l="textAreaLeft" t="textAreaTop" r="textAreaRight" b="textAreaBottom"/>
            <a:pathLst>
              <a:path w="550475" h="464801">
                <a:moveTo>
                  <a:pt x="55209" y="404"/>
                </a:moveTo>
                <a:cubicBezTo>
                  <a:pt x="88833" y="-3526"/>
                  <a:pt x="153898" y="21365"/>
                  <a:pt x="212413" y="65906"/>
                </a:cubicBezTo>
                <a:cubicBezTo>
                  <a:pt x="270928" y="110447"/>
                  <a:pt x="349966" y="221799"/>
                  <a:pt x="406297" y="267650"/>
                </a:cubicBezTo>
                <a:cubicBezTo>
                  <a:pt x="462628" y="313501"/>
                  <a:pt x="553457" y="308261"/>
                  <a:pt x="550400" y="341012"/>
                </a:cubicBezTo>
                <a:cubicBezTo>
                  <a:pt x="547343" y="373763"/>
                  <a:pt x="439920" y="473761"/>
                  <a:pt x="387956" y="464154"/>
                </a:cubicBezTo>
                <a:cubicBezTo>
                  <a:pt x="335992" y="454547"/>
                  <a:pt x="312412" y="425289"/>
                  <a:pt x="238614" y="361971"/>
                </a:cubicBezTo>
                <a:cubicBezTo>
                  <a:pt x="164816" y="298653"/>
                  <a:pt x="41236" y="149747"/>
                  <a:pt x="10668" y="89486"/>
                </a:cubicBezTo>
                <a:cubicBezTo>
                  <a:pt x="-19900" y="29225"/>
                  <a:pt x="21585" y="4334"/>
                  <a:pt x="55209" y="404"/>
                </a:cubicBezTo>
                <a:close/>
              </a:path>
            </a:pathLst>
          </a:custGeom>
          <a:solidFill>
            <a:srgbClr val="3f3b40"/>
          </a:solidFill>
          <a:ln>
            <a:solidFill>
              <a:srgbClr val="2a2829"/>
            </a:solidFill>
          </a:ln>
          <a:effectLst>
            <a:glow rad="22860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" name="任意多边形 109"/>
          <p:cNvSpPr/>
          <p:nvPr/>
        </p:nvSpPr>
        <p:spPr>
          <a:xfrm>
            <a:off x="5193720" y="1257120"/>
            <a:ext cx="240120" cy="286200"/>
          </a:xfrm>
          <a:custGeom>
            <a:avLst/>
            <a:gdLst>
              <a:gd name="textAreaLeft" fmla="*/ 0 w 240120"/>
              <a:gd name="textAreaRight" fmla="*/ 240480 w 240120"/>
              <a:gd name="textAreaTop" fmla="*/ 0 h 286200"/>
              <a:gd name="textAreaBottom" fmla="*/ 286560 h 286200"/>
            </a:gdLst>
            <a:ahLst/>
            <a:rect l="textAreaLeft" t="textAreaTop" r="textAreaRight" b="textAreaBottom"/>
            <a:pathLst>
              <a:path w="240575" h="286655">
                <a:moveTo>
                  <a:pt x="1825" y="8236"/>
                </a:moveTo>
                <a:cubicBezTo>
                  <a:pt x="-7782" y="28323"/>
                  <a:pt x="22785" y="109982"/>
                  <a:pt x="41125" y="149719"/>
                </a:cubicBezTo>
                <a:cubicBezTo>
                  <a:pt x="59465" y="189457"/>
                  <a:pt x="86103" y="224827"/>
                  <a:pt x="111867" y="246661"/>
                </a:cubicBezTo>
                <a:cubicBezTo>
                  <a:pt x="137631" y="268495"/>
                  <a:pt x="175345" y="299849"/>
                  <a:pt x="195709" y="280722"/>
                </a:cubicBezTo>
                <a:cubicBezTo>
                  <a:pt x="216073" y="261595"/>
                  <a:pt x="256321" y="176879"/>
                  <a:pt x="234051" y="131901"/>
                </a:cubicBezTo>
                <a:cubicBezTo>
                  <a:pt x="211781" y="86923"/>
                  <a:pt x="137471" y="49807"/>
                  <a:pt x="98767" y="29196"/>
                </a:cubicBezTo>
                <a:cubicBezTo>
                  <a:pt x="60063" y="8585"/>
                  <a:pt x="11432" y="-11851"/>
                  <a:pt x="1825" y="8236"/>
                </a:cubicBezTo>
                <a:close/>
              </a:path>
            </a:pathLst>
          </a:custGeom>
          <a:solidFill>
            <a:srgbClr val="3f3b40"/>
          </a:solidFill>
          <a:ln>
            <a:noFill/>
          </a:ln>
          <a:effectLst>
            <a:glow rad="22860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" name="任意多边形 110"/>
          <p:cNvSpPr/>
          <p:nvPr/>
        </p:nvSpPr>
        <p:spPr>
          <a:xfrm>
            <a:off x="4960800" y="1533600"/>
            <a:ext cx="168120" cy="209520"/>
          </a:xfrm>
          <a:custGeom>
            <a:avLst/>
            <a:gdLst>
              <a:gd name="textAreaLeft" fmla="*/ 0 w 168120"/>
              <a:gd name="textAreaRight" fmla="*/ 168480 w 1681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68415" h="209796">
                <a:moveTo>
                  <a:pt x="62922" y="386"/>
                </a:moveTo>
                <a:cubicBezTo>
                  <a:pt x="81699" y="3879"/>
                  <a:pt x="113576" y="31825"/>
                  <a:pt x="112703" y="71126"/>
                </a:cubicBezTo>
                <a:cubicBezTo>
                  <a:pt x="111830" y="110427"/>
                  <a:pt x="95673" y="137502"/>
                  <a:pt x="104843" y="157589"/>
                </a:cubicBezTo>
                <a:cubicBezTo>
                  <a:pt x="114013" y="177676"/>
                  <a:pt x="175584" y="185100"/>
                  <a:pt x="167724" y="191650"/>
                </a:cubicBezTo>
                <a:cubicBezTo>
                  <a:pt x="159864" y="198200"/>
                  <a:pt x="102658" y="225710"/>
                  <a:pt x="57681" y="196890"/>
                </a:cubicBezTo>
                <a:cubicBezTo>
                  <a:pt x="12704" y="168070"/>
                  <a:pt x="-835" y="82918"/>
                  <a:pt x="39" y="50167"/>
                </a:cubicBezTo>
                <a:cubicBezTo>
                  <a:pt x="913" y="17416"/>
                  <a:pt x="44145" y="-3107"/>
                  <a:pt x="62922" y="386"/>
                </a:cubicBezTo>
                <a:close/>
              </a:path>
            </a:pathLst>
          </a:custGeom>
          <a:solidFill>
            <a:srgbClr val="312f30"/>
          </a:solidFill>
          <a:ln>
            <a:noFill/>
          </a:ln>
          <a:effectLst>
            <a:glow rad="6336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" name="任意多边形 111"/>
          <p:cNvSpPr/>
          <p:nvPr/>
        </p:nvSpPr>
        <p:spPr>
          <a:xfrm rot="20927400">
            <a:off x="3643920" y="2676240"/>
            <a:ext cx="199080" cy="866520"/>
          </a:xfrm>
          <a:custGeom>
            <a:avLst/>
            <a:gdLst>
              <a:gd name="textAreaLeft" fmla="*/ 0 w 199080"/>
              <a:gd name="textAreaRight" fmla="*/ 199440 w 199080"/>
              <a:gd name="textAreaTop" fmla="*/ 0 h 866520"/>
              <a:gd name="textAreaBottom" fmla="*/ 866880 h 866520"/>
            </a:gdLst>
            <a:ahLst/>
            <a:rect l="textAreaLeft" t="textAreaTop" r="textAreaRight" b="textAreaBottom"/>
            <a:pathLst>
              <a:path w="199277" h="866775">
                <a:moveTo>
                  <a:pt x="8777" y="0"/>
                </a:moveTo>
                <a:cubicBezTo>
                  <a:pt x="-32498" y="327025"/>
                  <a:pt x="78627" y="558800"/>
                  <a:pt x="199277" y="866775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任意多边形 113"/>
          <p:cNvSpPr/>
          <p:nvPr/>
        </p:nvSpPr>
        <p:spPr>
          <a:xfrm>
            <a:off x="3628080" y="4604040"/>
            <a:ext cx="1665000" cy="4333320"/>
          </a:xfrm>
          <a:custGeom>
            <a:avLst/>
            <a:gdLst>
              <a:gd name="textAreaLeft" fmla="*/ 0 w 1665000"/>
              <a:gd name="textAreaRight" fmla="*/ 1665360 w 1665000"/>
              <a:gd name="textAreaTop" fmla="*/ 0 h 4333320"/>
              <a:gd name="textAreaBottom" fmla="*/ 4333680 h 4333320"/>
            </a:gdLst>
            <a:ahLst/>
            <a:rect l="textAreaLeft" t="textAreaTop" r="textAreaRight" b="textAreaBottom"/>
            <a:pathLst>
              <a:path w="1412724" h="3676650">
                <a:moveTo>
                  <a:pt x="574524" y="0"/>
                </a:moveTo>
                <a:cubicBezTo>
                  <a:pt x="52236" y="417512"/>
                  <a:pt x="-89051" y="1177925"/>
                  <a:pt x="50649" y="1790700"/>
                </a:cubicBezTo>
                <a:cubicBezTo>
                  <a:pt x="190349" y="2403475"/>
                  <a:pt x="677711" y="3125787"/>
                  <a:pt x="1412724" y="3676650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任意多边形 114"/>
          <p:cNvSpPr/>
          <p:nvPr/>
        </p:nvSpPr>
        <p:spPr>
          <a:xfrm>
            <a:off x="4638240" y="4727520"/>
            <a:ext cx="4853520" cy="2694240"/>
          </a:xfrm>
          <a:custGeom>
            <a:avLst/>
            <a:gdLst>
              <a:gd name="textAreaLeft" fmla="*/ 0 w 4853520"/>
              <a:gd name="textAreaRight" fmla="*/ 4853880 w 4853520"/>
              <a:gd name="textAreaTop" fmla="*/ 0 h 2694240"/>
              <a:gd name="textAreaBottom" fmla="*/ 2694600 h 2694240"/>
            </a:gdLst>
            <a:ahLst/>
            <a:rect l="textAreaLeft" t="textAreaTop" r="textAreaRight" b="textAreaBottom"/>
            <a:pathLst>
              <a:path w="4118058" h="2286000">
                <a:moveTo>
                  <a:pt x="3258" y="0"/>
                </a:moveTo>
                <a:cubicBezTo>
                  <a:pt x="-44367" y="652462"/>
                  <a:pt x="431883" y="1457325"/>
                  <a:pt x="1308183" y="1809750"/>
                </a:cubicBezTo>
                <a:cubicBezTo>
                  <a:pt x="2184483" y="2162175"/>
                  <a:pt x="3089358" y="2233612"/>
                  <a:pt x="4118058" y="2286000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任意多边形 115"/>
          <p:cNvSpPr/>
          <p:nvPr/>
        </p:nvSpPr>
        <p:spPr>
          <a:xfrm>
            <a:off x="2699640" y="4177440"/>
            <a:ext cx="1571400" cy="426960"/>
          </a:xfrm>
          <a:custGeom>
            <a:avLst/>
            <a:gdLst>
              <a:gd name="textAreaLeft" fmla="*/ 0 w 1571400"/>
              <a:gd name="textAreaRight" fmla="*/ 1571760 w 157140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1333500" h="362418">
                <a:moveTo>
                  <a:pt x="1333500" y="247650"/>
                </a:moveTo>
                <a:cubicBezTo>
                  <a:pt x="1087437" y="354806"/>
                  <a:pt x="946150" y="365125"/>
                  <a:pt x="685800" y="361950"/>
                </a:cubicBezTo>
                <a:cubicBezTo>
                  <a:pt x="425450" y="358775"/>
                  <a:pt x="198437" y="173831"/>
                  <a:pt x="0" y="0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任意多边形 116"/>
          <p:cNvSpPr/>
          <p:nvPr/>
        </p:nvSpPr>
        <p:spPr>
          <a:xfrm>
            <a:off x="3036600" y="4525560"/>
            <a:ext cx="1380600" cy="1515240"/>
          </a:xfrm>
          <a:custGeom>
            <a:avLst/>
            <a:gdLst>
              <a:gd name="textAreaLeft" fmla="*/ 0 w 1380600"/>
              <a:gd name="textAreaRight" fmla="*/ 1380960 w 1380600"/>
              <a:gd name="textAreaTop" fmla="*/ 0 h 1515240"/>
              <a:gd name="textAreaBottom" fmla="*/ 1515600 h 1515240"/>
            </a:gdLst>
            <a:ahLst/>
            <a:rect l="textAreaLeft" t="textAreaTop" r="textAreaRight" b="textAreaBottom"/>
            <a:pathLst>
              <a:path w="1171575" h="1285875">
                <a:moveTo>
                  <a:pt x="1171575" y="0"/>
                </a:moveTo>
                <a:cubicBezTo>
                  <a:pt x="916781" y="150019"/>
                  <a:pt x="671512" y="233363"/>
                  <a:pt x="466725" y="514350"/>
                </a:cubicBezTo>
                <a:cubicBezTo>
                  <a:pt x="261938" y="795337"/>
                  <a:pt x="0" y="1285875"/>
                  <a:pt x="0" y="1285875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任意多边形 117"/>
          <p:cNvSpPr/>
          <p:nvPr/>
        </p:nvSpPr>
        <p:spPr>
          <a:xfrm>
            <a:off x="3317400" y="4547880"/>
            <a:ext cx="1055160" cy="1807200"/>
          </a:xfrm>
          <a:custGeom>
            <a:avLst/>
            <a:gdLst>
              <a:gd name="textAreaLeft" fmla="*/ 0 w 1055160"/>
              <a:gd name="textAreaRight" fmla="*/ 1055520 w 1055160"/>
              <a:gd name="textAreaTop" fmla="*/ 0 h 1807200"/>
              <a:gd name="textAreaBottom" fmla="*/ 1807560 h 1807200"/>
            </a:gdLst>
            <a:ahLst/>
            <a:rect l="textAreaLeft" t="textAreaTop" r="textAreaRight" b="textAreaBottom"/>
            <a:pathLst>
              <a:path w="895350" h="1533525">
                <a:moveTo>
                  <a:pt x="895350" y="0"/>
                </a:moveTo>
                <a:cubicBezTo>
                  <a:pt x="665162" y="186531"/>
                  <a:pt x="406400" y="420688"/>
                  <a:pt x="257175" y="676275"/>
                </a:cubicBezTo>
                <a:cubicBezTo>
                  <a:pt x="107950" y="931863"/>
                  <a:pt x="1587" y="1208881"/>
                  <a:pt x="0" y="1533525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118"/>
          <p:cNvSpPr/>
          <p:nvPr/>
        </p:nvSpPr>
        <p:spPr>
          <a:xfrm>
            <a:off x="3962520" y="4545360"/>
            <a:ext cx="494640" cy="1010160"/>
          </a:xfrm>
          <a:custGeom>
            <a:avLst/>
            <a:gdLst>
              <a:gd name="textAreaLeft" fmla="*/ 0 w 494640"/>
              <a:gd name="textAreaRight" fmla="*/ 495000 w 494640"/>
              <a:gd name="textAreaTop" fmla="*/ 0 h 1010160"/>
              <a:gd name="textAreaBottom" fmla="*/ 1010520 h 1010160"/>
            </a:gdLst>
            <a:ahLst/>
            <a:rect l="textAreaLeft" t="textAreaTop" r="textAreaRight" b="textAreaBottom"/>
            <a:pathLst>
              <a:path w="247650" h="657225">
                <a:moveTo>
                  <a:pt x="247650" y="0"/>
                </a:moveTo>
                <a:cubicBezTo>
                  <a:pt x="127000" y="219075"/>
                  <a:pt x="34925" y="419100"/>
                  <a:pt x="0" y="657225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任意多边形 119"/>
          <p:cNvSpPr/>
          <p:nvPr/>
        </p:nvSpPr>
        <p:spPr>
          <a:xfrm>
            <a:off x="4472280" y="4587840"/>
            <a:ext cx="124560" cy="1043640"/>
          </a:xfrm>
          <a:custGeom>
            <a:avLst/>
            <a:gdLst>
              <a:gd name="textAreaLeft" fmla="*/ 0 w 124560"/>
              <a:gd name="textAreaRight" fmla="*/ 124920 w 124560"/>
              <a:gd name="textAreaTop" fmla="*/ 0 h 1043640"/>
              <a:gd name="textAreaBottom" fmla="*/ 1044000 h 1043640"/>
            </a:gdLst>
            <a:ahLst/>
            <a:rect l="textAreaLeft" t="textAreaTop" r="textAreaRight" b="textAreaBottom"/>
            <a:pathLst>
              <a:path w="106092" h="885825">
                <a:moveTo>
                  <a:pt x="106092" y="0"/>
                </a:moveTo>
                <a:cubicBezTo>
                  <a:pt x="-14558" y="219075"/>
                  <a:pt x="-30433" y="647700"/>
                  <a:pt x="48942" y="885825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任意多边形 120"/>
          <p:cNvSpPr/>
          <p:nvPr/>
        </p:nvSpPr>
        <p:spPr>
          <a:xfrm>
            <a:off x="5317920" y="4213800"/>
            <a:ext cx="232920" cy="1209600"/>
          </a:xfrm>
          <a:custGeom>
            <a:avLst/>
            <a:gdLst>
              <a:gd name="textAreaLeft" fmla="*/ 0 w 232920"/>
              <a:gd name="textAreaRight" fmla="*/ 233280 w 23292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98017" h="1026379">
                <a:moveTo>
                  <a:pt x="47418" y="0"/>
                </a:moveTo>
                <a:cubicBezTo>
                  <a:pt x="-80309" y="297099"/>
                  <a:pt x="77367" y="718404"/>
                  <a:pt x="198017" y="1026379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121"/>
          <p:cNvGrpSpPr/>
          <p:nvPr/>
        </p:nvGrpSpPr>
        <p:grpSpPr>
          <a:xfrm>
            <a:off x="3915720" y="3741120"/>
            <a:ext cx="2982240" cy="2314800"/>
            <a:chOff x="3915720" y="3741120"/>
            <a:chExt cx="2982240" cy="2314800"/>
          </a:xfrm>
        </p:grpSpPr>
        <p:sp>
          <p:nvSpPr>
            <p:cNvPr id="88" name="任意多边形 144"/>
            <p:cNvSpPr/>
            <p:nvPr/>
          </p:nvSpPr>
          <p:spPr>
            <a:xfrm rot="20148600">
              <a:off x="4021920" y="4424400"/>
              <a:ext cx="2769480" cy="1113120"/>
            </a:xfrm>
            <a:custGeom>
              <a:avLst/>
              <a:gdLst>
                <a:gd name="textAreaLeft" fmla="*/ 0 w 2769480"/>
                <a:gd name="textAreaRight" fmla="*/ 2769840 w 2769480"/>
                <a:gd name="textAreaTop" fmla="*/ 0 h 1113120"/>
                <a:gd name="textAreaBottom" fmla="*/ 1113480 h 1113120"/>
              </a:gdLst>
              <a:ahLst/>
              <a:rect l="textAreaLeft" t="textAreaTop" r="textAreaRight" b="textAreaBottom"/>
              <a:pathLst>
                <a:path w="2349824" h="944641">
                  <a:moveTo>
                    <a:pt x="2347357" y="24117"/>
                  </a:moveTo>
                  <a:cubicBezTo>
                    <a:pt x="2357919" y="926"/>
                    <a:pt x="2337336" y="-23872"/>
                    <a:pt x="2231217" y="44848"/>
                  </a:cubicBezTo>
                  <a:cubicBezTo>
                    <a:pt x="2125098" y="113568"/>
                    <a:pt x="1914000" y="310217"/>
                    <a:pt x="1710644" y="436438"/>
                  </a:cubicBezTo>
                  <a:cubicBezTo>
                    <a:pt x="1506820" y="559854"/>
                    <a:pt x="1236147" y="707578"/>
                    <a:pt x="1118808" y="778636"/>
                  </a:cubicBezTo>
                  <a:cubicBezTo>
                    <a:pt x="1001469" y="849694"/>
                    <a:pt x="1043076" y="850629"/>
                    <a:pt x="1006612" y="862784"/>
                  </a:cubicBezTo>
                  <a:cubicBezTo>
                    <a:pt x="970148" y="874939"/>
                    <a:pt x="937424" y="877276"/>
                    <a:pt x="883196" y="868394"/>
                  </a:cubicBezTo>
                  <a:cubicBezTo>
                    <a:pt x="828968" y="859512"/>
                    <a:pt x="725187" y="827256"/>
                    <a:pt x="681243" y="809492"/>
                  </a:cubicBezTo>
                  <a:cubicBezTo>
                    <a:pt x="637299" y="791728"/>
                    <a:pt x="684982" y="795467"/>
                    <a:pt x="619534" y="761808"/>
                  </a:cubicBezTo>
                  <a:cubicBezTo>
                    <a:pt x="554086" y="728149"/>
                    <a:pt x="351666" y="632315"/>
                    <a:pt x="288556" y="607538"/>
                  </a:cubicBezTo>
                  <a:cubicBezTo>
                    <a:pt x="225446" y="582761"/>
                    <a:pt x="208148" y="588838"/>
                    <a:pt x="240872" y="613147"/>
                  </a:cubicBezTo>
                  <a:cubicBezTo>
                    <a:pt x="273596" y="637456"/>
                    <a:pt x="487704" y="726279"/>
                    <a:pt x="484899" y="753393"/>
                  </a:cubicBezTo>
                  <a:cubicBezTo>
                    <a:pt x="482094" y="780507"/>
                    <a:pt x="298841" y="780039"/>
                    <a:pt x="224043" y="775832"/>
                  </a:cubicBezTo>
                  <a:cubicBezTo>
                    <a:pt x="149246" y="771625"/>
                    <a:pt x="71175" y="731421"/>
                    <a:pt x="36114" y="728149"/>
                  </a:cubicBezTo>
                  <a:cubicBezTo>
                    <a:pt x="1053" y="724877"/>
                    <a:pt x="-12504" y="743576"/>
                    <a:pt x="13675" y="756198"/>
                  </a:cubicBezTo>
                  <a:cubicBezTo>
                    <a:pt x="39854" y="768820"/>
                    <a:pt x="125871" y="795934"/>
                    <a:pt x="193189" y="803881"/>
                  </a:cubicBezTo>
                  <a:cubicBezTo>
                    <a:pt x="260507" y="811828"/>
                    <a:pt x="301178" y="785649"/>
                    <a:pt x="417582" y="803881"/>
                  </a:cubicBezTo>
                  <a:cubicBezTo>
                    <a:pt x="533986" y="822113"/>
                    <a:pt x="786895" y="890834"/>
                    <a:pt x="891611" y="913273"/>
                  </a:cubicBezTo>
                  <a:cubicBezTo>
                    <a:pt x="996327" y="935712"/>
                    <a:pt x="991185" y="954879"/>
                    <a:pt x="1045881" y="938517"/>
                  </a:cubicBezTo>
                  <a:cubicBezTo>
                    <a:pt x="1100577" y="922155"/>
                    <a:pt x="1219785" y="815101"/>
                    <a:pt x="1219785" y="815101"/>
                  </a:cubicBezTo>
                  <a:lnTo>
                    <a:pt x="1724669" y="475707"/>
                  </a:lnTo>
                  <a:cubicBezTo>
                    <a:pt x="1882679" y="370523"/>
                    <a:pt x="2059855" y="260197"/>
                    <a:pt x="2167844" y="183997"/>
                  </a:cubicBezTo>
                  <a:cubicBezTo>
                    <a:pt x="2275833" y="107797"/>
                    <a:pt x="2336795" y="47308"/>
                    <a:pt x="2347357" y="24117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" name="任意多边形 145"/>
            <p:cNvSpPr/>
            <p:nvPr/>
          </p:nvSpPr>
          <p:spPr>
            <a:xfrm rot="20148600">
              <a:off x="5079240" y="4022640"/>
              <a:ext cx="1425960" cy="241200"/>
            </a:xfrm>
            <a:custGeom>
              <a:avLst/>
              <a:gdLst>
                <a:gd name="textAreaLeft" fmla="*/ 0 w 1425960"/>
                <a:gd name="textAreaRight" fmla="*/ 1426320 w 142596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210025" h="204822">
                  <a:moveTo>
                    <a:pt x="12396" y="62144"/>
                  </a:moveTo>
                  <a:cubicBezTo>
                    <a:pt x="46055" y="76636"/>
                    <a:pt x="188169" y="85986"/>
                    <a:pt x="259227" y="87388"/>
                  </a:cubicBezTo>
                  <a:cubicBezTo>
                    <a:pt x="330285" y="88790"/>
                    <a:pt x="320001" y="61209"/>
                    <a:pt x="438742" y="70559"/>
                  </a:cubicBezTo>
                  <a:cubicBezTo>
                    <a:pt x="557483" y="79909"/>
                    <a:pt x="865555" y="121514"/>
                    <a:pt x="971674" y="143486"/>
                  </a:cubicBezTo>
                  <a:cubicBezTo>
                    <a:pt x="1077793" y="165458"/>
                    <a:pt x="1036187" y="194910"/>
                    <a:pt x="1075456" y="202390"/>
                  </a:cubicBezTo>
                  <a:cubicBezTo>
                    <a:pt x="1114725" y="209870"/>
                    <a:pt x="1194196" y="198650"/>
                    <a:pt x="1207286" y="188365"/>
                  </a:cubicBezTo>
                  <a:cubicBezTo>
                    <a:pt x="1220376" y="178080"/>
                    <a:pt x="1183913" y="150499"/>
                    <a:pt x="1153994" y="140682"/>
                  </a:cubicBezTo>
                  <a:cubicBezTo>
                    <a:pt x="1124075" y="130865"/>
                    <a:pt x="1126411" y="143019"/>
                    <a:pt x="1027772" y="129462"/>
                  </a:cubicBezTo>
                  <a:cubicBezTo>
                    <a:pt x="929133" y="115905"/>
                    <a:pt x="693054" y="77103"/>
                    <a:pt x="562158" y="59339"/>
                  </a:cubicBezTo>
                  <a:cubicBezTo>
                    <a:pt x="431262" y="41575"/>
                    <a:pt x="242398" y="22876"/>
                    <a:pt x="242398" y="22876"/>
                  </a:cubicBezTo>
                  <a:cubicBezTo>
                    <a:pt x="158251" y="13059"/>
                    <a:pt x="94205" y="-2836"/>
                    <a:pt x="57274" y="436"/>
                  </a:cubicBezTo>
                  <a:cubicBezTo>
                    <a:pt x="20343" y="3708"/>
                    <a:pt x="-21263" y="47652"/>
                    <a:pt x="12396" y="62144"/>
                  </a:cubicBez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0" name="任意多边形 122"/>
          <p:cNvSpPr/>
          <p:nvPr/>
        </p:nvSpPr>
        <p:spPr>
          <a:xfrm>
            <a:off x="4581720" y="2945160"/>
            <a:ext cx="224280" cy="1227600"/>
          </a:xfrm>
          <a:custGeom>
            <a:avLst/>
            <a:gdLst>
              <a:gd name="textAreaLeft" fmla="*/ 0 w 224280"/>
              <a:gd name="textAreaRight" fmla="*/ 224640 w 224280"/>
              <a:gd name="textAreaTop" fmla="*/ 0 h 1227600"/>
              <a:gd name="textAreaBottom" fmla="*/ 1227960 h 1227600"/>
            </a:gdLst>
            <a:ahLst/>
            <a:rect l="textAreaLeft" t="textAreaTop" r="textAreaRight" b="textAreaBottom"/>
            <a:pathLst>
              <a:path w="190487" h="1041652">
                <a:moveTo>
                  <a:pt x="15582" y="847"/>
                </a:moveTo>
                <a:cubicBezTo>
                  <a:pt x="-48856" y="20281"/>
                  <a:pt x="106102" y="301556"/>
                  <a:pt x="126047" y="461116"/>
                </a:cubicBezTo>
                <a:cubicBezTo>
                  <a:pt x="145992" y="620676"/>
                  <a:pt x="147526" y="892234"/>
                  <a:pt x="135252" y="958206"/>
                </a:cubicBezTo>
                <a:cubicBezTo>
                  <a:pt x="122978" y="1024178"/>
                  <a:pt x="172585" y="1045658"/>
                  <a:pt x="181279" y="1041055"/>
                </a:cubicBezTo>
                <a:cubicBezTo>
                  <a:pt x="189973" y="1036452"/>
                  <a:pt x="193553" y="1028269"/>
                  <a:pt x="187416" y="930590"/>
                </a:cubicBezTo>
                <a:cubicBezTo>
                  <a:pt x="181279" y="832911"/>
                  <a:pt x="163892" y="605846"/>
                  <a:pt x="144458" y="454980"/>
                </a:cubicBezTo>
                <a:cubicBezTo>
                  <a:pt x="117353" y="301046"/>
                  <a:pt x="80020" y="-18587"/>
                  <a:pt x="15582" y="847"/>
                </a:cubicBezTo>
                <a:close/>
              </a:path>
            </a:pathLst>
          </a:custGeom>
          <a:solidFill>
            <a:schemeClr val="tx1">
              <a:lumMod val="75000"/>
              <a:lumOff val="25000"/>
            </a:schemeClr>
          </a:solidFill>
          <a:ln w="3175">
            <a:solidFill>
              <a:srgbClr val="000000">
                <a:lumMod val="75000"/>
                <a:lumOff val="2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任意多边形 124"/>
          <p:cNvSpPr/>
          <p:nvPr/>
        </p:nvSpPr>
        <p:spPr>
          <a:xfrm>
            <a:off x="4798440" y="4312080"/>
            <a:ext cx="404640" cy="1369440"/>
          </a:xfrm>
          <a:custGeom>
            <a:avLst/>
            <a:gdLst>
              <a:gd name="textAreaLeft" fmla="*/ 0 w 404640"/>
              <a:gd name="textAreaRight" fmla="*/ 405000 w 404640"/>
              <a:gd name="textAreaTop" fmla="*/ 0 h 1369440"/>
              <a:gd name="textAreaBottom" fmla="*/ 1369800 h 1369440"/>
            </a:gdLst>
            <a:ahLst/>
            <a:rect l="textAreaLeft" t="textAreaTop" r="textAreaRight" b="textAreaBottom"/>
            <a:pathLst>
              <a:path w="343497" h="1162050">
                <a:moveTo>
                  <a:pt x="343497" y="0"/>
                </a:moveTo>
                <a:cubicBezTo>
                  <a:pt x="237928" y="141287"/>
                  <a:pt x="141884" y="292100"/>
                  <a:pt x="76797" y="476250"/>
                </a:cubicBezTo>
                <a:cubicBezTo>
                  <a:pt x="11710" y="660400"/>
                  <a:pt x="-16866" y="1012825"/>
                  <a:pt x="10122" y="1162050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任意多边形 127"/>
          <p:cNvSpPr/>
          <p:nvPr/>
        </p:nvSpPr>
        <p:spPr>
          <a:xfrm>
            <a:off x="3553560" y="3693960"/>
            <a:ext cx="789480" cy="504720"/>
          </a:xfrm>
          <a:custGeom>
            <a:avLst/>
            <a:gdLst>
              <a:gd name="textAreaLeft" fmla="*/ 0 w 789480"/>
              <a:gd name="textAreaRight" fmla="*/ 789840 w 78948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670228" h="428547">
                <a:moveTo>
                  <a:pt x="670228" y="428547"/>
                </a:moveTo>
                <a:cubicBezTo>
                  <a:pt x="409445" y="308122"/>
                  <a:pt x="191019" y="220087"/>
                  <a:pt x="0" y="0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任意多边形 128"/>
          <p:cNvSpPr/>
          <p:nvPr/>
        </p:nvSpPr>
        <p:spPr>
          <a:xfrm>
            <a:off x="3489480" y="799920"/>
            <a:ext cx="2417760" cy="2894040"/>
          </a:xfrm>
          <a:custGeom>
            <a:avLst/>
            <a:gdLst>
              <a:gd name="textAreaLeft" fmla="*/ 0 w 2417760"/>
              <a:gd name="textAreaRight" fmla="*/ 2418120 w 2417760"/>
              <a:gd name="textAreaTop" fmla="*/ 0 h 2894040"/>
              <a:gd name="textAreaBottom" fmla="*/ 2894400 h 2894040"/>
            </a:gdLst>
            <a:ahLst/>
            <a:rect l="textAreaLeft" t="textAreaTop" r="textAreaRight" b="textAreaBottom"/>
            <a:pathLst>
              <a:path w="2051388" h="2455653">
                <a:moveTo>
                  <a:pt x="51604" y="2455653"/>
                </a:moveTo>
                <a:cubicBezTo>
                  <a:pt x="-110494" y="2276768"/>
                  <a:pt x="117046" y="1352601"/>
                  <a:pt x="625154" y="862642"/>
                </a:cubicBezTo>
                <a:cubicBezTo>
                  <a:pt x="1133262" y="372683"/>
                  <a:pt x="1452331" y="227642"/>
                  <a:pt x="2051388" y="0"/>
                </a:cubicBezTo>
              </a:path>
            </a:pathLst>
          </a:custGeom>
          <a:noFill/>
          <a:ln w="19050">
            <a:solidFill>
              <a:srgbClr val="000000"/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任意多边形 129"/>
          <p:cNvSpPr/>
          <p:nvPr/>
        </p:nvSpPr>
        <p:spPr>
          <a:xfrm>
            <a:off x="3055320" y="2940120"/>
            <a:ext cx="1549440" cy="2642760"/>
          </a:xfrm>
          <a:custGeom>
            <a:avLst/>
            <a:gdLst>
              <a:gd name="textAreaLeft" fmla="*/ 0 w 1549440"/>
              <a:gd name="textAreaRight" fmla="*/ 1549800 w 1549440"/>
              <a:gd name="textAreaTop" fmla="*/ 0 h 2642760"/>
              <a:gd name="textAreaBottom" fmla="*/ 2643120 h 2642760"/>
            </a:gdLst>
            <a:ahLst/>
            <a:rect l="textAreaLeft" t="textAreaTop" r="textAreaRight" b="textAreaBottom"/>
            <a:pathLst>
              <a:path w="1314728" h="2242469">
                <a:moveTo>
                  <a:pt x="1307530" y="4989"/>
                </a:moveTo>
                <a:cubicBezTo>
                  <a:pt x="1363273" y="56642"/>
                  <a:pt x="1082509" y="348657"/>
                  <a:pt x="905561" y="630955"/>
                </a:cubicBezTo>
                <a:cubicBezTo>
                  <a:pt x="728613" y="913253"/>
                  <a:pt x="283687" y="1615929"/>
                  <a:pt x="258117" y="1704914"/>
                </a:cubicBezTo>
                <a:cubicBezTo>
                  <a:pt x="232547" y="1793899"/>
                  <a:pt x="249935" y="1895670"/>
                  <a:pt x="236638" y="1974938"/>
                </a:cubicBezTo>
                <a:cubicBezTo>
                  <a:pt x="223341" y="2054206"/>
                  <a:pt x="189588" y="2155466"/>
                  <a:pt x="178337" y="2180525"/>
                </a:cubicBezTo>
                <a:cubicBezTo>
                  <a:pt x="167086" y="2205584"/>
                  <a:pt x="165042" y="2156489"/>
                  <a:pt x="169133" y="2125293"/>
                </a:cubicBezTo>
                <a:cubicBezTo>
                  <a:pt x="173224" y="2094097"/>
                  <a:pt x="194190" y="2049092"/>
                  <a:pt x="202884" y="1993348"/>
                </a:cubicBezTo>
                <a:cubicBezTo>
                  <a:pt x="211578" y="1937604"/>
                  <a:pt x="225898" y="1821004"/>
                  <a:pt x="202885" y="1833789"/>
                </a:cubicBezTo>
                <a:cubicBezTo>
                  <a:pt x="179872" y="1846574"/>
                  <a:pt x="90374" y="2005111"/>
                  <a:pt x="64804" y="2070060"/>
                </a:cubicBezTo>
                <a:cubicBezTo>
                  <a:pt x="39234" y="2135009"/>
                  <a:pt x="60202" y="2197401"/>
                  <a:pt x="49462" y="2223483"/>
                </a:cubicBezTo>
                <a:cubicBezTo>
                  <a:pt x="38722" y="2249565"/>
                  <a:pt x="4457" y="2247008"/>
                  <a:pt x="366" y="2226552"/>
                </a:cubicBezTo>
                <a:cubicBezTo>
                  <a:pt x="-3725" y="2206096"/>
                  <a:pt x="27982" y="2152909"/>
                  <a:pt x="24914" y="2100745"/>
                </a:cubicBezTo>
                <a:cubicBezTo>
                  <a:pt x="21846" y="2048581"/>
                  <a:pt x="24403" y="2052672"/>
                  <a:pt x="55599" y="1987212"/>
                </a:cubicBezTo>
                <a:cubicBezTo>
                  <a:pt x="86795" y="1921752"/>
                  <a:pt x="33098" y="2005111"/>
                  <a:pt x="212091" y="1707982"/>
                </a:cubicBezTo>
                <a:cubicBezTo>
                  <a:pt x="335852" y="1410853"/>
                  <a:pt x="701509" y="881033"/>
                  <a:pt x="884082" y="597201"/>
                </a:cubicBezTo>
                <a:cubicBezTo>
                  <a:pt x="1066655" y="313369"/>
                  <a:pt x="1251787" y="-46664"/>
                  <a:pt x="1307530" y="4989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 w="6350">
            <a:solidFill>
              <a:srgbClr val="000000">
                <a:lumMod val="85000"/>
                <a:lumOff val="1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任意多边形 131"/>
          <p:cNvSpPr/>
          <p:nvPr/>
        </p:nvSpPr>
        <p:spPr>
          <a:xfrm>
            <a:off x="6122160" y="3458880"/>
            <a:ext cx="180360" cy="356400"/>
          </a:xfrm>
          <a:custGeom>
            <a:avLst/>
            <a:gdLst>
              <a:gd name="textAreaLeft" fmla="*/ 0 w 180360"/>
              <a:gd name="textAreaRight" fmla="*/ 180720 w 180360"/>
              <a:gd name="textAreaTop" fmla="*/ 0 h 356400"/>
              <a:gd name="textAreaBottom" fmla="*/ 356760 h 356400"/>
            </a:gdLst>
            <a:ahLst/>
            <a:rect l="textAreaLeft" t="textAreaTop" r="textAreaRight" b="textAreaBottom"/>
            <a:pathLst>
              <a:path w="153267" h="302664">
                <a:moveTo>
                  <a:pt x="26250" y="0"/>
                </a:moveTo>
                <a:cubicBezTo>
                  <a:pt x="38154" y="0"/>
                  <a:pt x="57990" y="37306"/>
                  <a:pt x="71477" y="59532"/>
                </a:cubicBezTo>
                <a:cubicBezTo>
                  <a:pt x="84964" y="81758"/>
                  <a:pt x="94078" y="110738"/>
                  <a:pt x="107174" y="133357"/>
                </a:cubicBezTo>
                <a:cubicBezTo>
                  <a:pt x="120270" y="155976"/>
                  <a:pt x="145292" y="167076"/>
                  <a:pt x="150053" y="195244"/>
                </a:cubicBezTo>
                <a:cubicBezTo>
                  <a:pt x="154814" y="223412"/>
                  <a:pt x="157170" y="308317"/>
                  <a:pt x="135741" y="302367"/>
                </a:cubicBezTo>
                <a:cubicBezTo>
                  <a:pt x="114312" y="296417"/>
                  <a:pt x="35766" y="189705"/>
                  <a:pt x="21479" y="159543"/>
                </a:cubicBezTo>
                <a:cubicBezTo>
                  <a:pt x="7192" y="129381"/>
                  <a:pt x="-741" y="86120"/>
                  <a:pt x="54" y="59530"/>
                </a:cubicBezTo>
                <a:cubicBezTo>
                  <a:pt x="849" y="32940"/>
                  <a:pt x="14346" y="0"/>
                  <a:pt x="26250" y="0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>
            <a:noFill/>
          </a:ln>
          <a:effectLst>
            <a:glow rad="6336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任意多边形 133"/>
          <p:cNvSpPr/>
          <p:nvPr/>
        </p:nvSpPr>
        <p:spPr>
          <a:xfrm rot="19261800">
            <a:off x="6361560" y="2874960"/>
            <a:ext cx="220680" cy="341640"/>
          </a:xfrm>
          <a:custGeom>
            <a:avLst/>
            <a:gdLst>
              <a:gd name="textAreaLeft" fmla="*/ 0 w 220680"/>
              <a:gd name="textAreaRight" fmla="*/ 221040 w 220680"/>
              <a:gd name="textAreaTop" fmla="*/ 0 h 341640"/>
              <a:gd name="textAreaBottom" fmla="*/ 342000 h 341640"/>
            </a:gdLst>
            <a:ahLst/>
            <a:rect l="textAreaLeft" t="textAreaTop" r="textAreaRight" b="textAreaBottom"/>
            <a:pathLst>
              <a:path w="187505" h="290260">
                <a:moveTo>
                  <a:pt x="36895" y="17"/>
                </a:moveTo>
                <a:cubicBezTo>
                  <a:pt x="78977" y="1670"/>
                  <a:pt x="87566" y="105126"/>
                  <a:pt x="98201" y="142345"/>
                </a:cubicBezTo>
                <a:cubicBezTo>
                  <a:pt x="108836" y="179564"/>
                  <a:pt x="85865" y="199724"/>
                  <a:pt x="100704" y="223329"/>
                </a:cubicBezTo>
                <a:cubicBezTo>
                  <a:pt x="115543" y="246934"/>
                  <a:pt x="192659" y="274946"/>
                  <a:pt x="187233" y="283975"/>
                </a:cubicBezTo>
                <a:cubicBezTo>
                  <a:pt x="181807" y="293004"/>
                  <a:pt x="97866" y="293503"/>
                  <a:pt x="68148" y="277501"/>
                </a:cubicBezTo>
                <a:cubicBezTo>
                  <a:pt x="38430" y="261499"/>
                  <a:pt x="8118" y="210116"/>
                  <a:pt x="2909" y="163869"/>
                </a:cubicBezTo>
                <a:cubicBezTo>
                  <a:pt x="-2300" y="117622"/>
                  <a:pt x="-5187" y="-1636"/>
                  <a:pt x="36895" y="17"/>
                </a:cubicBezTo>
                <a:close/>
              </a:path>
            </a:pathLst>
          </a:custGeom>
          <a:solidFill>
            <a:srgbClr val="3f3b40"/>
          </a:solidFill>
          <a:ln>
            <a:noFill/>
          </a:ln>
          <a:effectLst>
            <a:glow rad="6336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任意多边形 134"/>
          <p:cNvSpPr/>
          <p:nvPr/>
        </p:nvSpPr>
        <p:spPr>
          <a:xfrm rot="17508600">
            <a:off x="6390360" y="2542320"/>
            <a:ext cx="163800" cy="291600"/>
          </a:xfrm>
          <a:custGeom>
            <a:avLst/>
            <a:gdLst>
              <a:gd name="textAreaLeft" fmla="*/ 0 w 163800"/>
              <a:gd name="textAreaRight" fmla="*/ 164160 w 163800"/>
              <a:gd name="textAreaTop" fmla="*/ 0 h 291600"/>
              <a:gd name="textAreaBottom" fmla="*/ 291960 h 291600"/>
            </a:gdLst>
            <a:ahLst/>
            <a:rect l="textAreaLeft" t="textAreaTop" r="textAreaRight" b="textAreaBottom"/>
            <a:pathLst>
              <a:path w="139301" h="299363">
                <a:moveTo>
                  <a:pt x="93960" y="8496"/>
                </a:moveTo>
                <a:cubicBezTo>
                  <a:pt x="173871" y="60024"/>
                  <a:pt x="60337" y="167010"/>
                  <a:pt x="67760" y="215481"/>
                </a:cubicBezTo>
                <a:cubicBezTo>
                  <a:pt x="75183" y="263952"/>
                  <a:pt x="147671" y="298450"/>
                  <a:pt x="138501" y="299323"/>
                </a:cubicBezTo>
                <a:cubicBezTo>
                  <a:pt x="129331" y="300196"/>
                  <a:pt x="46362" y="287532"/>
                  <a:pt x="12739" y="220721"/>
                </a:cubicBezTo>
                <a:cubicBezTo>
                  <a:pt x="-20884" y="153910"/>
                  <a:pt x="14049" y="-43032"/>
                  <a:pt x="93960" y="8496"/>
                </a:cubicBezTo>
                <a:close/>
              </a:path>
            </a:pathLst>
          </a:custGeom>
          <a:solidFill>
            <a:srgbClr val="312f30"/>
          </a:solidFill>
          <a:ln>
            <a:noFill/>
          </a:ln>
          <a:effectLst>
            <a:glow rad="6336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任意多边形 135"/>
          <p:cNvSpPr/>
          <p:nvPr/>
        </p:nvSpPr>
        <p:spPr>
          <a:xfrm rot="20132400">
            <a:off x="6552000" y="2352960"/>
            <a:ext cx="106920" cy="307800"/>
          </a:xfrm>
          <a:custGeom>
            <a:avLst/>
            <a:gdLst>
              <a:gd name="textAreaLeft" fmla="*/ 0 w 106920"/>
              <a:gd name="textAreaRight" fmla="*/ 107280 w 1069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28033" h="380217">
                <a:moveTo>
                  <a:pt x="85138" y="6861"/>
                </a:moveTo>
                <a:cubicBezTo>
                  <a:pt x="185419" y="52617"/>
                  <a:pt x="77667" y="163089"/>
                  <a:pt x="83332" y="225313"/>
                </a:cubicBezTo>
                <a:cubicBezTo>
                  <a:pt x="88997" y="287537"/>
                  <a:pt x="132362" y="381246"/>
                  <a:pt x="119126" y="380208"/>
                </a:cubicBezTo>
                <a:cubicBezTo>
                  <a:pt x="105890" y="379170"/>
                  <a:pt x="9582" y="281310"/>
                  <a:pt x="3917" y="219086"/>
                </a:cubicBezTo>
                <a:cubicBezTo>
                  <a:pt x="-1748" y="156862"/>
                  <a:pt x="-15143" y="-38895"/>
                  <a:pt x="85138" y="6861"/>
                </a:cubicBezTo>
                <a:close/>
              </a:path>
            </a:pathLst>
          </a:custGeom>
          <a:solidFill>
            <a:srgbClr val="312f30"/>
          </a:solidFill>
          <a:ln>
            <a:noFill/>
          </a:ln>
          <a:effectLst>
            <a:glow rad="6336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任意多边形 136"/>
          <p:cNvSpPr/>
          <p:nvPr/>
        </p:nvSpPr>
        <p:spPr>
          <a:xfrm rot="19263000">
            <a:off x="6672240" y="1497960"/>
            <a:ext cx="668520" cy="315720"/>
          </a:xfrm>
          <a:custGeom>
            <a:avLst/>
            <a:gdLst>
              <a:gd name="textAreaLeft" fmla="*/ 0 w 668520"/>
              <a:gd name="textAreaRight" fmla="*/ 668880 w 66852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621564" h="293774">
                <a:moveTo>
                  <a:pt x="60235" y="290477"/>
                </a:moveTo>
                <a:cubicBezTo>
                  <a:pt x="102955" y="307981"/>
                  <a:pt x="218749" y="250303"/>
                  <a:pt x="285560" y="245936"/>
                </a:cubicBezTo>
                <a:cubicBezTo>
                  <a:pt x="352371" y="241569"/>
                  <a:pt x="416011" y="276896"/>
                  <a:pt x="461104" y="264276"/>
                </a:cubicBezTo>
                <a:cubicBezTo>
                  <a:pt x="506197" y="251656"/>
                  <a:pt x="540834" y="196417"/>
                  <a:pt x="556118" y="170217"/>
                </a:cubicBezTo>
                <a:cubicBezTo>
                  <a:pt x="571402" y="144017"/>
                  <a:pt x="542441" y="130260"/>
                  <a:pt x="552806" y="107073"/>
                </a:cubicBezTo>
                <a:cubicBezTo>
                  <a:pt x="563171" y="83886"/>
                  <a:pt x="637895" y="47864"/>
                  <a:pt x="618307" y="31091"/>
                </a:cubicBezTo>
                <a:cubicBezTo>
                  <a:pt x="598719" y="14318"/>
                  <a:pt x="527419" y="-12343"/>
                  <a:pt x="435280" y="6434"/>
                </a:cubicBezTo>
                <a:cubicBezTo>
                  <a:pt x="343141" y="25211"/>
                  <a:pt x="91749" y="93573"/>
                  <a:pt x="29242" y="140913"/>
                </a:cubicBezTo>
                <a:cubicBezTo>
                  <a:pt x="-33265" y="188253"/>
                  <a:pt x="17515" y="272973"/>
                  <a:pt x="60235" y="290477"/>
                </a:cubicBezTo>
                <a:close/>
              </a:path>
            </a:pathLst>
          </a:custGeom>
          <a:solidFill>
            <a:srgbClr val="3f3b40"/>
          </a:solidFill>
          <a:ln>
            <a:noFill/>
          </a:ln>
          <a:effectLst>
            <a:glow rad="22860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任意多边形 137"/>
          <p:cNvSpPr/>
          <p:nvPr/>
        </p:nvSpPr>
        <p:spPr>
          <a:xfrm rot="19263000">
            <a:off x="6850800" y="1733040"/>
            <a:ext cx="513000" cy="218520"/>
          </a:xfrm>
          <a:custGeom>
            <a:avLst/>
            <a:gdLst>
              <a:gd name="textAreaLeft" fmla="*/ 0 w 513000"/>
              <a:gd name="textAreaRight" fmla="*/ 513360 w 513000"/>
              <a:gd name="textAreaTop" fmla="*/ 0 h 218520"/>
              <a:gd name="textAreaBottom" fmla="*/ 218880 h 218520"/>
            </a:gdLst>
            <a:ahLst/>
            <a:rect l="textAreaLeft" t="textAreaTop" r="textAreaRight" b="textAreaBottom"/>
            <a:pathLst>
              <a:path w="477204" h="203294">
                <a:moveTo>
                  <a:pt x="4585" y="28505"/>
                </a:moveTo>
                <a:cubicBezTo>
                  <a:pt x="27514" y="58200"/>
                  <a:pt x="160936" y="123268"/>
                  <a:pt x="246961" y="180473"/>
                </a:cubicBezTo>
                <a:cubicBezTo>
                  <a:pt x="332986" y="237678"/>
                  <a:pt x="453710" y="171736"/>
                  <a:pt x="473575" y="151648"/>
                </a:cubicBezTo>
                <a:cubicBezTo>
                  <a:pt x="493440" y="131560"/>
                  <a:pt x="428161" y="84837"/>
                  <a:pt x="366153" y="59946"/>
                </a:cubicBezTo>
                <a:cubicBezTo>
                  <a:pt x="304145" y="35055"/>
                  <a:pt x="169648" y="7544"/>
                  <a:pt x="109387" y="2304"/>
                </a:cubicBezTo>
                <a:cubicBezTo>
                  <a:pt x="49126" y="-2936"/>
                  <a:pt x="-18344" y="-1190"/>
                  <a:pt x="4585" y="28505"/>
                </a:cubicBezTo>
                <a:close/>
              </a:path>
            </a:pathLst>
          </a:custGeom>
          <a:solidFill>
            <a:srgbClr val="3f3b40"/>
          </a:solidFill>
          <a:ln>
            <a:noFill/>
          </a:ln>
          <a:effectLst>
            <a:glow rad="22860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任意多边形 138"/>
          <p:cNvSpPr/>
          <p:nvPr/>
        </p:nvSpPr>
        <p:spPr>
          <a:xfrm rot="19263000">
            <a:off x="6915240" y="1781640"/>
            <a:ext cx="587880" cy="498960"/>
          </a:xfrm>
          <a:custGeom>
            <a:avLst/>
            <a:gdLst>
              <a:gd name="textAreaLeft" fmla="*/ 0 w 587880"/>
              <a:gd name="textAreaRight" fmla="*/ 588240 w 587880"/>
              <a:gd name="textAreaTop" fmla="*/ 0 h 498960"/>
              <a:gd name="textAreaBottom" fmla="*/ 499320 h 498960"/>
            </a:gdLst>
            <a:ahLst/>
            <a:rect l="textAreaLeft" t="textAreaTop" r="textAreaRight" b="textAreaBottom"/>
            <a:pathLst>
              <a:path w="546677" h="464093">
                <a:moveTo>
                  <a:pt x="50566" y="331"/>
                </a:moveTo>
                <a:cubicBezTo>
                  <a:pt x="84190" y="-3599"/>
                  <a:pt x="143182" y="28114"/>
                  <a:pt x="207770" y="65833"/>
                </a:cubicBezTo>
                <a:cubicBezTo>
                  <a:pt x="272358" y="103552"/>
                  <a:pt x="381765" y="180793"/>
                  <a:pt x="438096" y="226644"/>
                </a:cubicBezTo>
                <a:cubicBezTo>
                  <a:pt x="494427" y="272495"/>
                  <a:pt x="554888" y="301366"/>
                  <a:pt x="545757" y="340939"/>
                </a:cubicBezTo>
                <a:cubicBezTo>
                  <a:pt x="536627" y="380512"/>
                  <a:pt x="446585" y="465259"/>
                  <a:pt x="383313" y="464081"/>
                </a:cubicBezTo>
                <a:cubicBezTo>
                  <a:pt x="320041" y="462903"/>
                  <a:pt x="239922" y="397187"/>
                  <a:pt x="166124" y="333869"/>
                </a:cubicBezTo>
                <a:cubicBezTo>
                  <a:pt x="92326" y="270551"/>
                  <a:pt x="25285" y="145003"/>
                  <a:pt x="6025" y="89413"/>
                </a:cubicBezTo>
                <a:cubicBezTo>
                  <a:pt x="-13235" y="33823"/>
                  <a:pt x="16942" y="4261"/>
                  <a:pt x="50566" y="331"/>
                </a:cubicBezTo>
                <a:close/>
              </a:path>
            </a:pathLst>
          </a:custGeom>
          <a:solidFill>
            <a:srgbClr val="3f3b40"/>
          </a:solidFill>
          <a:ln>
            <a:noFill/>
          </a:ln>
          <a:effectLst>
            <a:glow rad="22860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任意多边形 139"/>
          <p:cNvSpPr/>
          <p:nvPr/>
        </p:nvSpPr>
        <p:spPr>
          <a:xfrm rot="21084600">
            <a:off x="6491160" y="1811520"/>
            <a:ext cx="438480" cy="371880"/>
          </a:xfrm>
          <a:custGeom>
            <a:avLst/>
            <a:gdLst>
              <a:gd name="textAreaLeft" fmla="*/ 0 w 438480"/>
              <a:gd name="textAreaRight" fmla="*/ 438840 w 438480"/>
              <a:gd name="textAreaTop" fmla="*/ 0 h 371880"/>
              <a:gd name="textAreaBottom" fmla="*/ 372240 h 371880"/>
            </a:gdLst>
            <a:ahLst/>
            <a:rect l="textAreaLeft" t="textAreaTop" r="textAreaRight" b="textAreaBottom"/>
            <a:pathLst>
              <a:path w="372262" h="315665">
                <a:moveTo>
                  <a:pt x="9932" y="94363"/>
                </a:moveTo>
                <a:cubicBezTo>
                  <a:pt x="27399" y="52442"/>
                  <a:pt x="92464" y="-1706"/>
                  <a:pt x="151415" y="41"/>
                </a:cubicBezTo>
                <a:cubicBezTo>
                  <a:pt x="210366" y="1788"/>
                  <a:pt x="338749" y="53315"/>
                  <a:pt x="363639" y="104843"/>
                </a:cubicBezTo>
                <a:cubicBezTo>
                  <a:pt x="388529" y="156371"/>
                  <a:pt x="357089" y="284754"/>
                  <a:pt x="300758" y="309208"/>
                </a:cubicBezTo>
                <a:cubicBezTo>
                  <a:pt x="244427" y="333662"/>
                  <a:pt x="99013" y="283008"/>
                  <a:pt x="46612" y="251567"/>
                </a:cubicBezTo>
                <a:cubicBezTo>
                  <a:pt x="-5789" y="220126"/>
                  <a:pt x="-7535" y="136284"/>
                  <a:pt x="9932" y="94363"/>
                </a:cubicBez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100000">
                <a:srgbClr val="808080"/>
              </a:gs>
            </a:gsLst>
            <a:lin ang="8100000"/>
          </a:gradFill>
          <a:ln>
            <a:noFill/>
          </a:ln>
          <a:effectLst>
            <a:glow rad="13968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任意多边形 140"/>
          <p:cNvSpPr/>
          <p:nvPr/>
        </p:nvSpPr>
        <p:spPr>
          <a:xfrm flipH="1" rot="19993200">
            <a:off x="6702840" y="2227680"/>
            <a:ext cx="123120" cy="195840"/>
          </a:xfrm>
          <a:custGeom>
            <a:avLst/>
            <a:gdLst>
              <a:gd name="textAreaLeft" fmla="*/ 360 w 123120"/>
              <a:gd name="textAreaRight" fmla="*/ 123840 w 123120"/>
              <a:gd name="textAreaTop" fmla="*/ 0 h 195840"/>
              <a:gd name="textAreaBottom" fmla="*/ 196200 h 195840"/>
            </a:gdLst>
            <a:ahLst/>
            <a:rect l="textAreaLeft" t="textAreaTop" r="textAreaRight" b="textAreaBottom"/>
            <a:pathLst>
              <a:path w="168415" h="209796">
                <a:moveTo>
                  <a:pt x="62922" y="386"/>
                </a:moveTo>
                <a:cubicBezTo>
                  <a:pt x="81699" y="3879"/>
                  <a:pt x="113576" y="31825"/>
                  <a:pt x="112703" y="71126"/>
                </a:cubicBezTo>
                <a:cubicBezTo>
                  <a:pt x="111830" y="110427"/>
                  <a:pt x="95673" y="137502"/>
                  <a:pt x="104843" y="157589"/>
                </a:cubicBezTo>
                <a:cubicBezTo>
                  <a:pt x="114013" y="177676"/>
                  <a:pt x="175584" y="185100"/>
                  <a:pt x="167724" y="191650"/>
                </a:cubicBezTo>
                <a:cubicBezTo>
                  <a:pt x="159864" y="198200"/>
                  <a:pt x="102658" y="225710"/>
                  <a:pt x="57681" y="196890"/>
                </a:cubicBezTo>
                <a:cubicBezTo>
                  <a:pt x="12704" y="168070"/>
                  <a:pt x="-835" y="82918"/>
                  <a:pt x="39" y="50167"/>
                </a:cubicBezTo>
                <a:cubicBezTo>
                  <a:pt x="913" y="17416"/>
                  <a:pt x="44145" y="-3107"/>
                  <a:pt x="62922" y="386"/>
                </a:cubicBezTo>
                <a:close/>
              </a:path>
            </a:pathLst>
          </a:custGeom>
          <a:solidFill>
            <a:srgbClr val="312f30"/>
          </a:solidFill>
          <a:ln>
            <a:noFill/>
          </a:ln>
          <a:effectLst>
            <a:glow rad="6336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任意多边形 141"/>
          <p:cNvSpPr/>
          <p:nvPr/>
        </p:nvSpPr>
        <p:spPr>
          <a:xfrm rot="20927400">
            <a:off x="5681520" y="4008600"/>
            <a:ext cx="234360" cy="1021320"/>
          </a:xfrm>
          <a:custGeom>
            <a:avLst/>
            <a:gdLst>
              <a:gd name="textAreaLeft" fmla="*/ 0 w 234360"/>
              <a:gd name="textAreaRight" fmla="*/ 234720 w 234360"/>
              <a:gd name="textAreaTop" fmla="*/ 0 h 1021320"/>
              <a:gd name="textAreaBottom" fmla="*/ 1021680 h 1021320"/>
            </a:gdLst>
            <a:ahLst/>
            <a:rect l="textAreaLeft" t="textAreaTop" r="textAreaRight" b="textAreaBottom"/>
            <a:pathLst>
              <a:path w="199277" h="866775">
                <a:moveTo>
                  <a:pt x="8777" y="0"/>
                </a:moveTo>
                <a:cubicBezTo>
                  <a:pt x="-32498" y="327025"/>
                  <a:pt x="78627" y="558800"/>
                  <a:pt x="199277" y="866775"/>
                </a:cubicBezTo>
              </a:path>
            </a:pathLst>
          </a:custGeom>
          <a:noFill/>
          <a:ln>
            <a:solidFill>
              <a:srgbClr val="000000">
                <a:lumMod val="50000"/>
                <a:lumOff val="50000"/>
              </a:srgbClr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任意多边形 142"/>
          <p:cNvSpPr/>
          <p:nvPr/>
        </p:nvSpPr>
        <p:spPr>
          <a:xfrm rot="20195400">
            <a:off x="6081120" y="1934640"/>
            <a:ext cx="485280" cy="496440"/>
          </a:xfrm>
          <a:custGeom>
            <a:avLst/>
            <a:gdLst>
              <a:gd name="textAreaLeft" fmla="*/ 0 w 485280"/>
              <a:gd name="textAreaRight" fmla="*/ 485640 w 485280"/>
              <a:gd name="textAreaTop" fmla="*/ 0 h 496440"/>
              <a:gd name="textAreaBottom" fmla="*/ 496800 h 496440"/>
            </a:gdLst>
            <a:ahLst/>
            <a:rect l="textAreaLeft" t="textAreaTop" r="textAreaRight" b="textAreaBottom"/>
            <a:pathLst>
              <a:path w="411903" h="421352">
                <a:moveTo>
                  <a:pt x="303" y="118683"/>
                </a:moveTo>
                <a:cubicBezTo>
                  <a:pt x="-5810" y="164098"/>
                  <a:pt x="82399" y="139645"/>
                  <a:pt x="102486" y="168465"/>
                </a:cubicBezTo>
                <a:cubicBezTo>
                  <a:pt x="122573" y="197285"/>
                  <a:pt x="99429" y="250559"/>
                  <a:pt x="120826" y="291606"/>
                </a:cubicBezTo>
                <a:cubicBezTo>
                  <a:pt x="142223" y="332653"/>
                  <a:pt x="192441" y="400340"/>
                  <a:pt x="230868" y="414750"/>
                </a:cubicBezTo>
                <a:cubicBezTo>
                  <a:pt x="269295" y="429160"/>
                  <a:pt x="321260" y="421300"/>
                  <a:pt x="351391" y="378069"/>
                </a:cubicBezTo>
                <a:cubicBezTo>
                  <a:pt x="381522" y="334838"/>
                  <a:pt x="415146" y="213442"/>
                  <a:pt x="411653" y="155364"/>
                </a:cubicBezTo>
                <a:cubicBezTo>
                  <a:pt x="408160" y="97286"/>
                  <a:pt x="380212" y="53619"/>
                  <a:pt x="330431" y="29602"/>
                </a:cubicBezTo>
                <a:cubicBezTo>
                  <a:pt x="280650" y="5585"/>
                  <a:pt x="194187" y="-8826"/>
                  <a:pt x="139166" y="6021"/>
                </a:cubicBezTo>
                <a:cubicBezTo>
                  <a:pt x="84145" y="20868"/>
                  <a:pt x="6416" y="73268"/>
                  <a:pt x="303" y="118683"/>
                </a:cubicBez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100000">
                <a:srgbClr val="808080"/>
              </a:gs>
            </a:gsLst>
            <a:lin ang="8100000"/>
          </a:gradFill>
          <a:ln>
            <a:noFill/>
          </a:ln>
          <a:effectLst>
            <a:glow rad="13968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任意多边形 143"/>
          <p:cNvSpPr/>
          <p:nvPr/>
        </p:nvSpPr>
        <p:spPr>
          <a:xfrm rot="20379000">
            <a:off x="5717880" y="2249640"/>
            <a:ext cx="630360" cy="546480"/>
          </a:xfrm>
          <a:custGeom>
            <a:avLst/>
            <a:gdLst>
              <a:gd name="textAreaLeft" fmla="*/ 0 w 630360"/>
              <a:gd name="textAreaRight" fmla="*/ 630720 w 630360"/>
              <a:gd name="textAreaTop" fmla="*/ 0 h 546480"/>
              <a:gd name="textAreaBottom" fmla="*/ 546840 h 546480"/>
            </a:gdLst>
            <a:ahLst/>
            <a:rect l="textAreaLeft" t="textAreaTop" r="textAreaRight" b="textAreaBottom"/>
            <a:pathLst>
              <a:path w="534987" h="463863">
                <a:moveTo>
                  <a:pt x="55140" y="327237"/>
                </a:moveTo>
                <a:cubicBezTo>
                  <a:pt x="89637" y="359551"/>
                  <a:pt x="169586" y="430495"/>
                  <a:pt x="230503" y="449880"/>
                </a:cubicBezTo>
                <a:cubicBezTo>
                  <a:pt x="291420" y="469265"/>
                  <a:pt x="370109" y="469703"/>
                  <a:pt x="420644" y="443547"/>
                </a:cubicBezTo>
                <a:cubicBezTo>
                  <a:pt x="471179" y="417391"/>
                  <a:pt x="525683" y="353747"/>
                  <a:pt x="533714" y="292945"/>
                </a:cubicBezTo>
                <a:cubicBezTo>
                  <a:pt x="541745" y="232143"/>
                  <a:pt x="510794" y="127168"/>
                  <a:pt x="468829" y="78734"/>
                </a:cubicBezTo>
                <a:cubicBezTo>
                  <a:pt x="426864" y="30300"/>
                  <a:pt x="363584" y="-10324"/>
                  <a:pt x="281926" y="2340"/>
                </a:cubicBezTo>
                <a:cubicBezTo>
                  <a:pt x="200268" y="15004"/>
                  <a:pt x="53359" y="79606"/>
                  <a:pt x="15561" y="133755"/>
                </a:cubicBezTo>
                <a:cubicBezTo>
                  <a:pt x="-22237" y="187905"/>
                  <a:pt x="15840" y="304530"/>
                  <a:pt x="55140" y="327237"/>
                </a:cubicBez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100000">
                <a:srgbClr val="808080"/>
              </a:gs>
            </a:gsLst>
            <a:lin ang="8100000"/>
          </a:gradFill>
          <a:ln>
            <a:noFill/>
          </a:ln>
          <a:effectLst>
            <a:glow rad="13968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07" name="图片 146" descr=""/>
          <p:cNvPicPr/>
          <p:nvPr/>
        </p:nvPicPr>
        <p:blipFill>
          <a:blip r:embed="rId2"/>
          <a:stretch/>
        </p:blipFill>
        <p:spPr>
          <a:xfrm>
            <a:off x="10071360" y="2303280"/>
            <a:ext cx="978840" cy="960120"/>
          </a:xfrm>
          <a:prstGeom prst="rect">
            <a:avLst/>
          </a:prstGeom>
          <a:ln w="0">
            <a:noFill/>
          </a:ln>
        </p:spPr>
      </p:pic>
      <p:sp>
        <p:nvSpPr>
          <p:cNvPr id="108" name="任意多边形 132"/>
          <p:cNvSpPr/>
          <p:nvPr/>
        </p:nvSpPr>
        <p:spPr>
          <a:xfrm rot="21297600">
            <a:off x="5612760" y="2744280"/>
            <a:ext cx="687960" cy="618120"/>
          </a:xfrm>
          <a:custGeom>
            <a:avLst/>
            <a:gdLst>
              <a:gd name="textAreaLeft" fmla="*/ 0 w 687960"/>
              <a:gd name="textAreaRight" fmla="*/ 688320 w 687960"/>
              <a:gd name="textAreaTop" fmla="*/ 0 h 618120"/>
              <a:gd name="textAreaBottom" fmla="*/ 618480 h 618120"/>
            </a:gdLst>
            <a:ahLst/>
            <a:rect l="textAreaLeft" t="textAreaTop" r="textAreaRight" b="textAreaBottom"/>
            <a:pathLst>
              <a:path w="583940" h="524692">
                <a:moveTo>
                  <a:pt x="51474" y="340939"/>
                </a:moveTo>
                <a:cubicBezTo>
                  <a:pt x="78065" y="359195"/>
                  <a:pt x="130849" y="280614"/>
                  <a:pt x="165774" y="298077"/>
                </a:cubicBezTo>
                <a:cubicBezTo>
                  <a:pt x="200699" y="315539"/>
                  <a:pt x="207843" y="408011"/>
                  <a:pt x="261024" y="445714"/>
                </a:cubicBezTo>
                <a:cubicBezTo>
                  <a:pt x="314205" y="483417"/>
                  <a:pt x="437237" y="529454"/>
                  <a:pt x="484862" y="524295"/>
                </a:cubicBezTo>
                <a:cubicBezTo>
                  <a:pt x="532487" y="519136"/>
                  <a:pt x="531296" y="453652"/>
                  <a:pt x="546774" y="414758"/>
                </a:cubicBezTo>
                <a:cubicBezTo>
                  <a:pt x="562252" y="375864"/>
                  <a:pt x="598367" y="352845"/>
                  <a:pt x="577730" y="290933"/>
                </a:cubicBezTo>
                <a:cubicBezTo>
                  <a:pt x="557093" y="229021"/>
                  <a:pt x="543599" y="115117"/>
                  <a:pt x="422949" y="43283"/>
                </a:cubicBezTo>
                <a:cubicBezTo>
                  <a:pt x="302299" y="-28551"/>
                  <a:pt x="261819" y="4785"/>
                  <a:pt x="182444" y="31376"/>
                </a:cubicBezTo>
                <a:cubicBezTo>
                  <a:pt x="112594" y="57967"/>
                  <a:pt x="28058" y="136945"/>
                  <a:pt x="6230" y="188539"/>
                </a:cubicBezTo>
                <a:cubicBezTo>
                  <a:pt x="-15598" y="240133"/>
                  <a:pt x="24883" y="322683"/>
                  <a:pt x="51474" y="340939"/>
                </a:cubicBez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100000">
                <a:srgbClr val="808080"/>
              </a:gs>
            </a:gsLst>
            <a:lin ang="8100000"/>
          </a:gradFill>
          <a:ln>
            <a:noFill/>
          </a:ln>
          <a:effectLst>
            <a:glow rad="13968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任意多边形 130"/>
          <p:cNvSpPr/>
          <p:nvPr/>
        </p:nvSpPr>
        <p:spPr>
          <a:xfrm>
            <a:off x="5413680" y="3268800"/>
            <a:ext cx="670680" cy="522000"/>
          </a:xfrm>
          <a:custGeom>
            <a:avLst/>
            <a:gdLst>
              <a:gd name="textAreaLeft" fmla="*/ 0 w 670680"/>
              <a:gd name="textAreaRight" fmla="*/ 671040 w 670680"/>
              <a:gd name="textAreaTop" fmla="*/ 0 h 522000"/>
              <a:gd name="textAreaBottom" fmla="*/ 522360 h 522000"/>
            </a:gdLst>
            <a:ahLst/>
            <a:rect l="textAreaLeft" t="textAreaTop" r="textAreaRight" b="textAreaBottom"/>
            <a:pathLst>
              <a:path w="569295" h="443032">
                <a:moveTo>
                  <a:pt x="16954" y="205509"/>
                </a:moveTo>
                <a:cubicBezTo>
                  <a:pt x="50910" y="235397"/>
                  <a:pt x="95913" y="213759"/>
                  <a:pt x="136668" y="249640"/>
                </a:cubicBezTo>
                <a:cubicBezTo>
                  <a:pt x="177423" y="285521"/>
                  <a:pt x="198706" y="391880"/>
                  <a:pt x="261482" y="420797"/>
                </a:cubicBezTo>
                <a:cubicBezTo>
                  <a:pt x="324258" y="449714"/>
                  <a:pt x="463527" y="450353"/>
                  <a:pt x="513322" y="423143"/>
                </a:cubicBezTo>
                <a:cubicBezTo>
                  <a:pt x="563117" y="395933"/>
                  <a:pt x="582271" y="327111"/>
                  <a:pt x="560250" y="257537"/>
                </a:cubicBezTo>
                <a:cubicBezTo>
                  <a:pt x="538229" y="187963"/>
                  <a:pt x="477567" y="29229"/>
                  <a:pt x="381197" y="5697"/>
                </a:cubicBezTo>
                <a:cubicBezTo>
                  <a:pt x="284827" y="-17835"/>
                  <a:pt x="122514" y="37012"/>
                  <a:pt x="61807" y="70314"/>
                </a:cubicBezTo>
                <a:cubicBezTo>
                  <a:pt x="1100" y="103616"/>
                  <a:pt x="-17002" y="175621"/>
                  <a:pt x="16954" y="205509"/>
                </a:cubicBez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100000">
                <a:srgbClr val="808080"/>
              </a:gs>
            </a:gsLst>
            <a:lin ang="8100000"/>
          </a:gradFill>
          <a:ln w="9525">
            <a:noFill/>
          </a:ln>
          <a:effectLst>
            <a:glow rad="13968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任意多边形 123"/>
          <p:cNvSpPr/>
          <p:nvPr/>
        </p:nvSpPr>
        <p:spPr>
          <a:xfrm>
            <a:off x="4158360" y="3561120"/>
            <a:ext cx="1624680" cy="1379520"/>
          </a:xfrm>
          <a:custGeom>
            <a:avLst/>
            <a:gdLst>
              <a:gd name="textAreaLeft" fmla="*/ 0 w 1624680"/>
              <a:gd name="textAreaRight" fmla="*/ 1625040 w 1624680"/>
              <a:gd name="textAreaTop" fmla="*/ 0 h 1379520"/>
              <a:gd name="textAreaBottom" fmla="*/ 1379880 h 1379520"/>
            </a:gdLst>
            <a:ahLst/>
            <a:rect l="textAreaLeft" t="textAreaTop" r="textAreaRight" b="textAreaBottom"/>
            <a:pathLst>
              <a:path w="1345715" h="1056173">
                <a:moveTo>
                  <a:pt x="264140" y="481163"/>
                </a:moveTo>
                <a:cubicBezTo>
                  <a:pt x="201240" y="498780"/>
                  <a:pt x="146223" y="468521"/>
                  <a:pt x="135722" y="480125"/>
                </a:cubicBezTo>
                <a:cubicBezTo>
                  <a:pt x="125221" y="491729"/>
                  <a:pt x="203594" y="536022"/>
                  <a:pt x="201136" y="550789"/>
                </a:cubicBezTo>
                <a:cubicBezTo>
                  <a:pt x="198678" y="565556"/>
                  <a:pt x="136704" y="565147"/>
                  <a:pt x="120971" y="568730"/>
                </a:cubicBezTo>
                <a:cubicBezTo>
                  <a:pt x="105238" y="572313"/>
                  <a:pt x="111441" y="570945"/>
                  <a:pt x="106739" y="572288"/>
                </a:cubicBezTo>
                <a:cubicBezTo>
                  <a:pt x="103133" y="573318"/>
                  <a:pt x="99683" y="574859"/>
                  <a:pt x="96065" y="575846"/>
                </a:cubicBezTo>
                <a:cubicBezTo>
                  <a:pt x="91076" y="577207"/>
                  <a:pt x="66481" y="582425"/>
                  <a:pt x="56927" y="586520"/>
                </a:cubicBezTo>
                <a:cubicBezTo>
                  <a:pt x="30879" y="597683"/>
                  <a:pt x="54702" y="590634"/>
                  <a:pt x="28463" y="597194"/>
                </a:cubicBezTo>
                <a:cubicBezTo>
                  <a:pt x="27277" y="600752"/>
                  <a:pt x="26985" y="604747"/>
                  <a:pt x="24905" y="607868"/>
                </a:cubicBezTo>
                <a:cubicBezTo>
                  <a:pt x="22114" y="612055"/>
                  <a:pt x="15613" y="613704"/>
                  <a:pt x="14231" y="618542"/>
                </a:cubicBezTo>
                <a:cubicBezTo>
                  <a:pt x="12470" y="624707"/>
                  <a:pt x="22768" y="642731"/>
                  <a:pt x="24905" y="647005"/>
                </a:cubicBezTo>
                <a:cubicBezTo>
                  <a:pt x="23919" y="651935"/>
                  <a:pt x="21208" y="669314"/>
                  <a:pt x="17789" y="675469"/>
                </a:cubicBezTo>
                <a:cubicBezTo>
                  <a:pt x="-2600" y="712172"/>
                  <a:pt x="8051" y="683338"/>
                  <a:pt x="0" y="707491"/>
                </a:cubicBezTo>
                <a:cubicBezTo>
                  <a:pt x="2372" y="714607"/>
                  <a:pt x="3141" y="722478"/>
                  <a:pt x="7116" y="728839"/>
                </a:cubicBezTo>
                <a:cubicBezTo>
                  <a:pt x="12351" y="737216"/>
                  <a:pt x="28403" y="738078"/>
                  <a:pt x="35579" y="739513"/>
                </a:cubicBezTo>
                <a:cubicBezTo>
                  <a:pt x="56927" y="738327"/>
                  <a:pt x="78322" y="737807"/>
                  <a:pt x="99623" y="735955"/>
                </a:cubicBezTo>
                <a:cubicBezTo>
                  <a:pt x="105648" y="735431"/>
                  <a:pt x="111366" y="732397"/>
                  <a:pt x="117413" y="732397"/>
                </a:cubicBezTo>
                <a:cubicBezTo>
                  <a:pt x="135242" y="732397"/>
                  <a:pt x="152992" y="734769"/>
                  <a:pt x="170782" y="735955"/>
                </a:cubicBezTo>
                <a:cubicBezTo>
                  <a:pt x="169596" y="750187"/>
                  <a:pt x="171455" y="766127"/>
                  <a:pt x="167224" y="778650"/>
                </a:cubicBezTo>
                <a:cubicBezTo>
                  <a:pt x="162993" y="791173"/>
                  <a:pt x="163023" y="797457"/>
                  <a:pt x="145394" y="811096"/>
                </a:cubicBezTo>
                <a:cubicBezTo>
                  <a:pt x="127765" y="824735"/>
                  <a:pt x="77381" y="845730"/>
                  <a:pt x="61451" y="860484"/>
                </a:cubicBezTo>
                <a:cubicBezTo>
                  <a:pt x="45521" y="875238"/>
                  <a:pt x="42856" y="897250"/>
                  <a:pt x="49811" y="899622"/>
                </a:cubicBezTo>
                <a:cubicBezTo>
                  <a:pt x="56766" y="901994"/>
                  <a:pt x="87693" y="880726"/>
                  <a:pt x="103181" y="874716"/>
                </a:cubicBezTo>
                <a:cubicBezTo>
                  <a:pt x="118669" y="868706"/>
                  <a:pt x="137864" y="863895"/>
                  <a:pt x="142742" y="863559"/>
                </a:cubicBezTo>
                <a:cubicBezTo>
                  <a:pt x="172345" y="861517"/>
                  <a:pt x="176712" y="868786"/>
                  <a:pt x="206362" y="867600"/>
                </a:cubicBezTo>
                <a:cubicBezTo>
                  <a:pt x="214833" y="864776"/>
                  <a:pt x="222041" y="859801"/>
                  <a:pt x="241942" y="856926"/>
                </a:cubicBezTo>
                <a:cubicBezTo>
                  <a:pt x="261843" y="854051"/>
                  <a:pt x="302047" y="849166"/>
                  <a:pt x="325767" y="850352"/>
                </a:cubicBezTo>
                <a:cubicBezTo>
                  <a:pt x="324581" y="861026"/>
                  <a:pt x="314027" y="884887"/>
                  <a:pt x="309544" y="892506"/>
                </a:cubicBezTo>
                <a:cubicBezTo>
                  <a:pt x="305061" y="900125"/>
                  <a:pt x="302225" y="894387"/>
                  <a:pt x="298870" y="896064"/>
                </a:cubicBezTo>
                <a:cubicBezTo>
                  <a:pt x="271984" y="909507"/>
                  <a:pt x="310811" y="900080"/>
                  <a:pt x="259732" y="910296"/>
                </a:cubicBezTo>
                <a:cubicBezTo>
                  <a:pt x="252964" y="911650"/>
                  <a:pt x="238563" y="913765"/>
                  <a:pt x="231268" y="917412"/>
                </a:cubicBezTo>
                <a:cubicBezTo>
                  <a:pt x="222716" y="921688"/>
                  <a:pt x="214561" y="926724"/>
                  <a:pt x="206362" y="931643"/>
                </a:cubicBezTo>
                <a:cubicBezTo>
                  <a:pt x="191471" y="940577"/>
                  <a:pt x="199270" y="938241"/>
                  <a:pt x="181456" y="945875"/>
                </a:cubicBezTo>
                <a:cubicBezTo>
                  <a:pt x="174311" y="948937"/>
                  <a:pt x="163772" y="951186"/>
                  <a:pt x="156551" y="952991"/>
                </a:cubicBezTo>
                <a:cubicBezTo>
                  <a:pt x="154179" y="958921"/>
                  <a:pt x="149890" y="964410"/>
                  <a:pt x="149435" y="970781"/>
                </a:cubicBezTo>
                <a:cubicBezTo>
                  <a:pt x="147485" y="998083"/>
                  <a:pt x="149417" y="997439"/>
                  <a:pt x="160109" y="1013477"/>
                </a:cubicBezTo>
                <a:cubicBezTo>
                  <a:pt x="166020" y="1031216"/>
                  <a:pt x="159989" y="1018424"/>
                  <a:pt x="174340" y="1034825"/>
                </a:cubicBezTo>
                <a:cubicBezTo>
                  <a:pt x="179341" y="1040540"/>
                  <a:pt x="182060" y="1048708"/>
                  <a:pt x="188572" y="1052615"/>
                </a:cubicBezTo>
                <a:cubicBezTo>
                  <a:pt x="194758" y="1056327"/>
                  <a:pt x="202804" y="1054987"/>
                  <a:pt x="209920" y="1056173"/>
                </a:cubicBezTo>
                <a:cubicBezTo>
                  <a:pt x="230082" y="1054987"/>
                  <a:pt x="250433" y="1055611"/>
                  <a:pt x="270406" y="1052615"/>
                </a:cubicBezTo>
                <a:cubicBezTo>
                  <a:pt x="274635" y="1051981"/>
                  <a:pt x="277255" y="1047411"/>
                  <a:pt x="281080" y="1045499"/>
                </a:cubicBezTo>
                <a:cubicBezTo>
                  <a:pt x="284435" y="1043822"/>
                  <a:pt x="288196" y="1043127"/>
                  <a:pt x="291754" y="1041941"/>
                </a:cubicBezTo>
                <a:cubicBezTo>
                  <a:pt x="295312" y="1038383"/>
                  <a:pt x="299637" y="1035454"/>
                  <a:pt x="302428" y="1031267"/>
                </a:cubicBezTo>
                <a:cubicBezTo>
                  <a:pt x="314005" y="1013902"/>
                  <a:pt x="296304" y="1026717"/>
                  <a:pt x="313102" y="1009919"/>
                </a:cubicBezTo>
                <a:cubicBezTo>
                  <a:pt x="316125" y="1006895"/>
                  <a:pt x="320217" y="1005175"/>
                  <a:pt x="323775" y="1002803"/>
                </a:cubicBezTo>
                <a:cubicBezTo>
                  <a:pt x="331826" y="978650"/>
                  <a:pt x="320134" y="1006444"/>
                  <a:pt x="348681" y="977897"/>
                </a:cubicBezTo>
                <a:cubicBezTo>
                  <a:pt x="352239" y="974339"/>
                  <a:pt x="354986" y="969719"/>
                  <a:pt x="359355" y="967223"/>
                </a:cubicBezTo>
                <a:cubicBezTo>
                  <a:pt x="363601" y="964797"/>
                  <a:pt x="368885" y="965008"/>
                  <a:pt x="373587" y="963665"/>
                </a:cubicBezTo>
                <a:cubicBezTo>
                  <a:pt x="377193" y="962635"/>
                  <a:pt x="380600" y="960921"/>
                  <a:pt x="384261" y="960107"/>
                </a:cubicBezTo>
                <a:cubicBezTo>
                  <a:pt x="391303" y="958542"/>
                  <a:pt x="398567" y="958114"/>
                  <a:pt x="405609" y="956549"/>
                </a:cubicBezTo>
                <a:cubicBezTo>
                  <a:pt x="417775" y="953846"/>
                  <a:pt x="422414" y="949313"/>
                  <a:pt x="434073" y="942317"/>
                </a:cubicBezTo>
                <a:cubicBezTo>
                  <a:pt x="436445" y="938759"/>
                  <a:pt x="438451" y="934928"/>
                  <a:pt x="441189" y="931643"/>
                </a:cubicBezTo>
                <a:cubicBezTo>
                  <a:pt x="454570" y="915586"/>
                  <a:pt x="449341" y="927162"/>
                  <a:pt x="458979" y="910296"/>
                </a:cubicBezTo>
                <a:cubicBezTo>
                  <a:pt x="464404" y="900803"/>
                  <a:pt x="466800" y="895373"/>
                  <a:pt x="469652" y="885390"/>
                </a:cubicBezTo>
                <a:cubicBezTo>
                  <a:pt x="470995" y="880688"/>
                  <a:pt x="470498" y="875227"/>
                  <a:pt x="473210" y="871158"/>
                </a:cubicBezTo>
                <a:cubicBezTo>
                  <a:pt x="475582" y="867600"/>
                  <a:pt x="480637" y="866825"/>
                  <a:pt x="483884" y="864042"/>
                </a:cubicBezTo>
                <a:cubicBezTo>
                  <a:pt x="493379" y="855903"/>
                  <a:pt x="497480" y="847721"/>
                  <a:pt x="508790" y="842694"/>
                </a:cubicBezTo>
                <a:cubicBezTo>
                  <a:pt x="515644" y="839648"/>
                  <a:pt x="523284" y="838624"/>
                  <a:pt x="530138" y="835578"/>
                </a:cubicBezTo>
                <a:cubicBezTo>
                  <a:pt x="534046" y="833841"/>
                  <a:pt x="536987" y="830374"/>
                  <a:pt x="540812" y="828462"/>
                </a:cubicBezTo>
                <a:cubicBezTo>
                  <a:pt x="544167" y="826785"/>
                  <a:pt x="548131" y="826581"/>
                  <a:pt x="551486" y="824904"/>
                </a:cubicBezTo>
                <a:cubicBezTo>
                  <a:pt x="555311" y="822992"/>
                  <a:pt x="558875" y="820526"/>
                  <a:pt x="562160" y="817788"/>
                </a:cubicBezTo>
                <a:cubicBezTo>
                  <a:pt x="572928" y="808815"/>
                  <a:pt x="578766" y="796736"/>
                  <a:pt x="594182" y="792882"/>
                </a:cubicBezTo>
                <a:cubicBezTo>
                  <a:pt x="608414" y="789324"/>
                  <a:pt x="622280" y="783668"/>
                  <a:pt x="636877" y="782208"/>
                </a:cubicBezTo>
                <a:lnTo>
                  <a:pt x="672457" y="778650"/>
                </a:lnTo>
                <a:cubicBezTo>
                  <a:pt x="680786" y="777670"/>
                  <a:pt x="689001" y="775736"/>
                  <a:pt x="697363" y="775093"/>
                </a:cubicBezTo>
                <a:cubicBezTo>
                  <a:pt x="719862" y="773363"/>
                  <a:pt x="742431" y="772721"/>
                  <a:pt x="764965" y="771535"/>
                </a:cubicBezTo>
                <a:cubicBezTo>
                  <a:pt x="772081" y="769163"/>
                  <a:pt x="779755" y="768062"/>
                  <a:pt x="786312" y="764419"/>
                </a:cubicBezTo>
                <a:cubicBezTo>
                  <a:pt x="820997" y="745149"/>
                  <a:pt x="772130" y="759959"/>
                  <a:pt x="811218" y="750187"/>
                </a:cubicBezTo>
                <a:cubicBezTo>
                  <a:pt x="814776" y="747815"/>
                  <a:pt x="818179" y="745193"/>
                  <a:pt x="821892" y="743071"/>
                </a:cubicBezTo>
                <a:cubicBezTo>
                  <a:pt x="826497" y="740440"/>
                  <a:pt x="832374" y="739705"/>
                  <a:pt x="836124" y="735955"/>
                </a:cubicBezTo>
                <a:cubicBezTo>
                  <a:pt x="839874" y="732205"/>
                  <a:pt x="840157" y="726039"/>
                  <a:pt x="843240" y="721723"/>
                </a:cubicBezTo>
                <a:cubicBezTo>
                  <a:pt x="849466" y="713006"/>
                  <a:pt x="856077" y="709607"/>
                  <a:pt x="864588" y="703933"/>
                </a:cubicBezTo>
                <a:cubicBezTo>
                  <a:pt x="869965" y="682424"/>
                  <a:pt x="866600" y="694340"/>
                  <a:pt x="875262" y="668353"/>
                </a:cubicBezTo>
                <a:lnTo>
                  <a:pt x="878820" y="657679"/>
                </a:lnTo>
                <a:cubicBezTo>
                  <a:pt x="880006" y="654121"/>
                  <a:pt x="880701" y="650360"/>
                  <a:pt x="882378" y="647005"/>
                </a:cubicBezTo>
                <a:cubicBezTo>
                  <a:pt x="884750" y="642261"/>
                  <a:pt x="887405" y="637648"/>
                  <a:pt x="889494" y="632773"/>
                </a:cubicBezTo>
                <a:cubicBezTo>
                  <a:pt x="892621" y="625477"/>
                  <a:pt x="895833" y="609512"/>
                  <a:pt x="900168" y="604310"/>
                </a:cubicBezTo>
                <a:cubicBezTo>
                  <a:pt x="902569" y="601429"/>
                  <a:pt x="907284" y="601938"/>
                  <a:pt x="910842" y="600752"/>
                </a:cubicBezTo>
                <a:cubicBezTo>
                  <a:pt x="915586" y="597194"/>
                  <a:pt x="920139" y="593367"/>
                  <a:pt x="925073" y="590078"/>
                </a:cubicBezTo>
                <a:cubicBezTo>
                  <a:pt x="930827" y="586242"/>
                  <a:pt x="937612" y="583905"/>
                  <a:pt x="942863" y="579404"/>
                </a:cubicBezTo>
                <a:cubicBezTo>
                  <a:pt x="946110" y="576621"/>
                  <a:pt x="946353" y="570996"/>
                  <a:pt x="949979" y="568730"/>
                </a:cubicBezTo>
                <a:cubicBezTo>
                  <a:pt x="956340" y="564755"/>
                  <a:pt x="964618" y="564969"/>
                  <a:pt x="971327" y="561614"/>
                </a:cubicBezTo>
                <a:lnTo>
                  <a:pt x="985559" y="554498"/>
                </a:lnTo>
                <a:cubicBezTo>
                  <a:pt x="990303" y="548568"/>
                  <a:pt x="993472" y="540920"/>
                  <a:pt x="999791" y="536708"/>
                </a:cubicBezTo>
                <a:cubicBezTo>
                  <a:pt x="1004823" y="533353"/>
                  <a:pt x="1011747" y="534741"/>
                  <a:pt x="1017581" y="533150"/>
                </a:cubicBezTo>
                <a:cubicBezTo>
                  <a:pt x="1024818" y="531176"/>
                  <a:pt x="1032220" y="529389"/>
                  <a:pt x="1038929" y="526034"/>
                </a:cubicBezTo>
                <a:cubicBezTo>
                  <a:pt x="1097636" y="496681"/>
                  <a:pt x="1023833" y="532324"/>
                  <a:pt x="1081624" y="508244"/>
                </a:cubicBezTo>
                <a:cubicBezTo>
                  <a:pt x="1137731" y="484865"/>
                  <a:pt x="1068978" y="508901"/>
                  <a:pt x="1124320" y="490454"/>
                </a:cubicBezTo>
                <a:cubicBezTo>
                  <a:pt x="1158365" y="456409"/>
                  <a:pt x="1114777" y="496814"/>
                  <a:pt x="1145668" y="476222"/>
                </a:cubicBezTo>
                <a:cubicBezTo>
                  <a:pt x="1149855" y="473431"/>
                  <a:pt x="1153029" y="469336"/>
                  <a:pt x="1156342" y="465549"/>
                </a:cubicBezTo>
                <a:cubicBezTo>
                  <a:pt x="1161343" y="459834"/>
                  <a:pt x="1164062" y="451666"/>
                  <a:pt x="1170574" y="447759"/>
                </a:cubicBezTo>
                <a:cubicBezTo>
                  <a:pt x="1176760" y="444047"/>
                  <a:pt x="1184806" y="445387"/>
                  <a:pt x="1191922" y="444201"/>
                </a:cubicBezTo>
                <a:cubicBezTo>
                  <a:pt x="1195480" y="440643"/>
                  <a:pt x="1198730" y="436748"/>
                  <a:pt x="1202596" y="433527"/>
                </a:cubicBezTo>
                <a:cubicBezTo>
                  <a:pt x="1232317" y="408759"/>
                  <a:pt x="1192760" y="446921"/>
                  <a:pt x="1223944" y="415737"/>
                </a:cubicBezTo>
                <a:cubicBezTo>
                  <a:pt x="1225130" y="412179"/>
                  <a:pt x="1224850" y="407715"/>
                  <a:pt x="1227502" y="405063"/>
                </a:cubicBezTo>
                <a:cubicBezTo>
                  <a:pt x="1231252" y="401313"/>
                  <a:pt x="1236767" y="399809"/>
                  <a:pt x="1241733" y="397947"/>
                </a:cubicBezTo>
                <a:cubicBezTo>
                  <a:pt x="1246312" y="396230"/>
                  <a:pt x="1251263" y="395732"/>
                  <a:pt x="1255965" y="394389"/>
                </a:cubicBezTo>
                <a:cubicBezTo>
                  <a:pt x="1259571" y="393359"/>
                  <a:pt x="1263081" y="392017"/>
                  <a:pt x="1266639" y="390831"/>
                </a:cubicBezTo>
                <a:cubicBezTo>
                  <a:pt x="1269011" y="387273"/>
                  <a:pt x="1271843" y="383982"/>
                  <a:pt x="1273755" y="380157"/>
                </a:cubicBezTo>
                <a:cubicBezTo>
                  <a:pt x="1275432" y="376802"/>
                  <a:pt x="1274661" y="372135"/>
                  <a:pt x="1277313" y="369483"/>
                </a:cubicBezTo>
                <a:cubicBezTo>
                  <a:pt x="1279965" y="366831"/>
                  <a:pt x="1284429" y="367111"/>
                  <a:pt x="1287987" y="365925"/>
                </a:cubicBezTo>
                <a:cubicBezTo>
                  <a:pt x="1290359" y="362367"/>
                  <a:pt x="1291764" y="357922"/>
                  <a:pt x="1295103" y="355251"/>
                </a:cubicBezTo>
                <a:cubicBezTo>
                  <a:pt x="1298032" y="352908"/>
                  <a:pt x="1300440" y="357020"/>
                  <a:pt x="1305777" y="351693"/>
                </a:cubicBezTo>
                <a:cubicBezTo>
                  <a:pt x="1311114" y="346366"/>
                  <a:pt x="1300296" y="332231"/>
                  <a:pt x="1327125" y="323288"/>
                </a:cubicBezTo>
                <a:cubicBezTo>
                  <a:pt x="1333487" y="310262"/>
                  <a:pt x="1340984" y="291327"/>
                  <a:pt x="1343949" y="273537"/>
                </a:cubicBezTo>
                <a:cubicBezTo>
                  <a:pt x="1346914" y="255747"/>
                  <a:pt x="1345347" y="242602"/>
                  <a:pt x="1344915" y="234280"/>
                </a:cubicBezTo>
                <a:cubicBezTo>
                  <a:pt x="1344483" y="225958"/>
                  <a:pt x="1342834" y="227053"/>
                  <a:pt x="1341357" y="223606"/>
                </a:cubicBezTo>
                <a:cubicBezTo>
                  <a:pt x="1339268" y="218731"/>
                  <a:pt x="1336395" y="214221"/>
                  <a:pt x="1334241" y="209374"/>
                </a:cubicBezTo>
                <a:cubicBezTo>
                  <a:pt x="1330164" y="200201"/>
                  <a:pt x="1327570" y="188471"/>
                  <a:pt x="1320009" y="180910"/>
                </a:cubicBezTo>
                <a:cubicBezTo>
                  <a:pt x="1316985" y="177886"/>
                  <a:pt x="1312359" y="176818"/>
                  <a:pt x="1309335" y="173794"/>
                </a:cubicBezTo>
                <a:cubicBezTo>
                  <a:pt x="1282855" y="147316"/>
                  <a:pt x="1313143" y="169217"/>
                  <a:pt x="1287987" y="152447"/>
                </a:cubicBezTo>
                <a:cubicBezTo>
                  <a:pt x="1264267" y="154819"/>
                  <a:pt x="1240466" y="156480"/>
                  <a:pt x="1216828" y="159563"/>
                </a:cubicBezTo>
                <a:cubicBezTo>
                  <a:pt x="1213109" y="160048"/>
                  <a:pt x="1209760" y="162091"/>
                  <a:pt x="1206154" y="163121"/>
                </a:cubicBezTo>
                <a:cubicBezTo>
                  <a:pt x="1201452" y="164464"/>
                  <a:pt x="1196717" y="165719"/>
                  <a:pt x="1191922" y="166678"/>
                </a:cubicBezTo>
                <a:cubicBezTo>
                  <a:pt x="1120684" y="180924"/>
                  <a:pt x="1201431" y="162719"/>
                  <a:pt x="1159900" y="173794"/>
                </a:cubicBezTo>
                <a:cubicBezTo>
                  <a:pt x="1145725" y="177574"/>
                  <a:pt x="1130325" y="177907"/>
                  <a:pt x="1117204" y="184468"/>
                </a:cubicBezTo>
                <a:cubicBezTo>
                  <a:pt x="1112460" y="186840"/>
                  <a:pt x="1107847" y="189495"/>
                  <a:pt x="1102972" y="191584"/>
                </a:cubicBezTo>
                <a:cubicBezTo>
                  <a:pt x="1095826" y="194647"/>
                  <a:pt x="1085288" y="196894"/>
                  <a:pt x="1078066" y="198700"/>
                </a:cubicBezTo>
                <a:cubicBezTo>
                  <a:pt x="1075694" y="202258"/>
                  <a:pt x="1074169" y="206558"/>
                  <a:pt x="1070951" y="209374"/>
                </a:cubicBezTo>
                <a:cubicBezTo>
                  <a:pt x="1064515" y="215006"/>
                  <a:pt x="1049603" y="223606"/>
                  <a:pt x="1049603" y="223606"/>
                </a:cubicBezTo>
                <a:cubicBezTo>
                  <a:pt x="1047231" y="227164"/>
                  <a:pt x="1045772" y="231542"/>
                  <a:pt x="1042487" y="234280"/>
                </a:cubicBezTo>
                <a:cubicBezTo>
                  <a:pt x="1038412" y="237676"/>
                  <a:pt x="1032891" y="238820"/>
                  <a:pt x="1028255" y="241396"/>
                </a:cubicBezTo>
                <a:cubicBezTo>
                  <a:pt x="1003048" y="255400"/>
                  <a:pt x="1019304" y="249124"/>
                  <a:pt x="999791" y="255628"/>
                </a:cubicBezTo>
                <a:cubicBezTo>
                  <a:pt x="989117" y="253256"/>
                  <a:pt x="973834" y="257610"/>
                  <a:pt x="967769" y="248512"/>
                </a:cubicBezTo>
                <a:cubicBezTo>
                  <a:pt x="961157" y="238595"/>
                  <a:pt x="969752" y="224747"/>
                  <a:pt x="971327" y="212932"/>
                </a:cubicBezTo>
                <a:cubicBezTo>
                  <a:pt x="972126" y="206938"/>
                  <a:pt x="972429" y="200668"/>
                  <a:pt x="974885" y="195142"/>
                </a:cubicBezTo>
                <a:cubicBezTo>
                  <a:pt x="976962" y="190469"/>
                  <a:pt x="991223" y="173576"/>
                  <a:pt x="996233" y="170236"/>
                </a:cubicBezTo>
                <a:cubicBezTo>
                  <a:pt x="999354" y="168156"/>
                  <a:pt x="1003349" y="167864"/>
                  <a:pt x="1006907" y="166678"/>
                </a:cubicBezTo>
                <a:cubicBezTo>
                  <a:pt x="1011651" y="161934"/>
                  <a:pt x="1016773" y="157541"/>
                  <a:pt x="1021139" y="152447"/>
                </a:cubicBezTo>
                <a:cubicBezTo>
                  <a:pt x="1023922" y="149200"/>
                  <a:pt x="1024629" y="144039"/>
                  <a:pt x="1028255" y="141773"/>
                </a:cubicBezTo>
                <a:cubicBezTo>
                  <a:pt x="1034616" y="137798"/>
                  <a:pt x="1043362" y="138818"/>
                  <a:pt x="1049603" y="134657"/>
                </a:cubicBezTo>
                <a:cubicBezTo>
                  <a:pt x="1064464" y="124750"/>
                  <a:pt x="1057253" y="130565"/>
                  <a:pt x="1070951" y="116867"/>
                </a:cubicBezTo>
                <a:cubicBezTo>
                  <a:pt x="1073398" y="94840"/>
                  <a:pt x="1071601" y="85098"/>
                  <a:pt x="1081624" y="67055"/>
                </a:cubicBezTo>
                <a:cubicBezTo>
                  <a:pt x="1084504" y="61871"/>
                  <a:pt x="1088740" y="57567"/>
                  <a:pt x="1092298" y="52823"/>
                </a:cubicBezTo>
                <a:cubicBezTo>
                  <a:pt x="1097118" y="38363"/>
                  <a:pt x="1106256" y="15701"/>
                  <a:pt x="1092298" y="3012"/>
                </a:cubicBezTo>
                <a:cubicBezTo>
                  <a:pt x="1083479" y="-5005"/>
                  <a:pt x="1068579" y="5384"/>
                  <a:pt x="1056719" y="6570"/>
                </a:cubicBezTo>
                <a:cubicBezTo>
                  <a:pt x="1050789" y="10128"/>
                  <a:pt x="1045350" y="14675"/>
                  <a:pt x="1038929" y="17243"/>
                </a:cubicBezTo>
                <a:cubicBezTo>
                  <a:pt x="1033314" y="19489"/>
                  <a:pt x="1026973" y="19210"/>
                  <a:pt x="1021139" y="20801"/>
                </a:cubicBezTo>
                <a:lnTo>
                  <a:pt x="989117" y="31475"/>
                </a:lnTo>
                <a:lnTo>
                  <a:pt x="946421" y="45707"/>
                </a:lnTo>
                <a:cubicBezTo>
                  <a:pt x="942863" y="46893"/>
                  <a:pt x="944742" y="42581"/>
                  <a:pt x="935747" y="49265"/>
                </a:cubicBezTo>
                <a:cubicBezTo>
                  <a:pt x="926752" y="55949"/>
                  <a:pt x="906783" y="73799"/>
                  <a:pt x="892451" y="85810"/>
                </a:cubicBezTo>
                <a:cubicBezTo>
                  <a:pt x="878119" y="97821"/>
                  <a:pt x="866691" y="110919"/>
                  <a:pt x="849755" y="121332"/>
                </a:cubicBezTo>
                <a:cubicBezTo>
                  <a:pt x="832819" y="131745"/>
                  <a:pt x="806576" y="145052"/>
                  <a:pt x="790836" y="148288"/>
                </a:cubicBezTo>
                <a:cubicBezTo>
                  <a:pt x="775096" y="151524"/>
                  <a:pt x="767337" y="137683"/>
                  <a:pt x="755316" y="140748"/>
                </a:cubicBezTo>
                <a:cubicBezTo>
                  <a:pt x="743295" y="143813"/>
                  <a:pt x="729556" y="156426"/>
                  <a:pt x="718711" y="166678"/>
                </a:cubicBezTo>
                <a:cubicBezTo>
                  <a:pt x="707866" y="176930"/>
                  <a:pt x="708771" y="181088"/>
                  <a:pt x="690247" y="202258"/>
                </a:cubicBezTo>
                <a:cubicBezTo>
                  <a:pt x="685829" y="207307"/>
                  <a:pt x="680759" y="211746"/>
                  <a:pt x="676015" y="216490"/>
                </a:cubicBezTo>
                <a:cubicBezTo>
                  <a:pt x="674829" y="220048"/>
                  <a:pt x="673487" y="223558"/>
                  <a:pt x="672457" y="227164"/>
                </a:cubicBezTo>
                <a:cubicBezTo>
                  <a:pt x="671114" y="231866"/>
                  <a:pt x="670616" y="236817"/>
                  <a:pt x="668899" y="241396"/>
                </a:cubicBezTo>
                <a:cubicBezTo>
                  <a:pt x="667037" y="246362"/>
                  <a:pt x="663872" y="250753"/>
                  <a:pt x="661783" y="255628"/>
                </a:cubicBezTo>
                <a:cubicBezTo>
                  <a:pt x="652945" y="276251"/>
                  <a:pt x="664784" y="256463"/>
                  <a:pt x="651109" y="276976"/>
                </a:cubicBezTo>
                <a:cubicBezTo>
                  <a:pt x="650932" y="277862"/>
                  <a:pt x="646911" y="301793"/>
                  <a:pt x="643993" y="305440"/>
                </a:cubicBezTo>
                <a:cubicBezTo>
                  <a:pt x="641322" y="308779"/>
                  <a:pt x="636877" y="310184"/>
                  <a:pt x="633319" y="312556"/>
                </a:cubicBezTo>
                <a:cubicBezTo>
                  <a:pt x="629327" y="324531"/>
                  <a:pt x="629680" y="325149"/>
                  <a:pt x="622645" y="337461"/>
                </a:cubicBezTo>
                <a:cubicBezTo>
                  <a:pt x="617849" y="345854"/>
                  <a:pt x="610318" y="354721"/>
                  <a:pt x="604856" y="362367"/>
                </a:cubicBezTo>
                <a:cubicBezTo>
                  <a:pt x="598889" y="370721"/>
                  <a:pt x="596127" y="377674"/>
                  <a:pt x="587066" y="383715"/>
                </a:cubicBezTo>
                <a:cubicBezTo>
                  <a:pt x="583945" y="385795"/>
                  <a:pt x="579904" y="385956"/>
                  <a:pt x="576392" y="387273"/>
                </a:cubicBezTo>
                <a:cubicBezTo>
                  <a:pt x="570412" y="389516"/>
                  <a:pt x="564532" y="392017"/>
                  <a:pt x="558602" y="394389"/>
                </a:cubicBezTo>
                <a:cubicBezTo>
                  <a:pt x="555044" y="397947"/>
                  <a:pt x="551748" y="401788"/>
                  <a:pt x="547928" y="405063"/>
                </a:cubicBezTo>
                <a:cubicBezTo>
                  <a:pt x="530026" y="420408"/>
                  <a:pt x="521905" y="419192"/>
                  <a:pt x="505232" y="444201"/>
                </a:cubicBezTo>
                <a:lnTo>
                  <a:pt x="491000" y="465549"/>
                </a:lnTo>
                <a:lnTo>
                  <a:pt x="483884" y="476222"/>
                </a:lnTo>
                <a:cubicBezTo>
                  <a:pt x="474064" y="505683"/>
                  <a:pt x="483009" y="493409"/>
                  <a:pt x="455421" y="511802"/>
                </a:cubicBezTo>
                <a:lnTo>
                  <a:pt x="444747" y="518918"/>
                </a:lnTo>
                <a:lnTo>
                  <a:pt x="434073" y="526034"/>
                </a:lnTo>
                <a:cubicBezTo>
                  <a:pt x="432887" y="529592"/>
                  <a:pt x="433167" y="534056"/>
                  <a:pt x="430515" y="536708"/>
                </a:cubicBezTo>
                <a:cubicBezTo>
                  <a:pt x="425879" y="541344"/>
                  <a:pt x="400658" y="557576"/>
                  <a:pt x="391377" y="558056"/>
                </a:cubicBezTo>
                <a:cubicBezTo>
                  <a:pt x="328592" y="561304"/>
                  <a:pt x="411540" y="492909"/>
                  <a:pt x="348681" y="494012"/>
                </a:cubicBezTo>
                <a:cubicBezTo>
                  <a:pt x="343938" y="494095"/>
                  <a:pt x="327040" y="463546"/>
                  <a:pt x="264140" y="481163"/>
                </a:cubicBezTo>
                <a:close/>
              </a:path>
            </a:pathLst>
          </a:custGeom>
          <a:gradFill rotWithShape="0">
            <a:gsLst>
              <a:gs pos="0">
                <a:srgbClr val="404040"/>
              </a:gs>
              <a:gs pos="100000">
                <a:srgbClr val="0d0d0d"/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glow rad="139680">
              <a:srgbClr val="a5a5a5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任意多边形 125"/>
          <p:cNvSpPr/>
          <p:nvPr/>
        </p:nvSpPr>
        <p:spPr>
          <a:xfrm>
            <a:off x="4356720" y="3815280"/>
            <a:ext cx="1032120" cy="885960"/>
          </a:xfrm>
          <a:custGeom>
            <a:avLst/>
            <a:gdLst>
              <a:gd name="textAreaLeft" fmla="*/ 0 w 1032120"/>
              <a:gd name="textAreaRight" fmla="*/ 1032480 w 103212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876001" h="751845">
                <a:moveTo>
                  <a:pt x="20959" y="686017"/>
                </a:moveTo>
                <a:cubicBezTo>
                  <a:pt x="47928" y="693745"/>
                  <a:pt x="144636" y="649140"/>
                  <a:pt x="175546" y="659851"/>
                </a:cubicBezTo>
                <a:cubicBezTo>
                  <a:pt x="206456" y="670562"/>
                  <a:pt x="135167" y="765052"/>
                  <a:pt x="206419" y="750283"/>
                </a:cubicBezTo>
                <a:cubicBezTo>
                  <a:pt x="277671" y="735514"/>
                  <a:pt x="347812" y="665614"/>
                  <a:pt x="410929" y="635278"/>
                </a:cubicBezTo>
                <a:cubicBezTo>
                  <a:pt x="474046" y="604943"/>
                  <a:pt x="516791" y="629682"/>
                  <a:pt x="585121" y="568270"/>
                </a:cubicBezTo>
                <a:cubicBezTo>
                  <a:pt x="653451" y="506858"/>
                  <a:pt x="786525" y="331739"/>
                  <a:pt x="820912" y="266806"/>
                </a:cubicBezTo>
                <a:cubicBezTo>
                  <a:pt x="855299" y="201873"/>
                  <a:pt x="782928" y="228995"/>
                  <a:pt x="791446" y="203577"/>
                </a:cubicBezTo>
                <a:cubicBezTo>
                  <a:pt x="799964" y="178159"/>
                  <a:pt x="896561" y="151746"/>
                  <a:pt x="872020" y="114295"/>
                </a:cubicBezTo>
                <a:cubicBezTo>
                  <a:pt x="847479" y="76844"/>
                  <a:pt x="851376" y="3755"/>
                  <a:pt x="793633" y="216"/>
                </a:cubicBezTo>
                <a:cubicBezTo>
                  <a:pt x="735890" y="-3323"/>
                  <a:pt x="607939" y="37094"/>
                  <a:pt x="525562" y="93058"/>
                </a:cubicBezTo>
                <a:cubicBezTo>
                  <a:pt x="443185" y="149022"/>
                  <a:pt x="367442" y="278851"/>
                  <a:pt x="299371" y="336001"/>
                </a:cubicBezTo>
                <a:cubicBezTo>
                  <a:pt x="231300" y="393151"/>
                  <a:pt x="165545" y="402219"/>
                  <a:pt x="117136" y="435958"/>
                </a:cubicBezTo>
                <a:cubicBezTo>
                  <a:pt x="68727" y="469697"/>
                  <a:pt x="-2407" y="515407"/>
                  <a:pt x="8915" y="538435"/>
                </a:cubicBezTo>
                <a:cubicBezTo>
                  <a:pt x="20237" y="561463"/>
                  <a:pt x="184268" y="561618"/>
                  <a:pt x="185071" y="574126"/>
                </a:cubicBezTo>
                <a:cubicBezTo>
                  <a:pt x="185874" y="586634"/>
                  <a:pt x="32782" y="596024"/>
                  <a:pt x="13732" y="613486"/>
                </a:cubicBezTo>
                <a:cubicBezTo>
                  <a:pt x="-5318" y="630948"/>
                  <a:pt x="-6010" y="678290"/>
                  <a:pt x="20959" y="686017"/>
                </a:cubicBezTo>
                <a:close/>
              </a:path>
            </a:pathLst>
          </a:custGeom>
          <a:solidFill>
            <a:schemeClr val="tx1"/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任意多边形 126"/>
          <p:cNvSpPr/>
          <p:nvPr/>
        </p:nvSpPr>
        <p:spPr>
          <a:xfrm rot="20773800">
            <a:off x="4575600" y="3934080"/>
            <a:ext cx="445320" cy="807120"/>
          </a:xfrm>
          <a:custGeom>
            <a:avLst/>
            <a:gdLst>
              <a:gd name="textAreaLeft" fmla="*/ 0 w 445320"/>
              <a:gd name="textAreaRight" fmla="*/ 445680 w 445320"/>
              <a:gd name="textAreaTop" fmla="*/ 0 h 807120"/>
              <a:gd name="textAreaBottom" fmla="*/ 807480 h 807120"/>
            </a:gdLst>
            <a:ahLst/>
            <a:rect l="textAreaLeft" t="textAreaTop" r="textAreaRight" b="textAreaBottom"/>
            <a:pathLst>
              <a:path w="378027" h="685180">
                <a:moveTo>
                  <a:pt x="189220" y="168337"/>
                </a:moveTo>
                <a:cubicBezTo>
                  <a:pt x="164017" y="124955"/>
                  <a:pt x="132168" y="122505"/>
                  <a:pt x="119056" y="100553"/>
                </a:cubicBezTo>
                <a:cubicBezTo>
                  <a:pt x="105944" y="78601"/>
                  <a:pt x="122544" y="69831"/>
                  <a:pt x="110547" y="36622"/>
                </a:cubicBezTo>
                <a:cubicBezTo>
                  <a:pt x="98550" y="3413"/>
                  <a:pt x="91391" y="-3331"/>
                  <a:pt x="61357" y="1313"/>
                </a:cubicBezTo>
                <a:cubicBezTo>
                  <a:pt x="31323" y="5957"/>
                  <a:pt x="-8985" y="31175"/>
                  <a:pt x="1781" y="64485"/>
                </a:cubicBezTo>
                <a:cubicBezTo>
                  <a:pt x="12547" y="97795"/>
                  <a:pt x="49386" y="90117"/>
                  <a:pt x="68805" y="115447"/>
                </a:cubicBezTo>
                <a:cubicBezTo>
                  <a:pt x="88224" y="140777"/>
                  <a:pt x="91473" y="155300"/>
                  <a:pt x="118297" y="216463"/>
                </a:cubicBezTo>
                <a:cubicBezTo>
                  <a:pt x="145121" y="277626"/>
                  <a:pt x="202729" y="429654"/>
                  <a:pt x="229747" y="482424"/>
                </a:cubicBezTo>
                <a:cubicBezTo>
                  <a:pt x="256765" y="535194"/>
                  <a:pt x="272385" y="506909"/>
                  <a:pt x="280406" y="533083"/>
                </a:cubicBezTo>
                <a:cubicBezTo>
                  <a:pt x="288427" y="559257"/>
                  <a:pt x="292227" y="616671"/>
                  <a:pt x="277874" y="639468"/>
                </a:cubicBezTo>
                <a:cubicBezTo>
                  <a:pt x="263521" y="662265"/>
                  <a:pt x="314551" y="687121"/>
                  <a:pt x="331066" y="685061"/>
                </a:cubicBezTo>
                <a:cubicBezTo>
                  <a:pt x="347581" y="683001"/>
                  <a:pt x="384774" y="662569"/>
                  <a:pt x="376963" y="627106"/>
                </a:cubicBezTo>
                <a:cubicBezTo>
                  <a:pt x="369152" y="591643"/>
                  <a:pt x="338090" y="605206"/>
                  <a:pt x="327063" y="586580"/>
                </a:cubicBezTo>
                <a:cubicBezTo>
                  <a:pt x="316036" y="567954"/>
                  <a:pt x="311376" y="537127"/>
                  <a:pt x="310802" y="515352"/>
                </a:cubicBezTo>
                <a:cubicBezTo>
                  <a:pt x="310228" y="493577"/>
                  <a:pt x="334173" y="492233"/>
                  <a:pt x="323619" y="455927"/>
                </a:cubicBezTo>
                <a:cubicBezTo>
                  <a:pt x="313065" y="419621"/>
                  <a:pt x="292675" y="408774"/>
                  <a:pt x="270275" y="360842"/>
                </a:cubicBezTo>
                <a:cubicBezTo>
                  <a:pt x="247875" y="312910"/>
                  <a:pt x="214423" y="211719"/>
                  <a:pt x="189220" y="168337"/>
                </a:cubicBezTo>
                <a:close/>
              </a:path>
            </a:pathLst>
          </a:custGeom>
          <a:solidFill>
            <a:schemeClr val="tx1"/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矩形 1"/>
          <p:cNvSpPr/>
          <p:nvPr/>
        </p:nvSpPr>
        <p:spPr>
          <a:xfrm>
            <a:off x="3093480" y="350640"/>
            <a:ext cx="5156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高手手绘虾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  <Words>24</Words>
  <Paragraphs>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08:18:53Z</dcterms:created>
  <dc:creator>Junming Zhang</dc:creator>
  <dc:description/>
  <dc:language>en-US</dc:language>
  <cp:lastModifiedBy>王玉清</cp:lastModifiedBy>
  <dcterms:modified xsi:type="dcterms:W3CDTF">2016-02-24T02:43:04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</vt:r8>
  </property>
</Properties>
</file>