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CE4-AC73-4DBD-82FA-0467091906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EBF6-07C4-440B-87D3-19739EE41D5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A7B1-A0FB-4D10-B700-EE182AA3BE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13F7-933C-469E-82DD-B991645ADB3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695F-91EA-40F8-A405-5DAF006B3D7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75B-3928-4AC5-99FB-921C3122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2D5-225F-4720-B06C-8ADC516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66F-5FCC-4FAB-BE77-6CCE1DA7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B82-A368-4FC3-B8C4-D9636559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709-DEFA-4E3C-9732-0D37AFC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27B-F1D3-4922-935A-04CDDDB7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7D4-8B9D-4D12-B0C3-8F99ED2A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1D5-F739-4B3D-AF26-5F9FB15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385-A82A-44A1-BD5F-E177378D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573-868F-46F0-85C6-A369DD4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D02-7567-4CC9-BD5E-2F5AB35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643-7FB5-43ED-B336-9FD4661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24D6-4572-4262-9522-425E05E757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779480" y="2565360"/>
            <a:ext cx="57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cript MT Bold"/>
                <a:ea typeface="宋体"/>
              </a:rPr>
              <a:t>Se abre el telón y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1817640" y="18572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开场序幕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979640" y="1773360"/>
            <a:ext cx="538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Aparece un tio con un piano diciendo: ¿Cuál es la nota?,¿Cuál es la nota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157040" y="2440080"/>
            <a:ext cx="68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cript MT Bold"/>
                <a:ea typeface="宋体"/>
              </a:rPr>
              <a:t>¿ Cómo se titula la películ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8000" y="836640"/>
            <a:ext cx="53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Es 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Shrek%20V2--Frente_por%20Jesus"/>
          <p:cNvPicPr/>
          <p:nvPr/>
        </p:nvPicPr>
        <p:blipFill>
          <a:blip r:embed="rId2"/>
          <a:stretch/>
        </p:blipFill>
        <p:spPr>
          <a:xfrm>
            <a:off x="1908000" y="1773360"/>
            <a:ext cx="54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8:18:55Z</dcterms:created>
  <dc:creator>usuario</dc:creator>
  <dc:description/>
  <dc:language>en-US</dc:language>
  <cp:lastModifiedBy>王玉清</cp:lastModifiedBy>
  <dcterms:modified xsi:type="dcterms:W3CDTF">2016-02-24T04:04:30Z</dcterms:modified>
  <cp:revision>25</cp:revision>
  <dc:subject/>
  <dc:title>Diapositiva 1</dc:title>
</cp:coreProperties>
</file>