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311-DA59-4324-B4BC-E1F47746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903-A3C6-43E4-87BB-A8D86F1B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891-3DB5-486F-9848-E0F6871B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96E-30D9-4318-B504-E3EAB7A2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2AC-7680-4B75-90B3-6D349988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DD3-4379-4DB9-8420-C4D1E7A0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3A1-06F2-4713-AEA8-948D8127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798-F8A8-490C-9CD8-129F7857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0D2-1A18-412F-A3FC-D707CC00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235-AFBD-424B-A51D-D6A58ADD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E53-F319-46BC-805D-F7CFA0BE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D44-C3E2-426B-BF4F-1D4FB822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2974-33A0-46C1-8A64-1BA8B6BAA46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3853-6BB3-42A6-818D-CAA697408C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8"/>
          <p:cNvSpPr/>
          <p:nvPr/>
        </p:nvSpPr>
        <p:spPr>
          <a:xfrm rot="16979400">
            <a:off x="5194080" y="1640880"/>
            <a:ext cx="1181160" cy="946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46"/>
          <p:cNvSpPr/>
          <p:nvPr/>
        </p:nvSpPr>
        <p:spPr>
          <a:xfrm>
            <a:off x="6505560" y="1803240"/>
            <a:ext cx="2846520" cy="313848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25"/>
          <p:cNvSpPr/>
          <p:nvPr/>
        </p:nvSpPr>
        <p:spPr>
          <a:xfrm>
            <a:off x="6828480" y="22417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责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38"/>
          <p:cNvSpPr/>
          <p:nvPr/>
        </p:nvSpPr>
        <p:spPr>
          <a:xfrm>
            <a:off x="3879000" y="23162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9"/>
          <p:cNvSpPr/>
          <p:nvPr/>
        </p:nvSpPr>
        <p:spPr>
          <a:xfrm>
            <a:off x="4532040" y="2660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0"/>
          <p:cNvSpPr/>
          <p:nvPr/>
        </p:nvSpPr>
        <p:spPr>
          <a:xfrm>
            <a:off x="4653000" y="2316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1"/>
          <p:cNvSpPr/>
          <p:nvPr/>
        </p:nvSpPr>
        <p:spPr>
          <a:xfrm>
            <a:off x="4992120" y="2554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2"/>
          <p:cNvSpPr/>
          <p:nvPr/>
        </p:nvSpPr>
        <p:spPr>
          <a:xfrm>
            <a:off x="5438160" y="22417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3"/>
          <p:cNvSpPr/>
          <p:nvPr/>
        </p:nvSpPr>
        <p:spPr>
          <a:xfrm>
            <a:off x="6143040" y="2336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9"/>
          <p:cNvSpPr/>
          <p:nvPr/>
        </p:nvSpPr>
        <p:spPr>
          <a:xfrm>
            <a:off x="6132240" y="2660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0"/>
          <p:cNvSpPr/>
          <p:nvPr/>
        </p:nvSpPr>
        <p:spPr>
          <a:xfrm>
            <a:off x="3745080" y="4902120"/>
            <a:ext cx="4147920" cy="5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4"/>
          <p:cNvSpPr/>
          <p:nvPr/>
        </p:nvSpPr>
        <p:spPr>
          <a:xfrm>
            <a:off x="0" y="0"/>
            <a:ext cx="1219212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0" y="5638680"/>
            <a:ext cx="1219212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6"/>
          <p:cNvSpPr/>
          <p:nvPr/>
        </p:nvSpPr>
        <p:spPr>
          <a:xfrm>
            <a:off x="3781440" y="4025880"/>
            <a:ext cx="2556000" cy="5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66600" y="174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公益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组合 8"/>
          <p:cNvGrpSpPr/>
          <p:nvPr/>
        </p:nvGrpSpPr>
        <p:grpSpPr>
          <a:xfrm>
            <a:off x="103320" y="5667480"/>
            <a:ext cx="577800" cy="637920"/>
            <a:chOff x="103320" y="5667480"/>
            <a:chExt cx="577800" cy="637920"/>
          </a:xfrm>
        </p:grpSpPr>
        <p:sp>
          <p:nvSpPr>
            <p:cNvPr id="472" name="矩形 3"/>
            <p:cNvSpPr/>
            <p:nvPr/>
          </p:nvSpPr>
          <p:spPr>
            <a:xfrm rot="19767600">
              <a:off x="44136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4"/>
            <p:cNvSpPr/>
            <p:nvPr/>
          </p:nvSpPr>
          <p:spPr>
            <a:xfrm>
              <a:off x="48996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3"/>
            <p:cNvSpPr/>
            <p:nvPr/>
          </p:nvSpPr>
          <p:spPr>
            <a:xfrm rot="20254200">
              <a:off x="28908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梯形 6"/>
            <p:cNvSpPr/>
            <p:nvPr/>
          </p:nvSpPr>
          <p:spPr>
            <a:xfrm>
              <a:off x="27036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椭圆 7"/>
            <p:cNvSpPr/>
            <p:nvPr/>
          </p:nvSpPr>
          <p:spPr>
            <a:xfrm>
              <a:off x="10332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任意多边形 144"/>
          <p:cNvSpPr/>
          <p:nvPr/>
        </p:nvSpPr>
        <p:spPr>
          <a:xfrm>
            <a:off x="4146480" y="0"/>
            <a:ext cx="3898800" cy="2244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组合 10"/>
          <p:cNvGrpSpPr/>
          <p:nvPr/>
        </p:nvGrpSpPr>
        <p:grpSpPr>
          <a:xfrm>
            <a:off x="5578560" y="2448000"/>
            <a:ext cx="1471680" cy="1622520"/>
            <a:chOff x="5578560" y="2448000"/>
            <a:chExt cx="1471680" cy="1622520"/>
          </a:xfrm>
        </p:grpSpPr>
        <p:sp>
          <p:nvSpPr>
            <p:cNvPr id="479" name="矩形 11"/>
            <p:cNvSpPr/>
            <p:nvPr/>
          </p:nvSpPr>
          <p:spPr>
            <a:xfrm rot="19767600">
              <a:off x="6439680" y="3148200"/>
              <a:ext cx="162000" cy="340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椭圆 12"/>
            <p:cNvSpPr/>
            <p:nvPr/>
          </p:nvSpPr>
          <p:spPr>
            <a:xfrm>
              <a:off x="6563520" y="3125520"/>
              <a:ext cx="486720" cy="487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3"/>
            <p:cNvSpPr/>
            <p:nvPr/>
          </p:nvSpPr>
          <p:spPr>
            <a:xfrm rot="20254200">
              <a:off x="6052680" y="3328920"/>
              <a:ext cx="657720" cy="3834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梯形 14"/>
            <p:cNvSpPr/>
            <p:nvPr/>
          </p:nvSpPr>
          <p:spPr>
            <a:xfrm>
              <a:off x="6004440" y="3462840"/>
              <a:ext cx="380160" cy="607680"/>
            </a:xfrm>
            <a:custGeom>
              <a:avLst/>
              <a:gdLst>
                <a:gd name="textAreaLeft" fmla="*/ 83520 w 380160"/>
                <a:gd name="textAreaRight" fmla="*/ 296640 w 380160"/>
                <a:gd name="textAreaTop" fmla="*/ 133560 h 607680"/>
                <a:gd name="textAreaBottom" fmla="*/ 474120 h 60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椭圆 15"/>
            <p:cNvSpPr/>
            <p:nvPr/>
          </p:nvSpPr>
          <p:spPr>
            <a:xfrm>
              <a:off x="5578560" y="2448000"/>
              <a:ext cx="989280" cy="98964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组合 16"/>
          <p:cNvGrpSpPr/>
          <p:nvPr/>
        </p:nvGrpSpPr>
        <p:grpSpPr>
          <a:xfrm>
            <a:off x="5878440" y="4498920"/>
            <a:ext cx="893880" cy="984240"/>
            <a:chOff x="5878440" y="4498920"/>
            <a:chExt cx="893880" cy="984240"/>
          </a:xfrm>
        </p:grpSpPr>
        <p:sp>
          <p:nvSpPr>
            <p:cNvPr id="485" name="矩形 17"/>
            <p:cNvSpPr/>
            <p:nvPr/>
          </p:nvSpPr>
          <p:spPr>
            <a:xfrm rot="19767600">
              <a:off x="6401160" y="4923360"/>
              <a:ext cx="98280" cy="20664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椭圆 18"/>
            <p:cNvSpPr/>
            <p:nvPr/>
          </p:nvSpPr>
          <p:spPr>
            <a:xfrm>
              <a:off x="6476760" y="4909680"/>
              <a:ext cx="295560" cy="2952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3"/>
            <p:cNvSpPr/>
            <p:nvPr/>
          </p:nvSpPr>
          <p:spPr>
            <a:xfrm rot="20254200">
              <a:off x="6166440" y="5033160"/>
              <a:ext cx="399600" cy="2325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梯形 20"/>
            <p:cNvSpPr/>
            <p:nvPr/>
          </p:nvSpPr>
          <p:spPr>
            <a:xfrm>
              <a:off x="6137280" y="5114520"/>
              <a:ext cx="230760" cy="368640"/>
            </a:xfrm>
            <a:custGeom>
              <a:avLst/>
              <a:gdLst>
                <a:gd name="textAreaLeft" fmla="*/ 50760 w 230760"/>
                <a:gd name="textAreaRight" fmla="*/ 180000 w 230760"/>
                <a:gd name="textAreaTop" fmla="*/ 81000 h 368640"/>
                <a:gd name="textAreaBottom" fmla="*/ 287640 h 36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椭圆 21"/>
            <p:cNvSpPr/>
            <p:nvPr/>
          </p:nvSpPr>
          <p:spPr>
            <a:xfrm>
              <a:off x="5878440" y="4498920"/>
              <a:ext cx="600840" cy="6004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组合 22"/>
          <p:cNvGrpSpPr/>
          <p:nvPr/>
        </p:nvGrpSpPr>
        <p:grpSpPr>
          <a:xfrm>
            <a:off x="2530440" y="4457880"/>
            <a:ext cx="892080" cy="984240"/>
            <a:chOff x="2530440" y="4457880"/>
            <a:chExt cx="892080" cy="984240"/>
          </a:xfrm>
        </p:grpSpPr>
        <p:sp>
          <p:nvSpPr>
            <p:cNvPr id="491" name="矩形 23"/>
            <p:cNvSpPr/>
            <p:nvPr/>
          </p:nvSpPr>
          <p:spPr>
            <a:xfrm rot="19767600">
              <a:off x="3052080" y="4882320"/>
              <a:ext cx="98280" cy="20664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椭圆 24"/>
            <p:cNvSpPr/>
            <p:nvPr/>
          </p:nvSpPr>
          <p:spPr>
            <a:xfrm>
              <a:off x="3127320" y="4868640"/>
              <a:ext cx="295200" cy="2952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3"/>
            <p:cNvSpPr/>
            <p:nvPr/>
          </p:nvSpPr>
          <p:spPr>
            <a:xfrm rot="20254200">
              <a:off x="2817720" y="4992480"/>
              <a:ext cx="398880" cy="2325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梯形 26"/>
            <p:cNvSpPr/>
            <p:nvPr/>
          </p:nvSpPr>
          <p:spPr>
            <a:xfrm>
              <a:off x="2788560" y="5073480"/>
              <a:ext cx="230400" cy="368640"/>
            </a:xfrm>
            <a:custGeom>
              <a:avLst/>
              <a:gdLst>
                <a:gd name="textAreaLeft" fmla="*/ 50400 w 230400"/>
                <a:gd name="textAreaRight" fmla="*/ 180000 w 230400"/>
                <a:gd name="textAreaTop" fmla="*/ 81000 h 368640"/>
                <a:gd name="textAreaBottom" fmla="*/ 287640 h 36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27"/>
            <p:cNvSpPr/>
            <p:nvPr/>
          </p:nvSpPr>
          <p:spPr>
            <a:xfrm>
              <a:off x="2530440" y="4457880"/>
              <a:ext cx="599760" cy="6004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组合 28"/>
          <p:cNvGrpSpPr/>
          <p:nvPr/>
        </p:nvGrpSpPr>
        <p:grpSpPr>
          <a:xfrm>
            <a:off x="9028080" y="4457880"/>
            <a:ext cx="893880" cy="984240"/>
            <a:chOff x="9028080" y="4457880"/>
            <a:chExt cx="893880" cy="984240"/>
          </a:xfrm>
        </p:grpSpPr>
        <p:sp>
          <p:nvSpPr>
            <p:cNvPr id="497" name="矩形 29"/>
            <p:cNvSpPr/>
            <p:nvPr/>
          </p:nvSpPr>
          <p:spPr>
            <a:xfrm rot="19767600">
              <a:off x="9550800" y="4882320"/>
              <a:ext cx="98280" cy="20664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 30"/>
            <p:cNvSpPr/>
            <p:nvPr/>
          </p:nvSpPr>
          <p:spPr>
            <a:xfrm>
              <a:off x="9626400" y="4868640"/>
              <a:ext cx="295560" cy="2952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矩形 3"/>
            <p:cNvSpPr/>
            <p:nvPr/>
          </p:nvSpPr>
          <p:spPr>
            <a:xfrm rot="20254200">
              <a:off x="9316080" y="4992120"/>
              <a:ext cx="399600" cy="2325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梯形 32"/>
            <p:cNvSpPr/>
            <p:nvPr/>
          </p:nvSpPr>
          <p:spPr>
            <a:xfrm>
              <a:off x="9286920" y="5073480"/>
              <a:ext cx="230760" cy="368640"/>
            </a:xfrm>
            <a:custGeom>
              <a:avLst/>
              <a:gdLst>
                <a:gd name="textAreaLeft" fmla="*/ 50760 w 230760"/>
                <a:gd name="textAreaRight" fmla="*/ 180000 w 230760"/>
                <a:gd name="textAreaTop" fmla="*/ 81000 h 368640"/>
                <a:gd name="textAreaBottom" fmla="*/ 287640 h 36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椭圆 33"/>
            <p:cNvSpPr/>
            <p:nvPr/>
          </p:nvSpPr>
          <p:spPr>
            <a:xfrm>
              <a:off x="9028080" y="4457880"/>
              <a:ext cx="600840" cy="6004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34"/>
          <p:cNvGrpSpPr/>
          <p:nvPr/>
        </p:nvGrpSpPr>
        <p:grpSpPr>
          <a:xfrm>
            <a:off x="920880" y="5667480"/>
            <a:ext cx="577800" cy="637920"/>
            <a:chOff x="920880" y="5667480"/>
            <a:chExt cx="577800" cy="637920"/>
          </a:xfrm>
        </p:grpSpPr>
        <p:sp>
          <p:nvSpPr>
            <p:cNvPr id="503" name="矩形 35"/>
            <p:cNvSpPr/>
            <p:nvPr/>
          </p:nvSpPr>
          <p:spPr>
            <a:xfrm rot="19767600">
              <a:off x="125892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椭圆 36"/>
            <p:cNvSpPr/>
            <p:nvPr/>
          </p:nvSpPr>
          <p:spPr>
            <a:xfrm>
              <a:off x="130752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3"/>
            <p:cNvSpPr/>
            <p:nvPr/>
          </p:nvSpPr>
          <p:spPr>
            <a:xfrm rot="20254200">
              <a:off x="110664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梯形 38"/>
            <p:cNvSpPr/>
            <p:nvPr/>
          </p:nvSpPr>
          <p:spPr>
            <a:xfrm>
              <a:off x="108792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椭圆 39"/>
            <p:cNvSpPr/>
            <p:nvPr/>
          </p:nvSpPr>
          <p:spPr>
            <a:xfrm>
              <a:off x="92088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40"/>
          <p:cNvGrpSpPr/>
          <p:nvPr/>
        </p:nvGrpSpPr>
        <p:grpSpPr>
          <a:xfrm>
            <a:off x="1738440" y="5667480"/>
            <a:ext cx="577800" cy="637920"/>
            <a:chOff x="1738440" y="5667480"/>
            <a:chExt cx="577800" cy="637920"/>
          </a:xfrm>
        </p:grpSpPr>
        <p:sp>
          <p:nvSpPr>
            <p:cNvPr id="509" name="矩形 41"/>
            <p:cNvSpPr/>
            <p:nvPr/>
          </p:nvSpPr>
          <p:spPr>
            <a:xfrm rot="19767600">
              <a:off x="207648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42"/>
            <p:cNvSpPr/>
            <p:nvPr/>
          </p:nvSpPr>
          <p:spPr>
            <a:xfrm>
              <a:off x="212508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3"/>
            <p:cNvSpPr/>
            <p:nvPr/>
          </p:nvSpPr>
          <p:spPr>
            <a:xfrm rot="20254200">
              <a:off x="192420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梯形 44"/>
            <p:cNvSpPr/>
            <p:nvPr/>
          </p:nvSpPr>
          <p:spPr>
            <a:xfrm>
              <a:off x="190548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椭圆 45"/>
            <p:cNvSpPr/>
            <p:nvPr/>
          </p:nvSpPr>
          <p:spPr>
            <a:xfrm>
              <a:off x="173844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46"/>
          <p:cNvGrpSpPr/>
          <p:nvPr/>
        </p:nvGrpSpPr>
        <p:grpSpPr>
          <a:xfrm>
            <a:off x="2556000" y="5667480"/>
            <a:ext cx="577800" cy="637920"/>
            <a:chOff x="2556000" y="5667480"/>
            <a:chExt cx="577800" cy="637920"/>
          </a:xfrm>
        </p:grpSpPr>
        <p:sp>
          <p:nvSpPr>
            <p:cNvPr id="515" name="矩形 47"/>
            <p:cNvSpPr/>
            <p:nvPr/>
          </p:nvSpPr>
          <p:spPr>
            <a:xfrm rot="19767600">
              <a:off x="289404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椭圆 48"/>
            <p:cNvSpPr/>
            <p:nvPr/>
          </p:nvSpPr>
          <p:spPr>
            <a:xfrm>
              <a:off x="294264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3"/>
            <p:cNvSpPr/>
            <p:nvPr/>
          </p:nvSpPr>
          <p:spPr>
            <a:xfrm rot="20254200">
              <a:off x="274176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梯形 50"/>
            <p:cNvSpPr/>
            <p:nvPr/>
          </p:nvSpPr>
          <p:spPr>
            <a:xfrm>
              <a:off x="272304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椭圆 51"/>
            <p:cNvSpPr/>
            <p:nvPr/>
          </p:nvSpPr>
          <p:spPr>
            <a:xfrm>
              <a:off x="255600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组合 52"/>
          <p:cNvGrpSpPr/>
          <p:nvPr/>
        </p:nvGrpSpPr>
        <p:grpSpPr>
          <a:xfrm>
            <a:off x="3373560" y="5667480"/>
            <a:ext cx="577800" cy="637920"/>
            <a:chOff x="3373560" y="5667480"/>
            <a:chExt cx="577800" cy="637920"/>
          </a:xfrm>
        </p:grpSpPr>
        <p:sp>
          <p:nvSpPr>
            <p:cNvPr id="521" name="矩形 53"/>
            <p:cNvSpPr/>
            <p:nvPr/>
          </p:nvSpPr>
          <p:spPr>
            <a:xfrm rot="19767600">
              <a:off x="371160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椭圆 54"/>
            <p:cNvSpPr/>
            <p:nvPr/>
          </p:nvSpPr>
          <p:spPr>
            <a:xfrm>
              <a:off x="376020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3"/>
            <p:cNvSpPr/>
            <p:nvPr/>
          </p:nvSpPr>
          <p:spPr>
            <a:xfrm rot="20254200">
              <a:off x="355932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梯形 56"/>
            <p:cNvSpPr/>
            <p:nvPr/>
          </p:nvSpPr>
          <p:spPr>
            <a:xfrm>
              <a:off x="354060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椭圆 57"/>
            <p:cNvSpPr/>
            <p:nvPr/>
          </p:nvSpPr>
          <p:spPr>
            <a:xfrm>
              <a:off x="337356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组合 58"/>
          <p:cNvGrpSpPr/>
          <p:nvPr/>
        </p:nvGrpSpPr>
        <p:grpSpPr>
          <a:xfrm>
            <a:off x="4191120" y="5667480"/>
            <a:ext cx="577800" cy="637920"/>
            <a:chOff x="4191120" y="5667480"/>
            <a:chExt cx="577800" cy="637920"/>
          </a:xfrm>
        </p:grpSpPr>
        <p:sp>
          <p:nvSpPr>
            <p:cNvPr id="527" name="矩形 59"/>
            <p:cNvSpPr/>
            <p:nvPr/>
          </p:nvSpPr>
          <p:spPr>
            <a:xfrm rot="19767600">
              <a:off x="452916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椭圆 60"/>
            <p:cNvSpPr/>
            <p:nvPr/>
          </p:nvSpPr>
          <p:spPr>
            <a:xfrm>
              <a:off x="457776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3"/>
            <p:cNvSpPr/>
            <p:nvPr/>
          </p:nvSpPr>
          <p:spPr>
            <a:xfrm rot="20254200">
              <a:off x="437688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梯形 62"/>
            <p:cNvSpPr/>
            <p:nvPr/>
          </p:nvSpPr>
          <p:spPr>
            <a:xfrm>
              <a:off x="435816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椭圆 63"/>
            <p:cNvSpPr/>
            <p:nvPr/>
          </p:nvSpPr>
          <p:spPr>
            <a:xfrm>
              <a:off x="419112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组合 64"/>
          <p:cNvGrpSpPr/>
          <p:nvPr/>
        </p:nvGrpSpPr>
        <p:grpSpPr>
          <a:xfrm>
            <a:off x="5008680" y="5667480"/>
            <a:ext cx="577800" cy="637920"/>
            <a:chOff x="5008680" y="5667480"/>
            <a:chExt cx="577800" cy="637920"/>
          </a:xfrm>
        </p:grpSpPr>
        <p:sp>
          <p:nvSpPr>
            <p:cNvPr id="533" name="矩形 65"/>
            <p:cNvSpPr/>
            <p:nvPr/>
          </p:nvSpPr>
          <p:spPr>
            <a:xfrm rot="19767600">
              <a:off x="534672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66"/>
            <p:cNvSpPr/>
            <p:nvPr/>
          </p:nvSpPr>
          <p:spPr>
            <a:xfrm>
              <a:off x="539532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矩形 3"/>
            <p:cNvSpPr/>
            <p:nvPr/>
          </p:nvSpPr>
          <p:spPr>
            <a:xfrm rot="20254200">
              <a:off x="519444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梯形 68"/>
            <p:cNvSpPr/>
            <p:nvPr/>
          </p:nvSpPr>
          <p:spPr>
            <a:xfrm>
              <a:off x="517572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椭圆 69"/>
            <p:cNvSpPr/>
            <p:nvPr/>
          </p:nvSpPr>
          <p:spPr>
            <a:xfrm>
              <a:off x="500868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组合 70"/>
          <p:cNvGrpSpPr/>
          <p:nvPr/>
        </p:nvGrpSpPr>
        <p:grpSpPr>
          <a:xfrm>
            <a:off x="5826240" y="5667480"/>
            <a:ext cx="577800" cy="637920"/>
            <a:chOff x="5826240" y="5667480"/>
            <a:chExt cx="577800" cy="637920"/>
          </a:xfrm>
        </p:grpSpPr>
        <p:sp>
          <p:nvSpPr>
            <p:cNvPr id="539" name="矩形 71"/>
            <p:cNvSpPr/>
            <p:nvPr/>
          </p:nvSpPr>
          <p:spPr>
            <a:xfrm rot="19767600">
              <a:off x="616428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椭圆 72"/>
            <p:cNvSpPr/>
            <p:nvPr/>
          </p:nvSpPr>
          <p:spPr>
            <a:xfrm>
              <a:off x="621288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3"/>
            <p:cNvSpPr/>
            <p:nvPr/>
          </p:nvSpPr>
          <p:spPr>
            <a:xfrm rot="20254200">
              <a:off x="601200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梯形 74"/>
            <p:cNvSpPr/>
            <p:nvPr/>
          </p:nvSpPr>
          <p:spPr>
            <a:xfrm>
              <a:off x="599328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椭圆 75"/>
            <p:cNvSpPr/>
            <p:nvPr/>
          </p:nvSpPr>
          <p:spPr>
            <a:xfrm>
              <a:off x="582624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76"/>
          <p:cNvGrpSpPr/>
          <p:nvPr/>
        </p:nvGrpSpPr>
        <p:grpSpPr>
          <a:xfrm>
            <a:off x="6643800" y="5667480"/>
            <a:ext cx="577800" cy="637920"/>
            <a:chOff x="6643800" y="5667480"/>
            <a:chExt cx="577800" cy="637920"/>
          </a:xfrm>
        </p:grpSpPr>
        <p:sp>
          <p:nvSpPr>
            <p:cNvPr id="545" name="矩形 77"/>
            <p:cNvSpPr/>
            <p:nvPr/>
          </p:nvSpPr>
          <p:spPr>
            <a:xfrm rot="19767600">
              <a:off x="698184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椭圆 78"/>
            <p:cNvSpPr/>
            <p:nvPr/>
          </p:nvSpPr>
          <p:spPr>
            <a:xfrm>
              <a:off x="703044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3"/>
            <p:cNvSpPr/>
            <p:nvPr/>
          </p:nvSpPr>
          <p:spPr>
            <a:xfrm rot="20254200">
              <a:off x="682956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梯形 80"/>
            <p:cNvSpPr/>
            <p:nvPr/>
          </p:nvSpPr>
          <p:spPr>
            <a:xfrm>
              <a:off x="681084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椭圆 81"/>
            <p:cNvSpPr/>
            <p:nvPr/>
          </p:nvSpPr>
          <p:spPr>
            <a:xfrm>
              <a:off x="664380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组合 82"/>
          <p:cNvGrpSpPr/>
          <p:nvPr/>
        </p:nvGrpSpPr>
        <p:grpSpPr>
          <a:xfrm>
            <a:off x="7461360" y="5667480"/>
            <a:ext cx="577800" cy="637920"/>
            <a:chOff x="7461360" y="5667480"/>
            <a:chExt cx="577800" cy="637920"/>
          </a:xfrm>
        </p:grpSpPr>
        <p:sp>
          <p:nvSpPr>
            <p:cNvPr id="551" name="矩形 83"/>
            <p:cNvSpPr/>
            <p:nvPr/>
          </p:nvSpPr>
          <p:spPr>
            <a:xfrm rot="19767600">
              <a:off x="779940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椭圆 84"/>
            <p:cNvSpPr/>
            <p:nvPr/>
          </p:nvSpPr>
          <p:spPr>
            <a:xfrm>
              <a:off x="784800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3"/>
            <p:cNvSpPr/>
            <p:nvPr/>
          </p:nvSpPr>
          <p:spPr>
            <a:xfrm rot="20254200">
              <a:off x="764712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梯形 86"/>
            <p:cNvSpPr/>
            <p:nvPr/>
          </p:nvSpPr>
          <p:spPr>
            <a:xfrm>
              <a:off x="762840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椭圆 87"/>
            <p:cNvSpPr/>
            <p:nvPr/>
          </p:nvSpPr>
          <p:spPr>
            <a:xfrm>
              <a:off x="746136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组合 88"/>
          <p:cNvGrpSpPr/>
          <p:nvPr/>
        </p:nvGrpSpPr>
        <p:grpSpPr>
          <a:xfrm>
            <a:off x="8278920" y="5667480"/>
            <a:ext cx="577800" cy="637920"/>
            <a:chOff x="8278920" y="5667480"/>
            <a:chExt cx="577800" cy="637920"/>
          </a:xfrm>
        </p:grpSpPr>
        <p:sp>
          <p:nvSpPr>
            <p:cNvPr id="557" name="矩形 89"/>
            <p:cNvSpPr/>
            <p:nvPr/>
          </p:nvSpPr>
          <p:spPr>
            <a:xfrm rot="19767600">
              <a:off x="861696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椭圆 90"/>
            <p:cNvSpPr/>
            <p:nvPr/>
          </p:nvSpPr>
          <p:spPr>
            <a:xfrm>
              <a:off x="866556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3"/>
            <p:cNvSpPr/>
            <p:nvPr/>
          </p:nvSpPr>
          <p:spPr>
            <a:xfrm rot="20254200">
              <a:off x="846468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梯形 92"/>
            <p:cNvSpPr/>
            <p:nvPr/>
          </p:nvSpPr>
          <p:spPr>
            <a:xfrm>
              <a:off x="844596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椭圆 93"/>
            <p:cNvSpPr/>
            <p:nvPr/>
          </p:nvSpPr>
          <p:spPr>
            <a:xfrm>
              <a:off x="827892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94"/>
          <p:cNvGrpSpPr/>
          <p:nvPr/>
        </p:nvGrpSpPr>
        <p:grpSpPr>
          <a:xfrm>
            <a:off x="9096480" y="5667480"/>
            <a:ext cx="577800" cy="637920"/>
            <a:chOff x="9096480" y="5667480"/>
            <a:chExt cx="577800" cy="637920"/>
          </a:xfrm>
        </p:grpSpPr>
        <p:sp>
          <p:nvSpPr>
            <p:cNvPr id="563" name="矩形 95"/>
            <p:cNvSpPr/>
            <p:nvPr/>
          </p:nvSpPr>
          <p:spPr>
            <a:xfrm rot="19767600">
              <a:off x="943452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椭圆 96"/>
            <p:cNvSpPr/>
            <p:nvPr/>
          </p:nvSpPr>
          <p:spPr>
            <a:xfrm>
              <a:off x="948312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3"/>
            <p:cNvSpPr/>
            <p:nvPr/>
          </p:nvSpPr>
          <p:spPr>
            <a:xfrm rot="20254200">
              <a:off x="928224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梯形 98"/>
            <p:cNvSpPr/>
            <p:nvPr/>
          </p:nvSpPr>
          <p:spPr>
            <a:xfrm>
              <a:off x="926352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99"/>
            <p:cNvSpPr/>
            <p:nvPr/>
          </p:nvSpPr>
          <p:spPr>
            <a:xfrm>
              <a:off x="909648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组合 100"/>
          <p:cNvGrpSpPr/>
          <p:nvPr/>
        </p:nvGrpSpPr>
        <p:grpSpPr>
          <a:xfrm>
            <a:off x="9914040" y="5667480"/>
            <a:ext cx="577800" cy="637920"/>
            <a:chOff x="9914040" y="5667480"/>
            <a:chExt cx="577800" cy="637920"/>
          </a:xfrm>
        </p:grpSpPr>
        <p:sp>
          <p:nvSpPr>
            <p:cNvPr id="569" name="矩形 101"/>
            <p:cNvSpPr/>
            <p:nvPr/>
          </p:nvSpPr>
          <p:spPr>
            <a:xfrm rot="19767600">
              <a:off x="1025208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椭圆 102"/>
            <p:cNvSpPr/>
            <p:nvPr/>
          </p:nvSpPr>
          <p:spPr>
            <a:xfrm>
              <a:off x="1030068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3"/>
            <p:cNvSpPr/>
            <p:nvPr/>
          </p:nvSpPr>
          <p:spPr>
            <a:xfrm rot="20254200">
              <a:off x="1009980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梯形 104"/>
            <p:cNvSpPr/>
            <p:nvPr/>
          </p:nvSpPr>
          <p:spPr>
            <a:xfrm>
              <a:off x="1008108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椭圆 105"/>
            <p:cNvSpPr/>
            <p:nvPr/>
          </p:nvSpPr>
          <p:spPr>
            <a:xfrm>
              <a:off x="991404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组合 106"/>
          <p:cNvGrpSpPr/>
          <p:nvPr/>
        </p:nvGrpSpPr>
        <p:grpSpPr>
          <a:xfrm>
            <a:off x="10731600" y="5667480"/>
            <a:ext cx="577800" cy="637920"/>
            <a:chOff x="10731600" y="5667480"/>
            <a:chExt cx="577800" cy="637920"/>
          </a:xfrm>
        </p:grpSpPr>
        <p:sp>
          <p:nvSpPr>
            <p:cNvPr id="575" name="矩形 107"/>
            <p:cNvSpPr/>
            <p:nvPr/>
          </p:nvSpPr>
          <p:spPr>
            <a:xfrm rot="19767600">
              <a:off x="1106964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椭圆 108"/>
            <p:cNvSpPr/>
            <p:nvPr/>
          </p:nvSpPr>
          <p:spPr>
            <a:xfrm>
              <a:off x="1111824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3"/>
            <p:cNvSpPr/>
            <p:nvPr/>
          </p:nvSpPr>
          <p:spPr>
            <a:xfrm rot="20254200">
              <a:off x="1091736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梯形 110"/>
            <p:cNvSpPr/>
            <p:nvPr/>
          </p:nvSpPr>
          <p:spPr>
            <a:xfrm>
              <a:off x="1089864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椭圆 111"/>
            <p:cNvSpPr/>
            <p:nvPr/>
          </p:nvSpPr>
          <p:spPr>
            <a:xfrm>
              <a:off x="1073160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112"/>
          <p:cNvGrpSpPr/>
          <p:nvPr/>
        </p:nvGrpSpPr>
        <p:grpSpPr>
          <a:xfrm>
            <a:off x="11549160" y="5667480"/>
            <a:ext cx="577800" cy="637920"/>
            <a:chOff x="11549160" y="5667480"/>
            <a:chExt cx="577800" cy="637920"/>
          </a:xfrm>
        </p:grpSpPr>
        <p:sp>
          <p:nvSpPr>
            <p:cNvPr id="581" name="矩形 113"/>
            <p:cNvSpPr/>
            <p:nvPr/>
          </p:nvSpPr>
          <p:spPr>
            <a:xfrm rot="19767600">
              <a:off x="11887200" y="5942880"/>
              <a:ext cx="63720" cy="13392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椭圆 114"/>
            <p:cNvSpPr/>
            <p:nvPr/>
          </p:nvSpPr>
          <p:spPr>
            <a:xfrm>
              <a:off x="11935800" y="5933880"/>
              <a:ext cx="191160" cy="1915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矩形 3"/>
            <p:cNvSpPr/>
            <p:nvPr/>
          </p:nvSpPr>
          <p:spPr>
            <a:xfrm rot="20254200">
              <a:off x="11734920" y="6013440"/>
              <a:ext cx="258120" cy="15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梯形 116"/>
            <p:cNvSpPr/>
            <p:nvPr/>
          </p:nvSpPr>
          <p:spPr>
            <a:xfrm>
              <a:off x="11716200" y="6066720"/>
              <a:ext cx="149040" cy="238680"/>
            </a:xfrm>
            <a:custGeom>
              <a:avLst/>
              <a:gdLst>
                <a:gd name="textAreaLeft" fmla="*/ 32760 w 149040"/>
                <a:gd name="textAreaRight" fmla="*/ 116280 w 149040"/>
                <a:gd name="textAreaTop" fmla="*/ 52560 h 238680"/>
                <a:gd name="textAreaBottom" fmla="*/ 186120 h 23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117"/>
            <p:cNvSpPr/>
            <p:nvPr/>
          </p:nvSpPr>
          <p:spPr>
            <a:xfrm>
              <a:off x="11549160" y="5667480"/>
              <a:ext cx="388440" cy="38916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矩形 123"/>
          <p:cNvSpPr/>
          <p:nvPr/>
        </p:nvSpPr>
        <p:spPr>
          <a:xfrm>
            <a:off x="2755800" y="4070520"/>
            <a:ext cx="6602400" cy="141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24"/>
          <p:cNvSpPr/>
          <p:nvPr/>
        </p:nvSpPr>
        <p:spPr>
          <a:xfrm>
            <a:off x="2755800" y="4070520"/>
            <a:ext cx="14292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25"/>
          <p:cNvSpPr/>
          <p:nvPr/>
        </p:nvSpPr>
        <p:spPr>
          <a:xfrm>
            <a:off x="6114960" y="4124160"/>
            <a:ext cx="141480" cy="422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26"/>
          <p:cNvSpPr/>
          <p:nvPr/>
        </p:nvSpPr>
        <p:spPr>
          <a:xfrm>
            <a:off x="9229680" y="4070520"/>
            <a:ext cx="14292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27"/>
          <p:cNvSpPr/>
          <p:nvPr/>
        </p:nvSpPr>
        <p:spPr>
          <a:xfrm>
            <a:off x="264960" y="5416560"/>
            <a:ext cx="11484000" cy="73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28"/>
          <p:cNvSpPr/>
          <p:nvPr/>
        </p:nvSpPr>
        <p:spPr>
          <a:xfrm>
            <a:off x="272880" y="541656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129"/>
          <p:cNvSpPr/>
          <p:nvPr/>
        </p:nvSpPr>
        <p:spPr>
          <a:xfrm>
            <a:off x="1089000" y="542304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130"/>
          <p:cNvSpPr/>
          <p:nvPr/>
        </p:nvSpPr>
        <p:spPr>
          <a:xfrm>
            <a:off x="1905120" y="543888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31"/>
          <p:cNvSpPr/>
          <p:nvPr/>
        </p:nvSpPr>
        <p:spPr>
          <a:xfrm>
            <a:off x="2720880" y="5425920"/>
            <a:ext cx="46080" cy="424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132"/>
          <p:cNvSpPr/>
          <p:nvPr/>
        </p:nvSpPr>
        <p:spPr>
          <a:xfrm>
            <a:off x="3537000" y="541656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33"/>
          <p:cNvSpPr/>
          <p:nvPr/>
        </p:nvSpPr>
        <p:spPr>
          <a:xfrm>
            <a:off x="4352760" y="541656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134"/>
          <p:cNvSpPr/>
          <p:nvPr/>
        </p:nvSpPr>
        <p:spPr>
          <a:xfrm>
            <a:off x="5170320" y="545472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35"/>
          <p:cNvSpPr/>
          <p:nvPr/>
        </p:nvSpPr>
        <p:spPr>
          <a:xfrm>
            <a:off x="5986440" y="548172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136"/>
          <p:cNvSpPr/>
          <p:nvPr/>
        </p:nvSpPr>
        <p:spPr>
          <a:xfrm>
            <a:off x="6802560" y="543096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37"/>
          <p:cNvSpPr/>
          <p:nvPr/>
        </p:nvSpPr>
        <p:spPr>
          <a:xfrm>
            <a:off x="7618320" y="545472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138"/>
          <p:cNvSpPr/>
          <p:nvPr/>
        </p:nvSpPr>
        <p:spPr>
          <a:xfrm>
            <a:off x="8434440" y="547056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39"/>
          <p:cNvSpPr/>
          <p:nvPr/>
        </p:nvSpPr>
        <p:spPr>
          <a:xfrm>
            <a:off x="9250200" y="5419800"/>
            <a:ext cx="460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40"/>
          <p:cNvSpPr/>
          <p:nvPr/>
        </p:nvSpPr>
        <p:spPr>
          <a:xfrm>
            <a:off x="10067760" y="5446800"/>
            <a:ext cx="4464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41"/>
          <p:cNvSpPr/>
          <p:nvPr/>
        </p:nvSpPr>
        <p:spPr>
          <a:xfrm>
            <a:off x="10883880" y="5433840"/>
            <a:ext cx="44640" cy="424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142"/>
          <p:cNvSpPr/>
          <p:nvPr/>
        </p:nvSpPr>
        <p:spPr>
          <a:xfrm>
            <a:off x="11700000" y="5470560"/>
            <a:ext cx="44280" cy="423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145"/>
          <p:cNvSpPr/>
          <p:nvPr/>
        </p:nvSpPr>
        <p:spPr>
          <a:xfrm>
            <a:off x="4678200" y="-343080"/>
            <a:ext cx="2686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Britannic Bold"/>
              </a:rPr>
              <a:t>100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184"/>
          <p:cNvSpPr/>
          <p:nvPr/>
        </p:nvSpPr>
        <p:spPr>
          <a:xfrm>
            <a:off x="4854600" y="1171440"/>
            <a:ext cx="25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正纤黑简体"/>
                <a:ea typeface="方正正纤黑简体"/>
              </a:rPr>
              <a:t>年度任务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86"/>
          <p:cNvSpPr/>
          <p:nvPr/>
        </p:nvSpPr>
        <p:spPr>
          <a:xfrm>
            <a:off x="0" y="6305400"/>
            <a:ext cx="12192120" cy="552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165"/>
          <p:cNvSpPr/>
          <p:nvPr/>
        </p:nvSpPr>
        <p:spPr>
          <a:xfrm>
            <a:off x="5788080" y="2405160"/>
            <a:ext cx="46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ritannic Bold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166"/>
          <p:cNvSpPr/>
          <p:nvPr/>
        </p:nvSpPr>
        <p:spPr>
          <a:xfrm>
            <a:off x="2596320" y="4444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167"/>
          <p:cNvSpPr/>
          <p:nvPr/>
        </p:nvSpPr>
        <p:spPr>
          <a:xfrm>
            <a:off x="5936400" y="4481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168"/>
          <p:cNvSpPr/>
          <p:nvPr/>
        </p:nvSpPr>
        <p:spPr>
          <a:xfrm>
            <a:off x="9101880" y="4427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169"/>
          <p:cNvSpPr/>
          <p:nvPr/>
        </p:nvSpPr>
        <p:spPr>
          <a:xfrm>
            <a:off x="108360" y="5605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170"/>
          <p:cNvSpPr/>
          <p:nvPr/>
        </p:nvSpPr>
        <p:spPr>
          <a:xfrm>
            <a:off x="935280" y="5605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171"/>
          <p:cNvSpPr/>
          <p:nvPr/>
        </p:nvSpPr>
        <p:spPr>
          <a:xfrm>
            <a:off x="1762560" y="5605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172"/>
          <p:cNvSpPr/>
          <p:nvPr/>
        </p:nvSpPr>
        <p:spPr>
          <a:xfrm>
            <a:off x="2553840" y="562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173"/>
          <p:cNvSpPr/>
          <p:nvPr/>
        </p:nvSpPr>
        <p:spPr>
          <a:xfrm>
            <a:off x="3378600" y="5605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文本框 174"/>
          <p:cNvSpPr/>
          <p:nvPr/>
        </p:nvSpPr>
        <p:spPr>
          <a:xfrm>
            <a:off x="4204080" y="562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文本框 175"/>
          <p:cNvSpPr/>
          <p:nvPr/>
        </p:nvSpPr>
        <p:spPr>
          <a:xfrm>
            <a:off x="5013000" y="562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176"/>
          <p:cNvSpPr/>
          <p:nvPr/>
        </p:nvSpPr>
        <p:spPr>
          <a:xfrm>
            <a:off x="5821560" y="558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177"/>
          <p:cNvSpPr/>
          <p:nvPr/>
        </p:nvSpPr>
        <p:spPr>
          <a:xfrm>
            <a:off x="6664680" y="562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178"/>
          <p:cNvSpPr/>
          <p:nvPr/>
        </p:nvSpPr>
        <p:spPr>
          <a:xfrm>
            <a:off x="7473600" y="5622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179"/>
          <p:cNvSpPr/>
          <p:nvPr/>
        </p:nvSpPr>
        <p:spPr>
          <a:xfrm>
            <a:off x="8319600" y="5605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180"/>
          <p:cNvSpPr/>
          <p:nvPr/>
        </p:nvSpPr>
        <p:spPr>
          <a:xfrm>
            <a:off x="9092880" y="5605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181"/>
          <p:cNvSpPr/>
          <p:nvPr/>
        </p:nvSpPr>
        <p:spPr>
          <a:xfrm>
            <a:off x="9937440" y="5603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82"/>
          <p:cNvSpPr/>
          <p:nvPr/>
        </p:nvSpPr>
        <p:spPr>
          <a:xfrm>
            <a:off x="10743840" y="5638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83"/>
          <p:cNvSpPr/>
          <p:nvPr/>
        </p:nvSpPr>
        <p:spPr>
          <a:xfrm>
            <a:off x="11553480" y="5638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185"/>
          <p:cNvSpPr/>
          <p:nvPr/>
        </p:nvSpPr>
        <p:spPr>
          <a:xfrm>
            <a:off x="206280" y="2371680"/>
            <a:ext cx="71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责任就如同销售指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1"/>
          <p:cNvSpPr/>
          <p:nvPr/>
        </p:nvSpPr>
        <p:spPr>
          <a:xfrm>
            <a:off x="6851520" y="2349360"/>
            <a:ext cx="526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要一点点分解到人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文本框 3"/>
          <p:cNvSpPr/>
          <p:nvPr/>
        </p:nvSpPr>
        <p:spPr>
          <a:xfrm>
            <a:off x="4973760" y="2036880"/>
            <a:ext cx="231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受到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发了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4"/>
          <p:cNvSpPr/>
          <p:nvPr/>
        </p:nvSpPr>
        <p:spPr>
          <a:xfrm>
            <a:off x="7288200" y="2128680"/>
            <a:ext cx="897120" cy="14749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5"/>
          <p:cNvSpPr/>
          <p:nvPr/>
        </p:nvSpPr>
        <p:spPr>
          <a:xfrm>
            <a:off x="7560720" y="20750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7"/>
          <p:cNvSpPr/>
          <p:nvPr/>
        </p:nvSpPr>
        <p:spPr>
          <a:xfrm>
            <a:off x="3352680" y="2093760"/>
            <a:ext cx="1679760" cy="14749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6"/>
          <p:cNvSpPr/>
          <p:nvPr/>
        </p:nvSpPr>
        <p:spPr>
          <a:xfrm>
            <a:off x="3653640" y="198612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您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8"/>
          <p:cNvSpPr/>
          <p:nvPr/>
        </p:nvSpPr>
        <p:spPr>
          <a:xfrm>
            <a:off x="2465280" y="3657600"/>
            <a:ext cx="776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明日继续</a:t>
            </a:r>
            <a:r>
              <a:rPr b="0" lang="zh-CN" sz="4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责任</a:t>
            </a: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的话题</a:t>
            </a:r>
            <a:r>
              <a:rPr b="0" lang="en-US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6D6-74E1-41CF-B31A-CB820EE7B7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20"/>
          <p:cNvSpPr/>
          <p:nvPr/>
        </p:nvSpPr>
        <p:spPr>
          <a:xfrm>
            <a:off x="5876640" y="3373560"/>
            <a:ext cx="28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www.1ppt.com/xiazai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107"/>
          <p:cNvGrpSpPr/>
          <p:nvPr/>
        </p:nvGrpSpPr>
        <p:grpSpPr>
          <a:xfrm>
            <a:off x="5557320" y="2143080"/>
            <a:ext cx="792000" cy="978120"/>
            <a:chOff x="5557320" y="2143080"/>
            <a:chExt cx="792000" cy="978120"/>
          </a:xfrm>
        </p:grpSpPr>
        <p:sp>
          <p:nvSpPr>
            <p:cNvPr id="59" name="矩形 100"/>
            <p:cNvSpPr/>
            <p:nvPr/>
          </p:nvSpPr>
          <p:spPr>
            <a:xfrm>
              <a:off x="5976000" y="2511000"/>
              <a:ext cx="102240" cy="61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109"/>
            <p:cNvSpPr/>
            <p:nvPr/>
          </p:nvSpPr>
          <p:spPr>
            <a:xfrm rot="2303400">
              <a:off x="5609880" y="2248560"/>
              <a:ext cx="453960" cy="327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110"/>
            <p:cNvSpPr/>
            <p:nvPr/>
          </p:nvSpPr>
          <p:spPr>
            <a:xfrm rot="7542600">
              <a:off x="5952960" y="2236320"/>
              <a:ext cx="36504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111"/>
            <p:cNvSpPr/>
            <p:nvPr/>
          </p:nvSpPr>
          <p:spPr>
            <a:xfrm rot="9583200">
              <a:off x="6084360" y="2625120"/>
              <a:ext cx="191880" cy="13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椭圆 112"/>
            <p:cNvSpPr/>
            <p:nvPr/>
          </p:nvSpPr>
          <p:spPr>
            <a:xfrm rot="1841400">
              <a:off x="5826240" y="2712960"/>
              <a:ext cx="187920" cy="13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梯形 113"/>
            <p:cNvSpPr/>
            <p:nvPr/>
          </p:nvSpPr>
          <p:spPr>
            <a:xfrm flipV="1" rot="4137000">
              <a:off x="6051600" y="2690280"/>
              <a:ext cx="56520" cy="93960"/>
            </a:xfrm>
            <a:custGeom>
              <a:avLst/>
              <a:gdLst>
                <a:gd name="textAreaLeft" fmla="*/ 12240 w 56520"/>
                <a:gd name="textAreaRight" fmla="*/ 44280 w 5652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梯形 114"/>
            <p:cNvSpPr/>
            <p:nvPr/>
          </p:nvSpPr>
          <p:spPr>
            <a:xfrm flipV="1" rot="16980000">
              <a:off x="5979600" y="277668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115"/>
          <p:cNvGrpSpPr/>
          <p:nvPr/>
        </p:nvGrpSpPr>
        <p:grpSpPr>
          <a:xfrm>
            <a:off x="6195600" y="1903320"/>
            <a:ext cx="792000" cy="978120"/>
            <a:chOff x="6195600" y="1903320"/>
            <a:chExt cx="792000" cy="978120"/>
          </a:xfrm>
        </p:grpSpPr>
        <p:sp>
          <p:nvSpPr>
            <p:cNvPr id="67" name="矩形 100"/>
            <p:cNvSpPr/>
            <p:nvPr/>
          </p:nvSpPr>
          <p:spPr>
            <a:xfrm>
              <a:off x="6614280" y="2271240"/>
              <a:ext cx="102240" cy="61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117"/>
            <p:cNvSpPr/>
            <p:nvPr/>
          </p:nvSpPr>
          <p:spPr>
            <a:xfrm rot="2303400">
              <a:off x="6248160" y="2008800"/>
              <a:ext cx="453960" cy="327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118"/>
            <p:cNvSpPr/>
            <p:nvPr/>
          </p:nvSpPr>
          <p:spPr>
            <a:xfrm rot="7542600">
              <a:off x="6591240" y="1996560"/>
              <a:ext cx="36504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119"/>
            <p:cNvSpPr/>
            <p:nvPr/>
          </p:nvSpPr>
          <p:spPr>
            <a:xfrm rot="9583200">
              <a:off x="6722640" y="2385360"/>
              <a:ext cx="191880" cy="13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120"/>
            <p:cNvSpPr/>
            <p:nvPr/>
          </p:nvSpPr>
          <p:spPr>
            <a:xfrm rot="1841400">
              <a:off x="6464520" y="2473200"/>
              <a:ext cx="187920" cy="13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梯形 121"/>
            <p:cNvSpPr/>
            <p:nvPr/>
          </p:nvSpPr>
          <p:spPr>
            <a:xfrm flipV="1" rot="4137000">
              <a:off x="6689880" y="2450520"/>
              <a:ext cx="56520" cy="93960"/>
            </a:xfrm>
            <a:custGeom>
              <a:avLst/>
              <a:gdLst>
                <a:gd name="textAreaLeft" fmla="*/ 12240 w 56520"/>
                <a:gd name="textAreaRight" fmla="*/ 44280 w 5652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梯形 122"/>
            <p:cNvSpPr/>
            <p:nvPr/>
          </p:nvSpPr>
          <p:spPr>
            <a:xfrm flipV="1" rot="16980000">
              <a:off x="6617880" y="253692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171"/>
          <p:cNvGrpSpPr/>
          <p:nvPr/>
        </p:nvGrpSpPr>
        <p:grpSpPr>
          <a:xfrm>
            <a:off x="6902280" y="2001960"/>
            <a:ext cx="791640" cy="976320"/>
            <a:chOff x="6902280" y="2001960"/>
            <a:chExt cx="791640" cy="976320"/>
          </a:xfrm>
        </p:grpSpPr>
        <p:sp>
          <p:nvSpPr>
            <p:cNvPr id="75" name="矩形 100"/>
            <p:cNvSpPr/>
            <p:nvPr/>
          </p:nvSpPr>
          <p:spPr>
            <a:xfrm>
              <a:off x="7320600" y="2369520"/>
              <a:ext cx="102240" cy="60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173"/>
            <p:cNvSpPr/>
            <p:nvPr/>
          </p:nvSpPr>
          <p:spPr>
            <a:xfrm rot="2303400">
              <a:off x="6954480" y="2107440"/>
              <a:ext cx="453960" cy="32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174"/>
            <p:cNvSpPr/>
            <p:nvPr/>
          </p:nvSpPr>
          <p:spPr>
            <a:xfrm rot="7542600">
              <a:off x="7298280" y="2094840"/>
              <a:ext cx="36432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175"/>
            <p:cNvSpPr/>
            <p:nvPr/>
          </p:nvSpPr>
          <p:spPr>
            <a:xfrm rot="9583200">
              <a:off x="7428960" y="2483640"/>
              <a:ext cx="1918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椭圆 176"/>
            <p:cNvSpPr/>
            <p:nvPr/>
          </p:nvSpPr>
          <p:spPr>
            <a:xfrm rot="1841400">
              <a:off x="7170840" y="2570760"/>
              <a:ext cx="187920" cy="13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梯形 177"/>
            <p:cNvSpPr/>
            <p:nvPr/>
          </p:nvSpPr>
          <p:spPr>
            <a:xfrm flipV="1" rot="4137000">
              <a:off x="7396200" y="2547720"/>
              <a:ext cx="56160" cy="93960"/>
            </a:xfrm>
            <a:custGeom>
              <a:avLst/>
              <a:gdLst>
                <a:gd name="textAreaLeft" fmla="*/ 12240 w 56160"/>
                <a:gd name="textAreaRight" fmla="*/ 43920 w 5616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梯形 178"/>
            <p:cNvSpPr/>
            <p:nvPr/>
          </p:nvSpPr>
          <p:spPr>
            <a:xfrm flipV="1" rot="16980000">
              <a:off x="7324200" y="263448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179"/>
          <p:cNvGrpSpPr/>
          <p:nvPr/>
        </p:nvGrpSpPr>
        <p:grpSpPr>
          <a:xfrm>
            <a:off x="7540560" y="1900440"/>
            <a:ext cx="791640" cy="975960"/>
            <a:chOff x="7540560" y="1900440"/>
            <a:chExt cx="791640" cy="975960"/>
          </a:xfrm>
        </p:grpSpPr>
        <p:sp>
          <p:nvSpPr>
            <p:cNvPr id="83" name="矩形 100"/>
            <p:cNvSpPr/>
            <p:nvPr/>
          </p:nvSpPr>
          <p:spPr>
            <a:xfrm>
              <a:off x="7958880" y="2267640"/>
              <a:ext cx="102240" cy="60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181"/>
            <p:cNvSpPr/>
            <p:nvPr/>
          </p:nvSpPr>
          <p:spPr>
            <a:xfrm rot="2303400">
              <a:off x="7592760" y="2005920"/>
              <a:ext cx="453960" cy="32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182"/>
            <p:cNvSpPr/>
            <p:nvPr/>
          </p:nvSpPr>
          <p:spPr>
            <a:xfrm rot="7542600">
              <a:off x="7936560" y="1993320"/>
              <a:ext cx="36432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183"/>
            <p:cNvSpPr/>
            <p:nvPr/>
          </p:nvSpPr>
          <p:spPr>
            <a:xfrm rot="9583200">
              <a:off x="8067240" y="2381760"/>
              <a:ext cx="1918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184"/>
            <p:cNvSpPr/>
            <p:nvPr/>
          </p:nvSpPr>
          <p:spPr>
            <a:xfrm rot="1841400">
              <a:off x="7809120" y="2469240"/>
              <a:ext cx="187920" cy="13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梯形 185"/>
            <p:cNvSpPr/>
            <p:nvPr/>
          </p:nvSpPr>
          <p:spPr>
            <a:xfrm flipV="1" rot="4137000">
              <a:off x="8034480" y="2446200"/>
              <a:ext cx="56160" cy="93960"/>
            </a:xfrm>
            <a:custGeom>
              <a:avLst/>
              <a:gdLst>
                <a:gd name="textAreaLeft" fmla="*/ 12240 w 56160"/>
                <a:gd name="textAreaRight" fmla="*/ 43920 w 5616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梯形 186"/>
            <p:cNvSpPr/>
            <p:nvPr/>
          </p:nvSpPr>
          <p:spPr>
            <a:xfrm flipV="1" rot="16980000">
              <a:off x="7962480" y="253260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87"/>
          <p:cNvGrpSpPr/>
          <p:nvPr/>
        </p:nvGrpSpPr>
        <p:grpSpPr>
          <a:xfrm>
            <a:off x="8227800" y="2141640"/>
            <a:ext cx="791640" cy="976320"/>
            <a:chOff x="8227800" y="2141640"/>
            <a:chExt cx="791640" cy="976320"/>
          </a:xfrm>
        </p:grpSpPr>
        <p:sp>
          <p:nvSpPr>
            <p:cNvPr id="91" name="矩形 100"/>
            <p:cNvSpPr/>
            <p:nvPr/>
          </p:nvSpPr>
          <p:spPr>
            <a:xfrm>
              <a:off x="8646120" y="2509200"/>
              <a:ext cx="102240" cy="60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189"/>
            <p:cNvSpPr/>
            <p:nvPr/>
          </p:nvSpPr>
          <p:spPr>
            <a:xfrm rot="2303400">
              <a:off x="8280000" y="2247120"/>
              <a:ext cx="453960" cy="32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190"/>
            <p:cNvSpPr/>
            <p:nvPr/>
          </p:nvSpPr>
          <p:spPr>
            <a:xfrm rot="7542600">
              <a:off x="8623800" y="2234520"/>
              <a:ext cx="36432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191"/>
            <p:cNvSpPr/>
            <p:nvPr/>
          </p:nvSpPr>
          <p:spPr>
            <a:xfrm rot="9583200">
              <a:off x="8754480" y="2623320"/>
              <a:ext cx="1918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192"/>
            <p:cNvSpPr/>
            <p:nvPr/>
          </p:nvSpPr>
          <p:spPr>
            <a:xfrm rot="1841400">
              <a:off x="8496360" y="2710440"/>
              <a:ext cx="187920" cy="13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梯形 193"/>
            <p:cNvSpPr/>
            <p:nvPr/>
          </p:nvSpPr>
          <p:spPr>
            <a:xfrm flipV="1" rot="4137000">
              <a:off x="8721720" y="2687400"/>
              <a:ext cx="56160" cy="93960"/>
            </a:xfrm>
            <a:custGeom>
              <a:avLst/>
              <a:gdLst>
                <a:gd name="textAreaLeft" fmla="*/ 12240 w 56160"/>
                <a:gd name="textAreaRight" fmla="*/ 43920 w 5616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梯形 194"/>
            <p:cNvSpPr/>
            <p:nvPr/>
          </p:nvSpPr>
          <p:spPr>
            <a:xfrm flipV="1" rot="16980000">
              <a:off x="8649720" y="277416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95"/>
          <p:cNvGrpSpPr/>
          <p:nvPr/>
        </p:nvGrpSpPr>
        <p:grpSpPr>
          <a:xfrm>
            <a:off x="8781840" y="1863720"/>
            <a:ext cx="791640" cy="977760"/>
            <a:chOff x="8781840" y="1863720"/>
            <a:chExt cx="791640" cy="977760"/>
          </a:xfrm>
        </p:grpSpPr>
        <p:sp>
          <p:nvSpPr>
            <p:cNvPr id="99" name="矩形 100"/>
            <p:cNvSpPr/>
            <p:nvPr/>
          </p:nvSpPr>
          <p:spPr>
            <a:xfrm>
              <a:off x="9200160" y="2231640"/>
              <a:ext cx="102240" cy="60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97"/>
            <p:cNvSpPr/>
            <p:nvPr/>
          </p:nvSpPr>
          <p:spPr>
            <a:xfrm rot="2303400">
              <a:off x="8834400" y="1969200"/>
              <a:ext cx="453960" cy="32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198"/>
            <p:cNvSpPr/>
            <p:nvPr/>
          </p:nvSpPr>
          <p:spPr>
            <a:xfrm rot="7542600">
              <a:off x="9177120" y="1956960"/>
              <a:ext cx="36504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199"/>
            <p:cNvSpPr/>
            <p:nvPr/>
          </p:nvSpPr>
          <p:spPr>
            <a:xfrm rot="9583200">
              <a:off x="9308520" y="2346120"/>
              <a:ext cx="1918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200"/>
            <p:cNvSpPr/>
            <p:nvPr/>
          </p:nvSpPr>
          <p:spPr>
            <a:xfrm rot="1841400">
              <a:off x="9050400" y="2433600"/>
              <a:ext cx="187920" cy="13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梯形 201"/>
            <p:cNvSpPr/>
            <p:nvPr/>
          </p:nvSpPr>
          <p:spPr>
            <a:xfrm flipV="1" rot="4137000">
              <a:off x="9275760" y="2410920"/>
              <a:ext cx="56520" cy="93960"/>
            </a:xfrm>
            <a:custGeom>
              <a:avLst/>
              <a:gdLst>
                <a:gd name="textAreaLeft" fmla="*/ 12240 w 56520"/>
                <a:gd name="textAreaRight" fmla="*/ 44280 w 5652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梯形 202"/>
            <p:cNvSpPr/>
            <p:nvPr/>
          </p:nvSpPr>
          <p:spPr>
            <a:xfrm flipV="1" rot="16980000">
              <a:off x="9203760" y="249732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"/>
          <p:cNvGrpSpPr/>
          <p:nvPr/>
        </p:nvGrpSpPr>
        <p:grpSpPr>
          <a:xfrm>
            <a:off x="658800" y="2739960"/>
            <a:ext cx="862560" cy="1692360"/>
            <a:chOff x="658800" y="2739960"/>
            <a:chExt cx="862560" cy="1692360"/>
          </a:xfrm>
        </p:grpSpPr>
        <p:sp>
          <p:nvSpPr>
            <p:cNvPr id="107" name="椭圆 4"/>
            <p:cNvSpPr/>
            <p:nvPr/>
          </p:nvSpPr>
          <p:spPr>
            <a:xfrm>
              <a:off x="658800" y="2739960"/>
              <a:ext cx="467280" cy="46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梯形 10"/>
            <p:cNvSpPr/>
            <p:nvPr/>
          </p:nvSpPr>
          <p:spPr>
            <a:xfrm flipV="1">
              <a:off x="756000" y="3808440"/>
              <a:ext cx="370080" cy="57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圆角矩形 11"/>
            <p:cNvSpPr/>
            <p:nvPr/>
          </p:nvSpPr>
          <p:spPr>
            <a:xfrm rot="13600800">
              <a:off x="1093680" y="2862360"/>
              <a:ext cx="217800" cy="671040"/>
            </a:xfrm>
            <a:custGeom>
              <a:avLst/>
              <a:gdLst>
                <a:gd name="textAreaLeft" fmla="*/ 31680 w 217800"/>
                <a:gd name="textAreaRight" fmla="*/ 186120 w 217800"/>
                <a:gd name="textAreaTop" fmla="*/ 31680 h 671040"/>
                <a:gd name="textAreaBottom" fmla="*/ 639360 h 671040"/>
              </a:gdLst>
              <a:ahLst/>
              <a:rect l="textAreaLeft" t="textAreaTop" r="textAreaRight" b="textAreaBottom"/>
              <a:pathLst>
                <a:path w="21600" h="66475">
                  <a:moveTo>
                    <a:pt x="10800" y="0"/>
                  </a:moveTo>
                  <a:arcTo wR="10800" hR="10800" stAng="16200000" swAng="-5400000"/>
                  <a:lnTo>
                    <a:pt x="0" y="55675"/>
                  </a:lnTo>
                  <a:arcTo wR="10800" hR="10800" stAng="10800000" swAng="-5400000"/>
                  <a:lnTo>
                    <a:pt x="10800" y="664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梯形 63"/>
            <p:cNvSpPr/>
            <p:nvPr/>
          </p:nvSpPr>
          <p:spPr>
            <a:xfrm flipV="1">
              <a:off x="683640" y="3175560"/>
              <a:ext cx="49572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14"/>
            <p:cNvSpPr/>
            <p:nvPr/>
          </p:nvSpPr>
          <p:spPr>
            <a:xfrm>
              <a:off x="762120" y="4303080"/>
              <a:ext cx="35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64"/>
            <p:cNvSpPr/>
            <p:nvPr/>
          </p:nvSpPr>
          <p:spPr>
            <a:xfrm>
              <a:off x="756000" y="4386600"/>
              <a:ext cx="1321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圆角矩形 15"/>
          <p:cNvSpPr/>
          <p:nvPr/>
        </p:nvSpPr>
        <p:spPr>
          <a:xfrm>
            <a:off x="3160800" y="3156120"/>
            <a:ext cx="2190600" cy="14810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流程图: 过程 3"/>
          <p:cNvSpPr/>
          <p:nvPr/>
        </p:nvSpPr>
        <p:spPr>
          <a:xfrm>
            <a:off x="3687840" y="2127240"/>
            <a:ext cx="1730160" cy="2523960"/>
          </a:xfrm>
          <a:prstGeom prst="flowChartProcess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流程图: 过程 5"/>
          <p:cNvSpPr/>
          <p:nvPr/>
        </p:nvSpPr>
        <p:spPr>
          <a:xfrm>
            <a:off x="4842000" y="2744640"/>
            <a:ext cx="4724280" cy="1717920"/>
          </a:xfrm>
          <a:prstGeom prst="flowChartProcess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6"/>
          <p:cNvSpPr/>
          <p:nvPr/>
        </p:nvSpPr>
        <p:spPr>
          <a:xfrm>
            <a:off x="4070520" y="3897360"/>
            <a:ext cx="1314360" cy="1316160"/>
          </a:xfrm>
          <a:prstGeom prst="ellipse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7"/>
          <p:cNvSpPr/>
          <p:nvPr/>
        </p:nvSpPr>
        <p:spPr>
          <a:xfrm>
            <a:off x="6330960" y="3898800"/>
            <a:ext cx="1316160" cy="1316160"/>
          </a:xfrm>
          <a:prstGeom prst="ellipse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8"/>
          <p:cNvSpPr/>
          <p:nvPr/>
        </p:nvSpPr>
        <p:spPr>
          <a:xfrm>
            <a:off x="7954920" y="3909960"/>
            <a:ext cx="1316160" cy="1314360"/>
          </a:xfrm>
          <a:prstGeom prst="ellipse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16"/>
          <p:cNvSpPr/>
          <p:nvPr/>
        </p:nvSpPr>
        <p:spPr>
          <a:xfrm>
            <a:off x="3579840" y="2075040"/>
            <a:ext cx="2000160" cy="1503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7"/>
          <p:cNvSpPr/>
          <p:nvPr/>
        </p:nvSpPr>
        <p:spPr>
          <a:xfrm>
            <a:off x="4010040" y="2422440"/>
            <a:ext cx="644400" cy="6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8"/>
          <p:cNvSpPr/>
          <p:nvPr/>
        </p:nvSpPr>
        <p:spPr>
          <a:xfrm>
            <a:off x="4808520" y="2422440"/>
            <a:ext cx="644400" cy="6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角三角形 83"/>
          <p:cNvSpPr/>
          <p:nvPr/>
        </p:nvSpPr>
        <p:spPr>
          <a:xfrm flipH="1">
            <a:off x="3269520" y="2255760"/>
            <a:ext cx="351000" cy="1020960"/>
          </a:xfrm>
          <a:prstGeom prst="rtTriangl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205"/>
          <p:cNvSpPr/>
          <p:nvPr/>
        </p:nvSpPr>
        <p:spPr>
          <a:xfrm>
            <a:off x="4070520" y="2511360"/>
            <a:ext cx="466560" cy="4669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梯形 206"/>
          <p:cNvSpPr/>
          <p:nvPr/>
        </p:nvSpPr>
        <p:spPr>
          <a:xfrm flipV="1">
            <a:off x="4156200" y="2944080"/>
            <a:ext cx="296640" cy="297000"/>
          </a:xfrm>
          <a:custGeom>
            <a:avLst/>
            <a:gdLst>
              <a:gd name="textAreaLeft" fmla="*/ 65160 w 296640"/>
              <a:gd name="textAreaRight" fmla="*/ 231480 w 296640"/>
              <a:gd name="textAreaTop" fmla="*/ 65160 h 297000"/>
              <a:gd name="textAreaBottom" fmla="*/ 23184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2986200" y="5452920"/>
            <a:ext cx="76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老领导</a:t>
            </a: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每年都买回一车树苗让大家植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0"/>
          <p:cNvSpPr/>
          <p:nvPr/>
        </p:nvSpPr>
        <p:spPr>
          <a:xfrm>
            <a:off x="2668680" y="5175360"/>
            <a:ext cx="8040600" cy="109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弦形 9"/>
          <p:cNvSpPr/>
          <p:nvPr/>
        </p:nvSpPr>
        <p:spPr>
          <a:xfrm>
            <a:off x="639720" y="2655720"/>
            <a:ext cx="533520" cy="943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 rot="20225400">
            <a:off x="993240" y="2717640"/>
            <a:ext cx="276480" cy="101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3"/>
          <p:cNvSpPr/>
          <p:nvPr/>
        </p:nvSpPr>
        <p:spPr>
          <a:xfrm>
            <a:off x="1103400" y="3451320"/>
            <a:ext cx="4608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74"/>
          <p:cNvSpPr/>
          <p:nvPr/>
        </p:nvSpPr>
        <p:spPr>
          <a:xfrm>
            <a:off x="1117440" y="3578400"/>
            <a:ext cx="4608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5"/>
          <p:cNvSpPr/>
          <p:nvPr/>
        </p:nvSpPr>
        <p:spPr>
          <a:xfrm>
            <a:off x="1136520" y="3711600"/>
            <a:ext cx="46080" cy="46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565"/>
          <p:cNvGrpSpPr/>
          <p:nvPr/>
        </p:nvGrpSpPr>
        <p:grpSpPr>
          <a:xfrm>
            <a:off x="7308360" y="3675240"/>
            <a:ext cx="1658160" cy="1563120"/>
            <a:chOff x="7308360" y="3675240"/>
            <a:chExt cx="1658160" cy="1563120"/>
          </a:xfrm>
        </p:grpSpPr>
        <p:grpSp>
          <p:nvGrpSpPr>
            <p:cNvPr id="133" name="组合 566"/>
            <p:cNvGrpSpPr/>
            <p:nvPr/>
          </p:nvGrpSpPr>
          <p:grpSpPr>
            <a:xfrm>
              <a:off x="8444520" y="4783680"/>
              <a:ext cx="279000" cy="383040"/>
              <a:chOff x="8444520" y="4783680"/>
              <a:chExt cx="279000" cy="383040"/>
            </a:xfrm>
          </p:grpSpPr>
          <p:sp>
            <p:nvSpPr>
              <p:cNvPr id="134" name="椭圆 580"/>
              <p:cNvSpPr/>
              <p:nvPr/>
            </p:nvSpPr>
            <p:spPr>
              <a:xfrm flipH="1">
                <a:off x="8448840" y="5077800"/>
                <a:ext cx="212040" cy="889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组合 581"/>
              <p:cNvGrpSpPr/>
              <p:nvPr/>
            </p:nvGrpSpPr>
            <p:grpSpPr>
              <a:xfrm>
                <a:off x="8444520" y="4783680"/>
                <a:ext cx="279000" cy="344880"/>
                <a:chOff x="8444520" y="4783680"/>
                <a:chExt cx="279000" cy="344880"/>
              </a:xfrm>
            </p:grpSpPr>
            <p:sp>
              <p:nvSpPr>
                <p:cNvPr id="136" name="矩形 100"/>
                <p:cNvSpPr/>
                <p:nvPr/>
              </p:nvSpPr>
              <p:spPr>
                <a:xfrm flipH="1">
                  <a:off x="8539920" y="4913280"/>
                  <a:ext cx="36000" cy="2152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椭圆 583"/>
                <p:cNvSpPr/>
                <p:nvPr/>
              </p:nvSpPr>
              <p:spPr>
                <a:xfrm flipH="1" rot="19296600">
                  <a:off x="8544600" y="4820760"/>
                  <a:ext cx="159840" cy="1152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584"/>
                <p:cNvSpPr/>
                <p:nvPr/>
              </p:nvSpPr>
              <p:spPr>
                <a:xfrm flipH="1" rot="14057400">
                  <a:off x="8455320" y="4816440"/>
                  <a:ext cx="128520" cy="932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椭圆 585"/>
                <p:cNvSpPr/>
                <p:nvPr/>
              </p:nvSpPr>
              <p:spPr>
                <a:xfrm flipH="1" rot="12016800">
                  <a:off x="8470440" y="4953240"/>
                  <a:ext cx="67320" cy="486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椭圆 586"/>
                <p:cNvSpPr/>
                <p:nvPr/>
              </p:nvSpPr>
              <p:spPr>
                <a:xfrm flipH="1" rot="19758600">
                  <a:off x="8562960" y="4984920"/>
                  <a:ext cx="65520" cy="482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梯形 587"/>
                <p:cNvSpPr/>
                <p:nvPr/>
              </p:nvSpPr>
              <p:spPr>
                <a:xfrm flipH="1" flipV="1" rot="17463000">
                  <a:off x="8529120" y="4976640"/>
                  <a:ext cx="19800" cy="32760"/>
                </a:xfrm>
                <a:custGeom>
                  <a:avLst/>
                  <a:gdLst>
                    <a:gd name="textAreaLeft" fmla="*/ 4320 w 19800"/>
                    <a:gd name="textAreaRight" fmla="*/ 15480 w 19800"/>
                    <a:gd name="textAreaTop" fmla="*/ 7200 h 32760"/>
                    <a:gd name="textAreaBottom" fmla="*/ 25560 h 32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梯形 588"/>
                <p:cNvSpPr/>
                <p:nvPr/>
              </p:nvSpPr>
              <p:spPr>
                <a:xfrm flipH="1" flipV="1" rot="4620000">
                  <a:off x="8556840" y="5006520"/>
                  <a:ext cx="17280" cy="25920"/>
                </a:xfrm>
                <a:custGeom>
                  <a:avLst/>
                  <a:gdLst>
                    <a:gd name="textAreaLeft" fmla="*/ 3600 w 17280"/>
                    <a:gd name="textAreaRight" fmla="*/ 13680 w 17280"/>
                    <a:gd name="textAreaTop" fmla="*/ 5760 h 25920"/>
                    <a:gd name="textAreaBottom" fmla="*/ 20160 h 2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组合 567"/>
            <p:cNvGrpSpPr/>
            <p:nvPr/>
          </p:nvGrpSpPr>
          <p:grpSpPr>
            <a:xfrm>
              <a:off x="7308360" y="3675240"/>
              <a:ext cx="1658160" cy="1563120"/>
              <a:chOff x="7308360" y="3675240"/>
              <a:chExt cx="1658160" cy="1563120"/>
            </a:xfrm>
          </p:grpSpPr>
          <p:sp>
            <p:nvSpPr>
              <p:cNvPr id="144" name="椭圆 568"/>
              <p:cNvSpPr/>
              <p:nvPr/>
            </p:nvSpPr>
            <p:spPr>
              <a:xfrm>
                <a:off x="7887960" y="3675240"/>
                <a:ext cx="410400" cy="4107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梯形 63"/>
              <p:cNvSpPr/>
              <p:nvPr/>
            </p:nvSpPr>
            <p:spPr>
              <a:xfrm flipV="1">
                <a:off x="7863120" y="4060080"/>
                <a:ext cx="435600" cy="596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圆角矩形 570"/>
              <p:cNvSpPr/>
              <p:nvPr/>
            </p:nvSpPr>
            <p:spPr>
              <a:xfrm rot="18006600">
                <a:off x="8187840" y="4027320"/>
                <a:ext cx="178560" cy="545040"/>
              </a:xfrm>
              <a:custGeom>
                <a:avLst/>
                <a:gdLst>
                  <a:gd name="textAreaLeft" fmla="*/ 25920 w 178560"/>
                  <a:gd name="textAreaRight" fmla="*/ 152640 w 178560"/>
                  <a:gd name="textAreaTop" fmla="*/ 25920 h 545040"/>
                  <a:gd name="textAreaBottom" fmla="*/ 519120 h 545040"/>
                </a:gdLst>
                <a:ahLst/>
                <a:rect l="textAreaLeft" t="textAreaTop" r="textAreaRight" b="textAreaBottom"/>
                <a:pathLst>
                  <a:path w="21600" h="65843">
                    <a:moveTo>
                      <a:pt x="10800" y="0"/>
                    </a:moveTo>
                    <a:arcTo wR="10800" hR="10800" stAng="16200000" swAng="-5400000"/>
                    <a:lnTo>
                      <a:pt x="0" y="55043"/>
                    </a:lnTo>
                    <a:arcTo wR="10800" hR="10800" stAng="10800000" swAng="-5400000"/>
                    <a:lnTo>
                      <a:pt x="10800" y="6584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" name="组合 571"/>
              <p:cNvGrpSpPr/>
              <p:nvPr/>
            </p:nvGrpSpPr>
            <p:grpSpPr>
              <a:xfrm>
                <a:off x="7308360" y="3841200"/>
                <a:ext cx="1658160" cy="516600"/>
                <a:chOff x="7308360" y="3841200"/>
                <a:chExt cx="1658160" cy="516600"/>
              </a:xfrm>
            </p:grpSpPr>
            <p:sp>
              <p:nvSpPr>
                <p:cNvPr id="148" name="任意多边形 576"/>
                <p:cNvSpPr/>
                <p:nvPr/>
              </p:nvSpPr>
              <p:spPr>
                <a:xfrm rot="5116200">
                  <a:off x="8193600" y="3637800"/>
                  <a:ext cx="59760" cy="8956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任意多边形 577"/>
                <p:cNvSpPr/>
                <p:nvPr/>
              </p:nvSpPr>
              <p:spPr>
                <a:xfrm rot="5116200">
                  <a:off x="7304040" y="3980160"/>
                  <a:ext cx="383400" cy="34452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矩形 578"/>
                <p:cNvSpPr/>
                <p:nvPr/>
              </p:nvSpPr>
              <p:spPr>
                <a:xfrm flipH="1" rot="5115600">
                  <a:off x="7620120" y="3997800"/>
                  <a:ext cx="94320" cy="2674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任意多边形 579"/>
                <p:cNvSpPr/>
                <p:nvPr/>
              </p:nvSpPr>
              <p:spPr>
                <a:xfrm flipV="1" rot="5115600">
                  <a:off x="8600760" y="3867120"/>
                  <a:ext cx="363600" cy="3387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圆角矩形 572"/>
              <p:cNvSpPr/>
              <p:nvPr/>
            </p:nvSpPr>
            <p:spPr>
              <a:xfrm rot="1387800">
                <a:off x="8448120" y="4028040"/>
                <a:ext cx="143640" cy="476640"/>
              </a:xfrm>
              <a:custGeom>
                <a:avLst/>
                <a:gdLst>
                  <a:gd name="textAreaLeft" fmla="*/ 20880 w 143640"/>
                  <a:gd name="textAreaRight" fmla="*/ 122760 w 143640"/>
                  <a:gd name="textAreaTop" fmla="*/ 20880 h 476640"/>
                  <a:gd name="textAreaBottom" fmla="*/ 455760 h 476640"/>
                </a:gdLst>
                <a:ahLst/>
                <a:rect l="textAreaLeft" t="textAreaTop" r="textAreaRight" b="textAreaBottom"/>
                <a:pathLst>
                  <a:path w="21600" h="71550">
                    <a:moveTo>
                      <a:pt x="10800" y="0"/>
                    </a:moveTo>
                    <a:arcTo wR="10800" hR="10800" stAng="16200000" swAng="-5400000"/>
                    <a:lnTo>
                      <a:pt x="0" y="60750"/>
                    </a:lnTo>
                    <a:arcTo wR="10800" hR="10800" stAng="10800000" swAng="-5400000"/>
                    <a:lnTo>
                      <a:pt x="10800" y="7155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椭圆 573"/>
              <p:cNvSpPr/>
              <p:nvPr/>
            </p:nvSpPr>
            <p:spPr>
              <a:xfrm>
                <a:off x="8492760" y="3974400"/>
                <a:ext cx="196920" cy="1969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梯形 27"/>
              <p:cNvSpPr/>
              <p:nvPr/>
            </p:nvSpPr>
            <p:spPr>
              <a:xfrm flipV="1" rot="21404400">
                <a:off x="7918920" y="4549320"/>
                <a:ext cx="347760" cy="6796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矩形 575"/>
              <p:cNvSpPr/>
              <p:nvPr/>
            </p:nvSpPr>
            <p:spPr>
              <a:xfrm rot="21368400">
                <a:off x="7984440" y="5132160"/>
                <a:ext cx="271800" cy="972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组合 589"/>
          <p:cNvGrpSpPr/>
          <p:nvPr/>
        </p:nvGrpSpPr>
        <p:grpSpPr>
          <a:xfrm>
            <a:off x="5140080" y="3735360"/>
            <a:ext cx="1592280" cy="1502640"/>
            <a:chOff x="5140080" y="3735360"/>
            <a:chExt cx="1592280" cy="1502640"/>
          </a:xfrm>
        </p:grpSpPr>
        <p:grpSp>
          <p:nvGrpSpPr>
            <p:cNvPr id="157" name="组合 590"/>
            <p:cNvGrpSpPr/>
            <p:nvPr/>
          </p:nvGrpSpPr>
          <p:grpSpPr>
            <a:xfrm>
              <a:off x="6231240" y="4800960"/>
              <a:ext cx="267480" cy="367920"/>
              <a:chOff x="6231240" y="4800960"/>
              <a:chExt cx="267480" cy="367920"/>
            </a:xfrm>
          </p:grpSpPr>
          <p:sp>
            <p:nvSpPr>
              <p:cNvPr id="158" name="椭圆 604"/>
              <p:cNvSpPr/>
              <p:nvPr/>
            </p:nvSpPr>
            <p:spPr>
              <a:xfrm flipH="1">
                <a:off x="6235200" y="5083560"/>
                <a:ext cx="203400" cy="853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组合 605"/>
              <p:cNvGrpSpPr/>
              <p:nvPr/>
            </p:nvGrpSpPr>
            <p:grpSpPr>
              <a:xfrm>
                <a:off x="6231240" y="4800960"/>
                <a:ext cx="267480" cy="331200"/>
                <a:chOff x="6231240" y="4800960"/>
                <a:chExt cx="267480" cy="331200"/>
              </a:xfrm>
            </p:grpSpPr>
            <p:sp>
              <p:nvSpPr>
                <p:cNvPr id="160" name="矩形 100"/>
                <p:cNvSpPr/>
                <p:nvPr/>
              </p:nvSpPr>
              <p:spPr>
                <a:xfrm flipH="1">
                  <a:off x="6323040" y="4925520"/>
                  <a:ext cx="34560" cy="2066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椭圆 607"/>
                <p:cNvSpPr/>
                <p:nvPr/>
              </p:nvSpPr>
              <p:spPr>
                <a:xfrm flipH="1" rot="19296600">
                  <a:off x="6327000" y="4836600"/>
                  <a:ext cx="153360" cy="1108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椭圆 608"/>
                <p:cNvSpPr/>
                <p:nvPr/>
              </p:nvSpPr>
              <p:spPr>
                <a:xfrm flipH="1" rot="14057400">
                  <a:off x="6241680" y="4832280"/>
                  <a:ext cx="123480" cy="896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椭圆 609"/>
                <p:cNvSpPr/>
                <p:nvPr/>
              </p:nvSpPr>
              <p:spPr>
                <a:xfrm flipH="1" rot="12016800">
                  <a:off x="6255720" y="4964040"/>
                  <a:ext cx="64800" cy="468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椭圆 610"/>
                <p:cNvSpPr/>
                <p:nvPr/>
              </p:nvSpPr>
              <p:spPr>
                <a:xfrm flipH="1" rot="19758600">
                  <a:off x="6345000" y="4993920"/>
                  <a:ext cx="63360" cy="453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梯形 611"/>
                <p:cNvSpPr/>
                <p:nvPr/>
              </p:nvSpPr>
              <p:spPr>
                <a:xfrm flipH="1" flipV="1" rot="17463000">
                  <a:off x="6312240" y="4986000"/>
                  <a:ext cx="19080" cy="31680"/>
                </a:xfrm>
                <a:custGeom>
                  <a:avLst/>
                  <a:gdLst>
                    <a:gd name="textAreaLeft" fmla="*/ 3960 w 19080"/>
                    <a:gd name="textAreaRight" fmla="*/ 15120 w 19080"/>
                    <a:gd name="textAreaTop" fmla="*/ 6840 h 31680"/>
                    <a:gd name="textAreaBottom" fmla="*/ 24840 h 31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梯形 612"/>
                <p:cNvSpPr/>
                <p:nvPr/>
              </p:nvSpPr>
              <p:spPr>
                <a:xfrm flipH="1" flipV="1" rot="4620000">
                  <a:off x="6339600" y="5015520"/>
                  <a:ext cx="16560" cy="24840"/>
                </a:xfrm>
                <a:custGeom>
                  <a:avLst/>
                  <a:gdLst>
                    <a:gd name="textAreaLeft" fmla="*/ 3600 w 16560"/>
                    <a:gd name="textAreaRight" fmla="*/ 12960 w 16560"/>
                    <a:gd name="textAreaTop" fmla="*/ 5400 h 24840"/>
                    <a:gd name="textAreaBottom" fmla="*/ 19440 h 24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组合 591"/>
            <p:cNvGrpSpPr/>
            <p:nvPr/>
          </p:nvGrpSpPr>
          <p:grpSpPr>
            <a:xfrm>
              <a:off x="5140080" y="3735360"/>
              <a:ext cx="1592280" cy="1502640"/>
              <a:chOff x="5140080" y="3735360"/>
              <a:chExt cx="1592280" cy="1502640"/>
            </a:xfrm>
          </p:grpSpPr>
          <p:sp>
            <p:nvSpPr>
              <p:cNvPr id="168" name="椭圆 592"/>
              <p:cNvSpPr/>
              <p:nvPr/>
            </p:nvSpPr>
            <p:spPr>
              <a:xfrm>
                <a:off x="5697000" y="3735360"/>
                <a:ext cx="394200" cy="3945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梯形 63"/>
              <p:cNvSpPr/>
              <p:nvPr/>
            </p:nvSpPr>
            <p:spPr>
              <a:xfrm flipV="1">
                <a:off x="5604120" y="4105440"/>
                <a:ext cx="521640" cy="7790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圆角矩形 594"/>
              <p:cNvSpPr/>
              <p:nvPr/>
            </p:nvSpPr>
            <p:spPr>
              <a:xfrm rot="18006600">
                <a:off x="5984640" y="4073400"/>
                <a:ext cx="171720" cy="523440"/>
              </a:xfrm>
              <a:custGeom>
                <a:avLst/>
                <a:gdLst>
                  <a:gd name="textAreaLeft" fmla="*/ 25200 w 171720"/>
                  <a:gd name="textAreaRight" fmla="*/ 146520 w 171720"/>
                  <a:gd name="textAreaTop" fmla="*/ 25200 h 523440"/>
                  <a:gd name="textAreaBottom" fmla="*/ 498240 h 523440"/>
                </a:gdLst>
                <a:ahLst/>
                <a:rect l="textAreaLeft" t="textAreaTop" r="textAreaRight" b="textAreaBottom"/>
                <a:pathLst>
                  <a:path w="21600" h="65749">
                    <a:moveTo>
                      <a:pt x="10800" y="0"/>
                    </a:moveTo>
                    <a:arcTo wR="10800" hR="10800" stAng="16200000" swAng="-5400000"/>
                    <a:lnTo>
                      <a:pt x="0" y="54949"/>
                    </a:lnTo>
                    <a:arcTo wR="10800" hR="10800" stAng="10800000" swAng="-5400000"/>
                    <a:lnTo>
                      <a:pt x="10800" y="657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组合 595"/>
              <p:cNvGrpSpPr/>
              <p:nvPr/>
            </p:nvGrpSpPr>
            <p:grpSpPr>
              <a:xfrm>
                <a:off x="5140080" y="3894840"/>
                <a:ext cx="1592280" cy="496800"/>
                <a:chOff x="5140080" y="3894840"/>
                <a:chExt cx="1592280" cy="496800"/>
              </a:xfrm>
            </p:grpSpPr>
            <p:sp>
              <p:nvSpPr>
                <p:cNvPr id="172" name="任意多边形 600"/>
                <p:cNvSpPr/>
                <p:nvPr/>
              </p:nvSpPr>
              <p:spPr>
                <a:xfrm rot="5116200">
                  <a:off x="5990040" y="3699720"/>
                  <a:ext cx="57240" cy="8600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任意多边形 601"/>
                <p:cNvSpPr/>
                <p:nvPr/>
              </p:nvSpPr>
              <p:spPr>
                <a:xfrm rot="5116200">
                  <a:off x="5135760" y="4028760"/>
                  <a:ext cx="368640" cy="3308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矩形 602"/>
                <p:cNvSpPr/>
                <p:nvPr/>
              </p:nvSpPr>
              <p:spPr>
                <a:xfrm flipH="1" rot="5115600">
                  <a:off x="5439240" y="4044960"/>
                  <a:ext cx="90360" cy="2566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任意多边形 603"/>
                <p:cNvSpPr/>
                <p:nvPr/>
              </p:nvSpPr>
              <p:spPr>
                <a:xfrm flipV="1" rot="5115600">
                  <a:off x="6380640" y="3919680"/>
                  <a:ext cx="349560" cy="3254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圆角矩形 596"/>
              <p:cNvSpPr/>
              <p:nvPr/>
            </p:nvSpPr>
            <p:spPr>
              <a:xfrm rot="1387800">
                <a:off x="6234840" y="4074480"/>
                <a:ext cx="137880" cy="458280"/>
              </a:xfrm>
              <a:custGeom>
                <a:avLst/>
                <a:gdLst>
                  <a:gd name="textAreaLeft" fmla="*/ 20160 w 137880"/>
                  <a:gd name="textAreaRight" fmla="*/ 117720 w 137880"/>
                  <a:gd name="textAreaTop" fmla="*/ 20160 h 458280"/>
                  <a:gd name="textAreaBottom" fmla="*/ 438120 h 458280"/>
                </a:gdLst>
                <a:ahLst/>
                <a:rect l="textAreaLeft" t="textAreaTop" r="textAreaRight" b="textAreaBottom"/>
                <a:pathLst>
                  <a:path w="21600" h="71663">
                    <a:moveTo>
                      <a:pt x="10800" y="0"/>
                    </a:moveTo>
                    <a:arcTo wR="10800" hR="10800" stAng="16200000" swAng="-5400000"/>
                    <a:lnTo>
                      <a:pt x="0" y="60863"/>
                    </a:lnTo>
                    <a:arcTo wR="10800" hR="10800" stAng="10800000" swAng="-5400000"/>
                    <a:lnTo>
                      <a:pt x="10800" y="7166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椭圆 597"/>
              <p:cNvSpPr/>
              <p:nvPr/>
            </p:nvSpPr>
            <p:spPr>
              <a:xfrm>
                <a:off x="6277320" y="4023000"/>
                <a:ext cx="189000" cy="1893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梯形 27"/>
              <p:cNvSpPr/>
              <p:nvPr/>
            </p:nvSpPr>
            <p:spPr>
              <a:xfrm flipV="1" rot="21404400">
                <a:off x="5761440" y="4572360"/>
                <a:ext cx="255960" cy="65592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矩形 599"/>
              <p:cNvSpPr/>
              <p:nvPr/>
            </p:nvSpPr>
            <p:spPr>
              <a:xfrm rot="21368400">
                <a:off x="5789160" y="5136120"/>
                <a:ext cx="261000" cy="932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组合 613"/>
          <p:cNvGrpSpPr/>
          <p:nvPr/>
        </p:nvGrpSpPr>
        <p:grpSpPr>
          <a:xfrm>
            <a:off x="2805840" y="3676680"/>
            <a:ext cx="1679400" cy="1584000"/>
            <a:chOff x="2805840" y="3676680"/>
            <a:chExt cx="1679400" cy="1584000"/>
          </a:xfrm>
        </p:grpSpPr>
        <p:grpSp>
          <p:nvGrpSpPr>
            <p:cNvPr id="181" name="组合 614"/>
            <p:cNvGrpSpPr/>
            <p:nvPr/>
          </p:nvGrpSpPr>
          <p:grpSpPr>
            <a:xfrm>
              <a:off x="3957120" y="4799520"/>
              <a:ext cx="282600" cy="388080"/>
              <a:chOff x="3957120" y="4799520"/>
              <a:chExt cx="282600" cy="388080"/>
            </a:xfrm>
          </p:grpSpPr>
          <p:sp>
            <p:nvSpPr>
              <p:cNvPr id="182" name="椭圆 628"/>
              <p:cNvSpPr/>
              <p:nvPr/>
            </p:nvSpPr>
            <p:spPr>
              <a:xfrm flipH="1">
                <a:off x="3961080" y="5097600"/>
                <a:ext cx="214920" cy="9000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组合 629"/>
              <p:cNvGrpSpPr/>
              <p:nvPr/>
            </p:nvGrpSpPr>
            <p:grpSpPr>
              <a:xfrm>
                <a:off x="3957120" y="4799520"/>
                <a:ext cx="282600" cy="349200"/>
                <a:chOff x="3957120" y="4799520"/>
                <a:chExt cx="282600" cy="349200"/>
              </a:xfrm>
            </p:grpSpPr>
            <p:sp>
              <p:nvSpPr>
                <p:cNvPr id="184" name="矩形 100"/>
                <p:cNvSpPr/>
                <p:nvPr/>
              </p:nvSpPr>
              <p:spPr>
                <a:xfrm flipH="1">
                  <a:off x="4053600" y="4930920"/>
                  <a:ext cx="36360" cy="21780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椭圆 631"/>
                <p:cNvSpPr/>
                <p:nvPr/>
              </p:nvSpPr>
              <p:spPr>
                <a:xfrm flipH="1" rot="19296600">
                  <a:off x="4058280" y="4836960"/>
                  <a:ext cx="162000" cy="1170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椭圆 632"/>
                <p:cNvSpPr/>
                <p:nvPr/>
              </p:nvSpPr>
              <p:spPr>
                <a:xfrm flipH="1" rot="14057400">
                  <a:off x="3967560" y="4833000"/>
                  <a:ext cx="130320" cy="939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椭圆 633"/>
                <p:cNvSpPr/>
                <p:nvPr/>
              </p:nvSpPr>
              <p:spPr>
                <a:xfrm flipH="1" rot="12016800">
                  <a:off x="3982320" y="4971240"/>
                  <a:ext cx="68400" cy="496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椭圆 634"/>
                <p:cNvSpPr/>
                <p:nvPr/>
              </p:nvSpPr>
              <p:spPr>
                <a:xfrm flipH="1" rot="19758600">
                  <a:off x="4076280" y="5003280"/>
                  <a:ext cx="66960" cy="482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梯形 635"/>
                <p:cNvSpPr/>
                <p:nvPr/>
              </p:nvSpPr>
              <p:spPr>
                <a:xfrm flipH="1" flipV="1" rot="17463000">
                  <a:off x="4042800" y="4994640"/>
                  <a:ext cx="20160" cy="33120"/>
                </a:xfrm>
                <a:custGeom>
                  <a:avLst/>
                  <a:gdLst>
                    <a:gd name="textAreaLeft" fmla="*/ 4320 w 20160"/>
                    <a:gd name="textAreaRight" fmla="*/ 15840 w 20160"/>
                    <a:gd name="textAreaTop" fmla="*/ 7200 h 33120"/>
                    <a:gd name="textAreaBottom" fmla="*/ 25920 h 33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梯形 636"/>
                <p:cNvSpPr/>
                <p:nvPr/>
              </p:nvSpPr>
              <p:spPr>
                <a:xfrm flipH="1" flipV="1" rot="4620000">
                  <a:off x="4071240" y="5025960"/>
                  <a:ext cx="17640" cy="26280"/>
                </a:xfrm>
                <a:custGeom>
                  <a:avLst/>
                  <a:gdLst>
                    <a:gd name="textAreaLeft" fmla="*/ 3600 w 17640"/>
                    <a:gd name="textAreaRight" fmla="*/ 14040 w 17640"/>
                    <a:gd name="textAreaTop" fmla="*/ 5760 h 26280"/>
                    <a:gd name="textAreaBottom" fmla="*/ 20520 h 26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组合 615"/>
            <p:cNvGrpSpPr/>
            <p:nvPr/>
          </p:nvGrpSpPr>
          <p:grpSpPr>
            <a:xfrm>
              <a:off x="2805840" y="3676680"/>
              <a:ext cx="1679400" cy="1584000"/>
              <a:chOff x="2805840" y="3676680"/>
              <a:chExt cx="1679400" cy="1584000"/>
            </a:xfrm>
          </p:grpSpPr>
          <p:sp>
            <p:nvSpPr>
              <p:cNvPr id="192" name="椭圆 616"/>
              <p:cNvSpPr/>
              <p:nvPr/>
            </p:nvSpPr>
            <p:spPr>
              <a:xfrm>
                <a:off x="3393000" y="3676680"/>
                <a:ext cx="415800" cy="4161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梯形 63"/>
              <p:cNvSpPr/>
              <p:nvPr/>
            </p:nvSpPr>
            <p:spPr>
              <a:xfrm flipV="1">
                <a:off x="3367800" y="4066560"/>
                <a:ext cx="441000" cy="6040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圆角矩形 618"/>
              <p:cNvSpPr/>
              <p:nvPr/>
            </p:nvSpPr>
            <p:spPr>
              <a:xfrm rot="18006600">
                <a:off x="3696120" y="4033440"/>
                <a:ext cx="181080" cy="551880"/>
              </a:xfrm>
              <a:custGeom>
                <a:avLst/>
                <a:gdLst>
                  <a:gd name="textAreaLeft" fmla="*/ 26280 w 181080"/>
                  <a:gd name="textAreaRight" fmla="*/ 154800 w 181080"/>
                  <a:gd name="textAreaTop" fmla="*/ 26280 h 551880"/>
                  <a:gd name="textAreaBottom" fmla="*/ 525600 h 551880"/>
                </a:gdLst>
                <a:ahLst/>
                <a:rect l="textAreaLeft" t="textAreaTop" r="textAreaRight" b="textAreaBottom"/>
                <a:pathLst>
                  <a:path w="21600" h="65743">
                    <a:moveTo>
                      <a:pt x="10800" y="0"/>
                    </a:moveTo>
                    <a:arcTo wR="10800" hR="10800" stAng="16200000" swAng="-5400000"/>
                    <a:lnTo>
                      <a:pt x="0" y="54943"/>
                    </a:lnTo>
                    <a:arcTo wR="10800" hR="10800" stAng="10800000" swAng="-5400000"/>
                    <a:lnTo>
                      <a:pt x="10800" y="6574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组合 619"/>
              <p:cNvGrpSpPr/>
              <p:nvPr/>
            </p:nvGrpSpPr>
            <p:grpSpPr>
              <a:xfrm>
                <a:off x="2805840" y="3844800"/>
                <a:ext cx="1679400" cy="523440"/>
                <a:chOff x="2805840" y="3844800"/>
                <a:chExt cx="1679400" cy="523440"/>
              </a:xfrm>
            </p:grpSpPr>
            <p:sp>
              <p:nvSpPr>
                <p:cNvPr id="196" name="任意多边形 624"/>
                <p:cNvSpPr/>
                <p:nvPr/>
              </p:nvSpPr>
              <p:spPr>
                <a:xfrm rot="5116200">
                  <a:off x="3702240" y="3638520"/>
                  <a:ext cx="60480" cy="90720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任意多边形 625"/>
                <p:cNvSpPr/>
                <p:nvPr/>
              </p:nvSpPr>
              <p:spPr>
                <a:xfrm rot="5116200">
                  <a:off x="2801520" y="3985560"/>
                  <a:ext cx="388440" cy="34920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矩形 626"/>
                <p:cNvSpPr/>
                <p:nvPr/>
              </p:nvSpPr>
              <p:spPr>
                <a:xfrm flipH="1" rot="5115600">
                  <a:off x="3121560" y="4003200"/>
                  <a:ext cx="95400" cy="2707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任意多边形 627"/>
                <p:cNvSpPr/>
                <p:nvPr/>
              </p:nvSpPr>
              <p:spPr>
                <a:xfrm flipV="1" rot="5115600">
                  <a:off x="4114800" y="3871080"/>
                  <a:ext cx="368280" cy="3430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圆角矩形 620"/>
              <p:cNvSpPr/>
              <p:nvPr/>
            </p:nvSpPr>
            <p:spPr>
              <a:xfrm rot="1387800">
                <a:off x="3960360" y="4034160"/>
                <a:ext cx="145440" cy="482760"/>
              </a:xfrm>
              <a:custGeom>
                <a:avLst/>
                <a:gdLst>
                  <a:gd name="textAreaLeft" fmla="*/ 21240 w 145440"/>
                  <a:gd name="textAreaRight" fmla="*/ 124200 w 145440"/>
                  <a:gd name="textAreaTop" fmla="*/ 21240 h 482760"/>
                  <a:gd name="textAreaBottom" fmla="*/ 461520 h 482760"/>
                </a:gdLst>
                <a:ahLst/>
                <a:rect l="textAreaLeft" t="textAreaTop" r="textAreaRight" b="textAreaBottom"/>
                <a:pathLst>
                  <a:path w="21600" h="71573">
                    <a:moveTo>
                      <a:pt x="10800" y="0"/>
                    </a:moveTo>
                    <a:arcTo wR="10800" hR="10800" stAng="16200000" swAng="-5400000"/>
                    <a:lnTo>
                      <a:pt x="0" y="60773"/>
                    </a:lnTo>
                    <a:arcTo wR="10800" hR="10800" stAng="10800000" swAng="-5400000"/>
                    <a:lnTo>
                      <a:pt x="10800" y="7157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椭圆 621"/>
              <p:cNvSpPr/>
              <p:nvPr/>
            </p:nvSpPr>
            <p:spPr>
              <a:xfrm>
                <a:off x="4005360" y="3979800"/>
                <a:ext cx="199440" cy="19944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梯形 27"/>
              <p:cNvSpPr/>
              <p:nvPr/>
            </p:nvSpPr>
            <p:spPr>
              <a:xfrm flipV="1" rot="21404400">
                <a:off x="3424680" y="4562280"/>
                <a:ext cx="352440" cy="6886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矩形 623"/>
              <p:cNvSpPr/>
              <p:nvPr/>
            </p:nvSpPr>
            <p:spPr>
              <a:xfrm rot="21368400">
                <a:off x="3490920" y="5152680"/>
                <a:ext cx="275040" cy="982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组合 637"/>
          <p:cNvGrpSpPr/>
          <p:nvPr/>
        </p:nvGrpSpPr>
        <p:grpSpPr>
          <a:xfrm>
            <a:off x="945360" y="3809880"/>
            <a:ext cx="1508400" cy="1420920"/>
            <a:chOff x="945360" y="3809880"/>
            <a:chExt cx="1508400" cy="1420920"/>
          </a:xfrm>
        </p:grpSpPr>
        <p:grpSp>
          <p:nvGrpSpPr>
            <p:cNvPr id="205" name="组合 638"/>
            <p:cNvGrpSpPr/>
            <p:nvPr/>
          </p:nvGrpSpPr>
          <p:grpSpPr>
            <a:xfrm>
              <a:off x="1978920" y="4817520"/>
              <a:ext cx="253800" cy="348480"/>
              <a:chOff x="1978920" y="4817520"/>
              <a:chExt cx="253800" cy="348480"/>
            </a:xfrm>
          </p:grpSpPr>
          <p:sp>
            <p:nvSpPr>
              <p:cNvPr id="206" name="椭圆 652"/>
              <p:cNvSpPr/>
              <p:nvPr/>
            </p:nvSpPr>
            <p:spPr>
              <a:xfrm flipH="1">
                <a:off x="1982520" y="5085360"/>
                <a:ext cx="192600" cy="80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组合 653"/>
              <p:cNvGrpSpPr/>
              <p:nvPr/>
            </p:nvGrpSpPr>
            <p:grpSpPr>
              <a:xfrm>
                <a:off x="1978920" y="4817520"/>
                <a:ext cx="253800" cy="313560"/>
                <a:chOff x="1978920" y="4817520"/>
                <a:chExt cx="253800" cy="313560"/>
              </a:xfrm>
            </p:grpSpPr>
            <p:sp>
              <p:nvSpPr>
                <p:cNvPr id="208" name="矩形 100"/>
                <p:cNvSpPr/>
                <p:nvPr/>
              </p:nvSpPr>
              <p:spPr>
                <a:xfrm flipH="1">
                  <a:off x="2065320" y="4935600"/>
                  <a:ext cx="32760" cy="1954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椭圆 655"/>
                <p:cNvSpPr/>
                <p:nvPr/>
              </p:nvSpPr>
              <p:spPr>
                <a:xfrm flipH="1" rot="19296600">
                  <a:off x="2069640" y="4851000"/>
                  <a:ext cx="145440" cy="1054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椭圆 656"/>
                <p:cNvSpPr/>
                <p:nvPr/>
              </p:nvSpPr>
              <p:spPr>
                <a:xfrm flipH="1" rot="14057400">
                  <a:off x="1988640" y="4847400"/>
                  <a:ext cx="117000" cy="846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椭圆 657"/>
                <p:cNvSpPr/>
                <p:nvPr/>
              </p:nvSpPr>
              <p:spPr>
                <a:xfrm flipH="1" rot="12016800">
                  <a:off x="2001600" y="4971960"/>
                  <a:ext cx="61200" cy="442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椭圆 658"/>
                <p:cNvSpPr/>
                <p:nvPr/>
              </p:nvSpPr>
              <p:spPr>
                <a:xfrm flipH="1" rot="19758600">
                  <a:off x="2085480" y="5000400"/>
                  <a:ext cx="60120" cy="432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梯形 659"/>
                <p:cNvSpPr/>
                <p:nvPr/>
              </p:nvSpPr>
              <p:spPr>
                <a:xfrm flipH="1" flipV="1" rot="17463000">
                  <a:off x="2055600" y="4993200"/>
                  <a:ext cx="18000" cy="29880"/>
                </a:xfrm>
                <a:custGeom>
                  <a:avLst/>
                  <a:gdLst>
                    <a:gd name="textAreaLeft" fmla="*/ 3960 w 18000"/>
                    <a:gd name="textAreaRight" fmla="*/ 14040 w 18000"/>
                    <a:gd name="textAreaTop" fmla="*/ 6480 h 29880"/>
                    <a:gd name="textAreaBottom" fmla="*/ 23400 h 29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梯形 660"/>
                <p:cNvSpPr/>
                <p:nvPr/>
              </p:nvSpPr>
              <p:spPr>
                <a:xfrm flipH="1" flipV="1" rot="4620000">
                  <a:off x="2080800" y="5020560"/>
                  <a:ext cx="15840" cy="23760"/>
                </a:xfrm>
                <a:custGeom>
                  <a:avLst/>
                  <a:gdLst>
                    <a:gd name="textAreaLeft" fmla="*/ 3240 w 15840"/>
                    <a:gd name="textAreaRight" fmla="*/ 12600 w 15840"/>
                    <a:gd name="textAreaTop" fmla="*/ 5040 h 23760"/>
                    <a:gd name="textAreaBottom" fmla="*/ 187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组合 639"/>
            <p:cNvGrpSpPr/>
            <p:nvPr/>
          </p:nvGrpSpPr>
          <p:grpSpPr>
            <a:xfrm>
              <a:off x="945360" y="3809880"/>
              <a:ext cx="1508400" cy="1420920"/>
              <a:chOff x="945360" y="3809880"/>
              <a:chExt cx="1508400" cy="1420920"/>
            </a:xfrm>
          </p:grpSpPr>
          <p:sp>
            <p:nvSpPr>
              <p:cNvPr id="216" name="椭圆 640"/>
              <p:cNvSpPr/>
              <p:nvPr/>
            </p:nvSpPr>
            <p:spPr>
              <a:xfrm>
                <a:off x="1472400" y="3809880"/>
                <a:ext cx="373680" cy="3733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梯形 63"/>
              <p:cNvSpPr/>
              <p:nvPr/>
            </p:nvSpPr>
            <p:spPr>
              <a:xfrm flipV="1">
                <a:off x="1449720" y="4159800"/>
                <a:ext cx="396360" cy="542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圆角矩形 642"/>
              <p:cNvSpPr/>
              <p:nvPr/>
            </p:nvSpPr>
            <p:spPr>
              <a:xfrm rot="18006600">
                <a:off x="1745280" y="4129200"/>
                <a:ext cx="162360" cy="495720"/>
              </a:xfrm>
              <a:custGeom>
                <a:avLst/>
                <a:gdLst>
                  <a:gd name="textAreaLeft" fmla="*/ 23760 w 162360"/>
                  <a:gd name="textAreaRight" fmla="*/ 138600 w 162360"/>
                  <a:gd name="textAreaTop" fmla="*/ 23760 h 495720"/>
                  <a:gd name="textAreaBottom" fmla="*/ 471960 h 495720"/>
                </a:gdLst>
                <a:ahLst/>
                <a:rect l="textAreaLeft" t="textAreaTop" r="textAreaRight" b="textAreaBottom"/>
                <a:pathLst>
                  <a:path w="21600" h="65851">
                    <a:moveTo>
                      <a:pt x="10800" y="0"/>
                    </a:moveTo>
                    <a:arcTo wR="10800" hR="10800" stAng="16200000" swAng="-5400000"/>
                    <a:lnTo>
                      <a:pt x="0" y="55051"/>
                    </a:lnTo>
                    <a:arcTo wR="10800" hR="10800" stAng="10800000" swAng="-5400000"/>
                    <a:lnTo>
                      <a:pt x="10800" y="6585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组合 643"/>
              <p:cNvGrpSpPr/>
              <p:nvPr/>
            </p:nvGrpSpPr>
            <p:grpSpPr>
              <a:xfrm>
                <a:off x="945360" y="3960720"/>
                <a:ext cx="1508400" cy="470160"/>
                <a:chOff x="945360" y="3960720"/>
                <a:chExt cx="1508400" cy="470160"/>
              </a:xfrm>
            </p:grpSpPr>
            <p:sp>
              <p:nvSpPr>
                <p:cNvPr id="220" name="任意多边形 648"/>
                <p:cNvSpPr/>
                <p:nvPr/>
              </p:nvSpPr>
              <p:spPr>
                <a:xfrm rot="5116200">
                  <a:off x="1750680" y="3775320"/>
                  <a:ext cx="54360" cy="8150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任意多边形 649"/>
                <p:cNvSpPr/>
                <p:nvPr/>
              </p:nvSpPr>
              <p:spPr>
                <a:xfrm rot="5116200">
                  <a:off x="941400" y="4087080"/>
                  <a:ext cx="348840" cy="3135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矩形 650"/>
                <p:cNvSpPr/>
                <p:nvPr/>
              </p:nvSpPr>
              <p:spPr>
                <a:xfrm flipH="1" rot="5115600">
                  <a:off x="1228680" y="4102920"/>
                  <a:ext cx="85680" cy="2433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任意多边形 651"/>
                <p:cNvSpPr/>
                <p:nvPr/>
              </p:nvSpPr>
              <p:spPr>
                <a:xfrm flipV="1" rot="5115600">
                  <a:off x="2120760" y="3984120"/>
                  <a:ext cx="330840" cy="3081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圆角矩形 644"/>
              <p:cNvSpPr/>
              <p:nvPr/>
            </p:nvSpPr>
            <p:spPr>
              <a:xfrm rot="1387800">
                <a:off x="1982160" y="4130280"/>
                <a:ext cx="130680" cy="433440"/>
              </a:xfrm>
              <a:custGeom>
                <a:avLst/>
                <a:gdLst>
                  <a:gd name="textAreaLeft" fmla="*/ 19080 w 130680"/>
                  <a:gd name="textAreaRight" fmla="*/ 111600 w 130680"/>
                  <a:gd name="textAreaTop" fmla="*/ 19080 h 433440"/>
                  <a:gd name="textAreaBottom" fmla="*/ 414360 h 433440"/>
                </a:gdLst>
                <a:ahLst/>
                <a:rect l="textAreaLeft" t="textAreaTop" r="textAreaRight" b="textAreaBottom"/>
                <a:pathLst>
                  <a:path w="21600" h="71505">
                    <a:moveTo>
                      <a:pt x="10800" y="0"/>
                    </a:moveTo>
                    <a:arcTo wR="10800" hR="10800" stAng="16200000" swAng="-5400000"/>
                    <a:lnTo>
                      <a:pt x="0" y="60705"/>
                    </a:lnTo>
                    <a:arcTo wR="10800" hR="10800" stAng="10800000" swAng="-5400000"/>
                    <a:lnTo>
                      <a:pt x="10800" y="7150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椭圆 645"/>
              <p:cNvSpPr/>
              <p:nvPr/>
            </p:nvSpPr>
            <p:spPr>
              <a:xfrm>
                <a:off x="2022480" y="4082040"/>
                <a:ext cx="178920" cy="1789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梯形 27"/>
              <p:cNvSpPr/>
              <p:nvPr/>
            </p:nvSpPr>
            <p:spPr>
              <a:xfrm flipV="1" rot="21404400">
                <a:off x="1501200" y="4604040"/>
                <a:ext cx="316440" cy="61812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647"/>
              <p:cNvSpPr/>
              <p:nvPr/>
            </p:nvSpPr>
            <p:spPr>
              <a:xfrm rot="21368400">
                <a:off x="1560240" y="5134320"/>
                <a:ext cx="247320" cy="882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文本框 661"/>
          <p:cNvSpPr/>
          <p:nvPr/>
        </p:nvSpPr>
        <p:spPr>
          <a:xfrm>
            <a:off x="6041160" y="5445000"/>
            <a:ext cx="12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每人植一棵</a:t>
            </a:r>
            <a:r>
              <a:rPr b="0" lang="en-US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662"/>
          <p:cNvSpPr/>
          <p:nvPr/>
        </p:nvSpPr>
        <p:spPr>
          <a:xfrm>
            <a:off x="1449360" y="5175360"/>
            <a:ext cx="9431280" cy="109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735"/>
          <p:cNvGrpSpPr/>
          <p:nvPr/>
        </p:nvGrpSpPr>
        <p:grpSpPr>
          <a:xfrm>
            <a:off x="9402480" y="3749760"/>
            <a:ext cx="1592280" cy="1502280"/>
            <a:chOff x="9402480" y="3749760"/>
            <a:chExt cx="1592280" cy="1502280"/>
          </a:xfrm>
        </p:grpSpPr>
        <p:grpSp>
          <p:nvGrpSpPr>
            <p:cNvPr id="231" name="组合 736"/>
            <p:cNvGrpSpPr/>
            <p:nvPr/>
          </p:nvGrpSpPr>
          <p:grpSpPr>
            <a:xfrm>
              <a:off x="10493640" y="4815360"/>
              <a:ext cx="267480" cy="367920"/>
              <a:chOff x="10493640" y="4815360"/>
              <a:chExt cx="267480" cy="367920"/>
            </a:xfrm>
          </p:grpSpPr>
          <p:sp>
            <p:nvSpPr>
              <p:cNvPr id="232" name="椭圆 750"/>
              <p:cNvSpPr/>
              <p:nvPr/>
            </p:nvSpPr>
            <p:spPr>
              <a:xfrm flipH="1">
                <a:off x="10497600" y="5097960"/>
                <a:ext cx="203400" cy="853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组合 751"/>
              <p:cNvGrpSpPr/>
              <p:nvPr/>
            </p:nvGrpSpPr>
            <p:grpSpPr>
              <a:xfrm>
                <a:off x="10493640" y="4815360"/>
                <a:ext cx="267480" cy="331200"/>
                <a:chOff x="10493640" y="4815360"/>
                <a:chExt cx="267480" cy="331200"/>
              </a:xfrm>
            </p:grpSpPr>
            <p:sp>
              <p:nvSpPr>
                <p:cNvPr id="234" name="矩形 100"/>
                <p:cNvSpPr/>
                <p:nvPr/>
              </p:nvSpPr>
              <p:spPr>
                <a:xfrm flipH="1">
                  <a:off x="10585440" y="4939920"/>
                  <a:ext cx="34560" cy="2066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椭圆 753"/>
                <p:cNvSpPr/>
                <p:nvPr/>
              </p:nvSpPr>
              <p:spPr>
                <a:xfrm flipH="1" rot="19296600">
                  <a:off x="10589400" y="4851000"/>
                  <a:ext cx="153360" cy="1108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椭圆 754"/>
                <p:cNvSpPr/>
                <p:nvPr/>
              </p:nvSpPr>
              <p:spPr>
                <a:xfrm flipH="1" rot="14057400">
                  <a:off x="10504080" y="4846680"/>
                  <a:ext cx="123480" cy="896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椭圆 755"/>
                <p:cNvSpPr/>
                <p:nvPr/>
              </p:nvSpPr>
              <p:spPr>
                <a:xfrm flipH="1" rot="12016800">
                  <a:off x="10518120" y="4978440"/>
                  <a:ext cx="64800" cy="468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椭圆 756"/>
                <p:cNvSpPr/>
                <p:nvPr/>
              </p:nvSpPr>
              <p:spPr>
                <a:xfrm flipH="1" rot="19758600">
                  <a:off x="10607400" y="5008320"/>
                  <a:ext cx="63360" cy="453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梯形 757"/>
                <p:cNvSpPr/>
                <p:nvPr/>
              </p:nvSpPr>
              <p:spPr>
                <a:xfrm flipH="1" flipV="1" rot="17463000">
                  <a:off x="10574640" y="5000400"/>
                  <a:ext cx="19080" cy="31680"/>
                </a:xfrm>
                <a:custGeom>
                  <a:avLst/>
                  <a:gdLst>
                    <a:gd name="textAreaLeft" fmla="*/ 3960 w 19080"/>
                    <a:gd name="textAreaRight" fmla="*/ 15120 w 19080"/>
                    <a:gd name="textAreaTop" fmla="*/ 6840 h 31680"/>
                    <a:gd name="textAreaBottom" fmla="*/ 24840 h 31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梯形 758"/>
                <p:cNvSpPr/>
                <p:nvPr/>
              </p:nvSpPr>
              <p:spPr>
                <a:xfrm flipH="1" flipV="1" rot="4620000">
                  <a:off x="10602000" y="5029920"/>
                  <a:ext cx="16560" cy="24840"/>
                </a:xfrm>
                <a:custGeom>
                  <a:avLst/>
                  <a:gdLst>
                    <a:gd name="textAreaLeft" fmla="*/ 3600 w 16560"/>
                    <a:gd name="textAreaRight" fmla="*/ 12960 w 16560"/>
                    <a:gd name="textAreaTop" fmla="*/ 5400 h 24840"/>
                    <a:gd name="textAreaBottom" fmla="*/ 19440 h 24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组合 737"/>
            <p:cNvGrpSpPr/>
            <p:nvPr/>
          </p:nvGrpSpPr>
          <p:grpSpPr>
            <a:xfrm>
              <a:off x="9402480" y="3749760"/>
              <a:ext cx="1592280" cy="1502280"/>
              <a:chOff x="9402480" y="3749760"/>
              <a:chExt cx="1592280" cy="1502280"/>
            </a:xfrm>
          </p:grpSpPr>
          <p:sp>
            <p:nvSpPr>
              <p:cNvPr id="242" name="椭圆 738"/>
              <p:cNvSpPr/>
              <p:nvPr/>
            </p:nvSpPr>
            <p:spPr>
              <a:xfrm>
                <a:off x="9959400" y="3749760"/>
                <a:ext cx="394200" cy="3945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梯形 63"/>
              <p:cNvSpPr/>
              <p:nvPr/>
            </p:nvSpPr>
            <p:spPr>
              <a:xfrm flipV="1">
                <a:off x="9866520" y="4118760"/>
                <a:ext cx="521640" cy="77868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圆角矩形 740"/>
              <p:cNvSpPr/>
              <p:nvPr/>
            </p:nvSpPr>
            <p:spPr>
              <a:xfrm rot="18006600">
                <a:off x="10247040" y="4087800"/>
                <a:ext cx="171720" cy="523440"/>
              </a:xfrm>
              <a:custGeom>
                <a:avLst/>
                <a:gdLst>
                  <a:gd name="textAreaLeft" fmla="*/ 25200 w 171720"/>
                  <a:gd name="textAreaRight" fmla="*/ 146520 w 171720"/>
                  <a:gd name="textAreaTop" fmla="*/ 25200 h 523440"/>
                  <a:gd name="textAreaBottom" fmla="*/ 498240 h 523440"/>
                </a:gdLst>
                <a:ahLst/>
                <a:rect l="textAreaLeft" t="textAreaTop" r="textAreaRight" b="textAreaBottom"/>
                <a:pathLst>
                  <a:path w="21600" h="65749">
                    <a:moveTo>
                      <a:pt x="10800" y="0"/>
                    </a:moveTo>
                    <a:arcTo wR="10800" hR="10800" stAng="16200000" swAng="-5400000"/>
                    <a:lnTo>
                      <a:pt x="0" y="54949"/>
                    </a:lnTo>
                    <a:arcTo wR="10800" hR="10800" stAng="10800000" swAng="-5400000"/>
                    <a:lnTo>
                      <a:pt x="10800" y="657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组合 741"/>
              <p:cNvGrpSpPr/>
              <p:nvPr/>
            </p:nvGrpSpPr>
            <p:grpSpPr>
              <a:xfrm>
                <a:off x="9402480" y="3909240"/>
                <a:ext cx="1592280" cy="496800"/>
                <a:chOff x="9402480" y="3909240"/>
                <a:chExt cx="1592280" cy="496800"/>
              </a:xfrm>
            </p:grpSpPr>
            <p:sp>
              <p:nvSpPr>
                <p:cNvPr id="246" name="任意多边形 746"/>
                <p:cNvSpPr/>
                <p:nvPr/>
              </p:nvSpPr>
              <p:spPr>
                <a:xfrm rot="5116200">
                  <a:off x="10252440" y="3714120"/>
                  <a:ext cx="57240" cy="8600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任意多边形 747"/>
                <p:cNvSpPr/>
                <p:nvPr/>
              </p:nvSpPr>
              <p:spPr>
                <a:xfrm rot="5116200">
                  <a:off x="9398160" y="4043160"/>
                  <a:ext cx="368640" cy="3308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矩形 748"/>
                <p:cNvSpPr/>
                <p:nvPr/>
              </p:nvSpPr>
              <p:spPr>
                <a:xfrm flipH="1" rot="5115600">
                  <a:off x="9701640" y="4059360"/>
                  <a:ext cx="90360" cy="2566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任意多边形 749"/>
                <p:cNvSpPr/>
                <p:nvPr/>
              </p:nvSpPr>
              <p:spPr>
                <a:xfrm flipV="1" rot="5115600">
                  <a:off x="10643040" y="3934080"/>
                  <a:ext cx="349560" cy="3254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圆角矩形 742"/>
              <p:cNvSpPr/>
              <p:nvPr/>
            </p:nvSpPr>
            <p:spPr>
              <a:xfrm rot="1387800">
                <a:off x="10497240" y="4088880"/>
                <a:ext cx="137880" cy="457920"/>
              </a:xfrm>
              <a:custGeom>
                <a:avLst/>
                <a:gdLst>
                  <a:gd name="textAreaLeft" fmla="*/ 20160 w 137880"/>
                  <a:gd name="textAreaRight" fmla="*/ 117720 w 137880"/>
                  <a:gd name="textAreaTop" fmla="*/ 20160 h 457920"/>
                  <a:gd name="textAreaBottom" fmla="*/ 437760 h 457920"/>
                </a:gdLst>
                <a:ahLst/>
                <a:rect l="textAreaLeft" t="textAreaTop" r="textAreaRight" b="textAreaBottom"/>
                <a:pathLst>
                  <a:path w="21600" h="71606">
                    <a:moveTo>
                      <a:pt x="10800" y="0"/>
                    </a:moveTo>
                    <a:arcTo wR="10800" hR="10800" stAng="16200000" swAng="-5400000"/>
                    <a:lnTo>
                      <a:pt x="0" y="60806"/>
                    </a:lnTo>
                    <a:arcTo wR="10800" hR="10800" stAng="10800000" swAng="-5400000"/>
                    <a:lnTo>
                      <a:pt x="10800" y="7160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椭圆 743"/>
              <p:cNvSpPr/>
              <p:nvPr/>
            </p:nvSpPr>
            <p:spPr>
              <a:xfrm>
                <a:off x="10539720" y="4037400"/>
                <a:ext cx="189000" cy="1890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梯形 27"/>
              <p:cNvSpPr/>
              <p:nvPr/>
            </p:nvSpPr>
            <p:spPr>
              <a:xfrm flipV="1" rot="21404400">
                <a:off x="10023840" y="4586400"/>
                <a:ext cx="255960" cy="65592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矩形 745"/>
              <p:cNvSpPr/>
              <p:nvPr/>
            </p:nvSpPr>
            <p:spPr>
              <a:xfrm rot="21368400">
                <a:off x="10051560" y="5150160"/>
                <a:ext cx="261000" cy="932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文本框 14"/>
          <p:cNvSpPr/>
          <p:nvPr/>
        </p:nvSpPr>
        <p:spPr>
          <a:xfrm>
            <a:off x="2604960" y="551484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因为是</a:t>
            </a: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盐碱地</a:t>
            </a: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什么样的树苗种下去都难得一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12"/>
          <p:cNvGrpSpPr/>
          <p:nvPr/>
        </p:nvGrpSpPr>
        <p:grpSpPr>
          <a:xfrm>
            <a:off x="4924800" y="2067120"/>
            <a:ext cx="2893680" cy="3263400"/>
            <a:chOff x="4924800" y="2067120"/>
            <a:chExt cx="2893680" cy="3263400"/>
          </a:xfrm>
        </p:grpSpPr>
        <p:grpSp>
          <p:nvGrpSpPr>
            <p:cNvPr id="256" name="组合 1"/>
            <p:cNvGrpSpPr/>
            <p:nvPr/>
          </p:nvGrpSpPr>
          <p:grpSpPr>
            <a:xfrm>
              <a:off x="4924800" y="2067120"/>
              <a:ext cx="2893680" cy="3153240"/>
              <a:chOff x="4924800" y="2067120"/>
              <a:chExt cx="2893680" cy="3153240"/>
            </a:xfrm>
          </p:grpSpPr>
          <p:sp>
            <p:nvSpPr>
              <p:cNvPr id="257" name="矩形 100"/>
              <p:cNvSpPr/>
              <p:nvPr/>
            </p:nvSpPr>
            <p:spPr>
              <a:xfrm>
                <a:off x="6414120" y="2216160"/>
                <a:ext cx="503640" cy="30042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椭圆 44"/>
              <p:cNvSpPr/>
              <p:nvPr/>
            </p:nvSpPr>
            <p:spPr>
              <a:xfrm rot="18949800">
                <a:off x="5028840" y="2602080"/>
                <a:ext cx="1984680" cy="11048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椭圆 46"/>
              <p:cNvSpPr/>
              <p:nvPr/>
            </p:nvSpPr>
            <p:spPr>
              <a:xfrm rot="12431400">
                <a:off x="6821280" y="3285360"/>
                <a:ext cx="944280" cy="4590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椭圆 47"/>
              <p:cNvSpPr/>
              <p:nvPr/>
            </p:nvSpPr>
            <p:spPr>
              <a:xfrm rot="17742000">
                <a:off x="6026400" y="3721320"/>
                <a:ext cx="925920" cy="4608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梯形 48"/>
              <p:cNvSpPr/>
              <p:nvPr/>
            </p:nvSpPr>
            <p:spPr>
              <a:xfrm flipV="1" rot="4137000">
                <a:off x="6785640" y="3101760"/>
                <a:ext cx="278280" cy="460440"/>
              </a:xfrm>
              <a:custGeom>
                <a:avLst/>
                <a:gdLst>
                  <a:gd name="textAreaLeft" fmla="*/ 61200 w 278280"/>
                  <a:gd name="textAreaRight" fmla="*/ 217080 w 278280"/>
                  <a:gd name="textAreaTop" fmla="*/ 101160 h 460440"/>
                  <a:gd name="textAreaBottom" fmla="*/ 359280 h 46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梯形 49"/>
              <p:cNvSpPr/>
              <p:nvPr/>
            </p:nvSpPr>
            <p:spPr>
              <a:xfrm flipV="1" rot="16980000">
                <a:off x="6431760" y="3522960"/>
                <a:ext cx="243720" cy="365400"/>
              </a:xfrm>
              <a:custGeom>
                <a:avLst/>
                <a:gdLst>
                  <a:gd name="textAreaLeft" fmla="*/ 53640 w 243720"/>
                  <a:gd name="textAreaRight" fmla="*/ 190080 w 243720"/>
                  <a:gd name="textAreaTop" fmla="*/ 80280 h 365400"/>
                  <a:gd name="textAreaBottom" fmla="*/ 285120 h 365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椭圆 44"/>
            <p:cNvSpPr/>
            <p:nvPr/>
          </p:nvSpPr>
          <p:spPr>
            <a:xfrm rot="14134200">
              <a:off x="7125840" y="4768920"/>
              <a:ext cx="662040" cy="36828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任意多边形 4"/>
            <p:cNvSpPr/>
            <p:nvPr/>
          </p:nvSpPr>
          <p:spPr>
            <a:xfrm>
              <a:off x="5346360" y="2379600"/>
              <a:ext cx="1133280" cy="1416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5"/>
            <p:cNvSpPr/>
            <p:nvPr/>
          </p:nvSpPr>
          <p:spPr>
            <a:xfrm>
              <a:off x="5455440" y="3513240"/>
              <a:ext cx="326880" cy="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任意多边形 7"/>
            <p:cNvSpPr/>
            <p:nvPr/>
          </p:nvSpPr>
          <p:spPr>
            <a:xfrm>
              <a:off x="5913360" y="3295080"/>
              <a:ext cx="71640" cy="4359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任意多边形 8"/>
            <p:cNvSpPr/>
            <p:nvPr/>
          </p:nvSpPr>
          <p:spPr>
            <a:xfrm>
              <a:off x="5695200" y="3098880"/>
              <a:ext cx="457560" cy="130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任意多边形 9"/>
            <p:cNvSpPr/>
            <p:nvPr/>
          </p:nvSpPr>
          <p:spPr>
            <a:xfrm>
              <a:off x="6240240" y="2750040"/>
              <a:ext cx="87120" cy="4575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11"/>
            <p:cNvSpPr/>
            <p:nvPr/>
          </p:nvSpPr>
          <p:spPr>
            <a:xfrm>
              <a:off x="6022440" y="2597400"/>
              <a:ext cx="304920" cy="1522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13"/>
          <p:cNvSpPr/>
          <p:nvPr/>
        </p:nvSpPr>
        <p:spPr>
          <a:xfrm>
            <a:off x="2668680" y="5175360"/>
            <a:ext cx="8040600" cy="109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组合 20"/>
          <p:cNvGrpSpPr/>
          <p:nvPr/>
        </p:nvGrpSpPr>
        <p:grpSpPr>
          <a:xfrm>
            <a:off x="5557320" y="2143080"/>
            <a:ext cx="792000" cy="978120"/>
            <a:chOff x="5557320" y="2143080"/>
            <a:chExt cx="792000" cy="978120"/>
          </a:xfrm>
        </p:grpSpPr>
        <p:sp>
          <p:nvSpPr>
            <p:cNvPr id="272" name="矩形 100"/>
            <p:cNvSpPr/>
            <p:nvPr/>
          </p:nvSpPr>
          <p:spPr>
            <a:xfrm>
              <a:off x="5976000" y="2511000"/>
              <a:ext cx="102240" cy="61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22"/>
            <p:cNvSpPr/>
            <p:nvPr/>
          </p:nvSpPr>
          <p:spPr>
            <a:xfrm rot="2303400">
              <a:off x="5609880" y="2248560"/>
              <a:ext cx="453960" cy="327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23"/>
            <p:cNvSpPr/>
            <p:nvPr/>
          </p:nvSpPr>
          <p:spPr>
            <a:xfrm rot="7542600">
              <a:off x="5952960" y="2236320"/>
              <a:ext cx="36504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24"/>
            <p:cNvSpPr/>
            <p:nvPr/>
          </p:nvSpPr>
          <p:spPr>
            <a:xfrm rot="9583200">
              <a:off x="6084360" y="2625120"/>
              <a:ext cx="191880" cy="13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25"/>
            <p:cNvSpPr/>
            <p:nvPr/>
          </p:nvSpPr>
          <p:spPr>
            <a:xfrm rot="1841400">
              <a:off x="5826240" y="2712960"/>
              <a:ext cx="187920" cy="13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梯形 26"/>
            <p:cNvSpPr/>
            <p:nvPr/>
          </p:nvSpPr>
          <p:spPr>
            <a:xfrm flipV="1" rot="4137000">
              <a:off x="6051600" y="2690280"/>
              <a:ext cx="56520" cy="93960"/>
            </a:xfrm>
            <a:custGeom>
              <a:avLst/>
              <a:gdLst>
                <a:gd name="textAreaLeft" fmla="*/ 12240 w 56520"/>
                <a:gd name="textAreaRight" fmla="*/ 44280 w 5652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梯形 27"/>
            <p:cNvSpPr/>
            <p:nvPr/>
          </p:nvSpPr>
          <p:spPr>
            <a:xfrm flipV="1" rot="16980000">
              <a:off x="5979600" y="277668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28"/>
          <p:cNvGrpSpPr/>
          <p:nvPr/>
        </p:nvGrpSpPr>
        <p:grpSpPr>
          <a:xfrm>
            <a:off x="6195600" y="1903320"/>
            <a:ext cx="792000" cy="978120"/>
            <a:chOff x="6195600" y="1903320"/>
            <a:chExt cx="792000" cy="978120"/>
          </a:xfrm>
        </p:grpSpPr>
        <p:sp>
          <p:nvSpPr>
            <p:cNvPr id="280" name="矩形 100"/>
            <p:cNvSpPr/>
            <p:nvPr/>
          </p:nvSpPr>
          <p:spPr>
            <a:xfrm>
              <a:off x="6614280" y="2271240"/>
              <a:ext cx="102240" cy="61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30"/>
            <p:cNvSpPr/>
            <p:nvPr/>
          </p:nvSpPr>
          <p:spPr>
            <a:xfrm rot="2303400">
              <a:off x="6248160" y="2008800"/>
              <a:ext cx="453960" cy="327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31"/>
            <p:cNvSpPr/>
            <p:nvPr/>
          </p:nvSpPr>
          <p:spPr>
            <a:xfrm rot="7542600">
              <a:off x="6591240" y="1996560"/>
              <a:ext cx="36504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32"/>
            <p:cNvSpPr/>
            <p:nvPr/>
          </p:nvSpPr>
          <p:spPr>
            <a:xfrm rot="9583200">
              <a:off x="6722640" y="2385360"/>
              <a:ext cx="191880" cy="13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33"/>
            <p:cNvSpPr/>
            <p:nvPr/>
          </p:nvSpPr>
          <p:spPr>
            <a:xfrm rot="1841400">
              <a:off x="6464520" y="2473200"/>
              <a:ext cx="187920" cy="13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梯形 34"/>
            <p:cNvSpPr/>
            <p:nvPr/>
          </p:nvSpPr>
          <p:spPr>
            <a:xfrm flipV="1" rot="4137000">
              <a:off x="6689880" y="2450520"/>
              <a:ext cx="56520" cy="93960"/>
            </a:xfrm>
            <a:custGeom>
              <a:avLst/>
              <a:gdLst>
                <a:gd name="textAreaLeft" fmla="*/ 12240 w 56520"/>
                <a:gd name="textAreaRight" fmla="*/ 44280 w 5652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梯形 35"/>
            <p:cNvSpPr/>
            <p:nvPr/>
          </p:nvSpPr>
          <p:spPr>
            <a:xfrm flipV="1" rot="16980000">
              <a:off x="6617880" y="253692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36"/>
          <p:cNvGrpSpPr/>
          <p:nvPr/>
        </p:nvGrpSpPr>
        <p:grpSpPr>
          <a:xfrm>
            <a:off x="6902280" y="2001960"/>
            <a:ext cx="791640" cy="976320"/>
            <a:chOff x="6902280" y="2001960"/>
            <a:chExt cx="791640" cy="976320"/>
          </a:xfrm>
        </p:grpSpPr>
        <p:sp>
          <p:nvSpPr>
            <p:cNvPr id="288" name="矩形 100"/>
            <p:cNvSpPr/>
            <p:nvPr/>
          </p:nvSpPr>
          <p:spPr>
            <a:xfrm>
              <a:off x="7320600" y="2369520"/>
              <a:ext cx="102240" cy="60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38"/>
            <p:cNvSpPr/>
            <p:nvPr/>
          </p:nvSpPr>
          <p:spPr>
            <a:xfrm rot="2303400">
              <a:off x="6954480" y="2107440"/>
              <a:ext cx="453960" cy="32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39"/>
            <p:cNvSpPr/>
            <p:nvPr/>
          </p:nvSpPr>
          <p:spPr>
            <a:xfrm rot="7542600">
              <a:off x="7298280" y="2094840"/>
              <a:ext cx="36432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40"/>
            <p:cNvSpPr/>
            <p:nvPr/>
          </p:nvSpPr>
          <p:spPr>
            <a:xfrm rot="9583200">
              <a:off x="7428960" y="2483640"/>
              <a:ext cx="1918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椭圆 41"/>
            <p:cNvSpPr/>
            <p:nvPr/>
          </p:nvSpPr>
          <p:spPr>
            <a:xfrm rot="1841400">
              <a:off x="7170840" y="2570760"/>
              <a:ext cx="187920" cy="13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梯形 42"/>
            <p:cNvSpPr/>
            <p:nvPr/>
          </p:nvSpPr>
          <p:spPr>
            <a:xfrm flipV="1" rot="4137000">
              <a:off x="7396200" y="2547720"/>
              <a:ext cx="56160" cy="93960"/>
            </a:xfrm>
            <a:custGeom>
              <a:avLst/>
              <a:gdLst>
                <a:gd name="textAreaLeft" fmla="*/ 12240 w 56160"/>
                <a:gd name="textAreaRight" fmla="*/ 43920 w 5616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梯形 43"/>
            <p:cNvSpPr/>
            <p:nvPr/>
          </p:nvSpPr>
          <p:spPr>
            <a:xfrm flipV="1" rot="16980000">
              <a:off x="7324200" y="263448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44"/>
          <p:cNvGrpSpPr/>
          <p:nvPr/>
        </p:nvGrpSpPr>
        <p:grpSpPr>
          <a:xfrm>
            <a:off x="7540560" y="1900440"/>
            <a:ext cx="791640" cy="975960"/>
            <a:chOff x="7540560" y="1900440"/>
            <a:chExt cx="791640" cy="975960"/>
          </a:xfrm>
        </p:grpSpPr>
        <p:sp>
          <p:nvSpPr>
            <p:cNvPr id="296" name="矩形 100"/>
            <p:cNvSpPr/>
            <p:nvPr/>
          </p:nvSpPr>
          <p:spPr>
            <a:xfrm>
              <a:off x="7958880" y="2267640"/>
              <a:ext cx="102240" cy="60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46"/>
            <p:cNvSpPr/>
            <p:nvPr/>
          </p:nvSpPr>
          <p:spPr>
            <a:xfrm rot="2303400">
              <a:off x="7592760" y="2005920"/>
              <a:ext cx="453960" cy="32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47"/>
            <p:cNvSpPr/>
            <p:nvPr/>
          </p:nvSpPr>
          <p:spPr>
            <a:xfrm rot="7542600">
              <a:off x="7936560" y="1993320"/>
              <a:ext cx="36432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椭圆 48"/>
            <p:cNvSpPr/>
            <p:nvPr/>
          </p:nvSpPr>
          <p:spPr>
            <a:xfrm rot="9583200">
              <a:off x="8067240" y="2381760"/>
              <a:ext cx="1918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椭圆 49"/>
            <p:cNvSpPr/>
            <p:nvPr/>
          </p:nvSpPr>
          <p:spPr>
            <a:xfrm rot="1841400">
              <a:off x="7809120" y="2469240"/>
              <a:ext cx="187920" cy="13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梯形 50"/>
            <p:cNvSpPr/>
            <p:nvPr/>
          </p:nvSpPr>
          <p:spPr>
            <a:xfrm flipV="1" rot="4137000">
              <a:off x="8034480" y="2446200"/>
              <a:ext cx="56160" cy="93960"/>
            </a:xfrm>
            <a:custGeom>
              <a:avLst/>
              <a:gdLst>
                <a:gd name="textAreaLeft" fmla="*/ 12240 w 56160"/>
                <a:gd name="textAreaRight" fmla="*/ 43920 w 5616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梯形 51"/>
            <p:cNvSpPr/>
            <p:nvPr/>
          </p:nvSpPr>
          <p:spPr>
            <a:xfrm flipV="1" rot="16980000">
              <a:off x="7962480" y="253260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52"/>
          <p:cNvGrpSpPr/>
          <p:nvPr/>
        </p:nvGrpSpPr>
        <p:grpSpPr>
          <a:xfrm>
            <a:off x="8227800" y="2141640"/>
            <a:ext cx="791640" cy="976320"/>
            <a:chOff x="8227800" y="2141640"/>
            <a:chExt cx="791640" cy="976320"/>
          </a:xfrm>
        </p:grpSpPr>
        <p:sp>
          <p:nvSpPr>
            <p:cNvPr id="304" name="矩形 100"/>
            <p:cNvSpPr/>
            <p:nvPr/>
          </p:nvSpPr>
          <p:spPr>
            <a:xfrm>
              <a:off x="8646120" y="2509200"/>
              <a:ext cx="102240" cy="60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椭圆 54"/>
            <p:cNvSpPr/>
            <p:nvPr/>
          </p:nvSpPr>
          <p:spPr>
            <a:xfrm rot="2303400">
              <a:off x="8280000" y="2247120"/>
              <a:ext cx="453960" cy="32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椭圆 55"/>
            <p:cNvSpPr/>
            <p:nvPr/>
          </p:nvSpPr>
          <p:spPr>
            <a:xfrm rot="7542600">
              <a:off x="8623800" y="2234520"/>
              <a:ext cx="36432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56"/>
            <p:cNvSpPr/>
            <p:nvPr/>
          </p:nvSpPr>
          <p:spPr>
            <a:xfrm rot="9583200">
              <a:off x="8754480" y="2623320"/>
              <a:ext cx="1918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椭圆 57"/>
            <p:cNvSpPr/>
            <p:nvPr/>
          </p:nvSpPr>
          <p:spPr>
            <a:xfrm rot="1841400">
              <a:off x="8496360" y="2710440"/>
              <a:ext cx="187920" cy="13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梯形 58"/>
            <p:cNvSpPr/>
            <p:nvPr/>
          </p:nvSpPr>
          <p:spPr>
            <a:xfrm flipV="1" rot="4137000">
              <a:off x="8721720" y="2687400"/>
              <a:ext cx="56160" cy="93960"/>
            </a:xfrm>
            <a:custGeom>
              <a:avLst/>
              <a:gdLst>
                <a:gd name="textAreaLeft" fmla="*/ 12240 w 56160"/>
                <a:gd name="textAreaRight" fmla="*/ 43920 w 5616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梯形 59"/>
            <p:cNvSpPr/>
            <p:nvPr/>
          </p:nvSpPr>
          <p:spPr>
            <a:xfrm flipV="1" rot="16980000">
              <a:off x="8649720" y="277416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60"/>
          <p:cNvGrpSpPr/>
          <p:nvPr/>
        </p:nvGrpSpPr>
        <p:grpSpPr>
          <a:xfrm>
            <a:off x="8781840" y="1863720"/>
            <a:ext cx="791640" cy="977760"/>
            <a:chOff x="8781840" y="1863720"/>
            <a:chExt cx="791640" cy="977760"/>
          </a:xfrm>
        </p:grpSpPr>
        <p:sp>
          <p:nvSpPr>
            <p:cNvPr id="312" name="矩形 100"/>
            <p:cNvSpPr/>
            <p:nvPr/>
          </p:nvSpPr>
          <p:spPr>
            <a:xfrm>
              <a:off x="9200160" y="2231640"/>
              <a:ext cx="102240" cy="60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椭圆 62"/>
            <p:cNvSpPr/>
            <p:nvPr/>
          </p:nvSpPr>
          <p:spPr>
            <a:xfrm rot="2303400">
              <a:off x="8834400" y="1969200"/>
              <a:ext cx="453960" cy="32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椭圆 63"/>
            <p:cNvSpPr/>
            <p:nvPr/>
          </p:nvSpPr>
          <p:spPr>
            <a:xfrm rot="7542600">
              <a:off x="9177120" y="1956960"/>
              <a:ext cx="365040" cy="26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64"/>
            <p:cNvSpPr/>
            <p:nvPr/>
          </p:nvSpPr>
          <p:spPr>
            <a:xfrm rot="9583200">
              <a:off x="9308520" y="2346120"/>
              <a:ext cx="191880" cy="13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椭圆 65"/>
            <p:cNvSpPr/>
            <p:nvPr/>
          </p:nvSpPr>
          <p:spPr>
            <a:xfrm rot="1841400">
              <a:off x="9050400" y="2433600"/>
              <a:ext cx="187920" cy="13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梯形 66"/>
            <p:cNvSpPr/>
            <p:nvPr/>
          </p:nvSpPr>
          <p:spPr>
            <a:xfrm flipV="1" rot="4137000">
              <a:off x="9275760" y="2410920"/>
              <a:ext cx="56520" cy="93960"/>
            </a:xfrm>
            <a:custGeom>
              <a:avLst/>
              <a:gdLst>
                <a:gd name="textAreaLeft" fmla="*/ 12240 w 56520"/>
                <a:gd name="textAreaRight" fmla="*/ 44280 w 56520"/>
                <a:gd name="textAreaTop" fmla="*/ 20520 h 93960"/>
                <a:gd name="textAreaBottom" fmla="*/ 7344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梯形 67"/>
            <p:cNvSpPr/>
            <p:nvPr/>
          </p:nvSpPr>
          <p:spPr>
            <a:xfrm flipV="1" rot="16980000">
              <a:off x="9203760" y="2497320"/>
              <a:ext cx="49320" cy="74160"/>
            </a:xfrm>
            <a:custGeom>
              <a:avLst/>
              <a:gdLst>
                <a:gd name="textAreaLeft" fmla="*/ 10800 w 49320"/>
                <a:gd name="textAreaRight" fmla="*/ 38520 w 49320"/>
                <a:gd name="textAreaTop" fmla="*/ 16200 h 74160"/>
                <a:gd name="textAreaBottom" fmla="*/ 57960 h 7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3"/>
          <p:cNvGrpSpPr/>
          <p:nvPr/>
        </p:nvGrpSpPr>
        <p:grpSpPr>
          <a:xfrm>
            <a:off x="658800" y="2739960"/>
            <a:ext cx="862560" cy="1692360"/>
            <a:chOff x="658800" y="2739960"/>
            <a:chExt cx="862560" cy="1692360"/>
          </a:xfrm>
        </p:grpSpPr>
        <p:sp>
          <p:nvSpPr>
            <p:cNvPr id="320" name="椭圆 4"/>
            <p:cNvSpPr/>
            <p:nvPr/>
          </p:nvSpPr>
          <p:spPr>
            <a:xfrm>
              <a:off x="658800" y="2739960"/>
              <a:ext cx="467280" cy="46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梯形 10"/>
            <p:cNvSpPr/>
            <p:nvPr/>
          </p:nvSpPr>
          <p:spPr>
            <a:xfrm flipV="1">
              <a:off x="756000" y="3808440"/>
              <a:ext cx="370080" cy="57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圆角矩形 6"/>
            <p:cNvSpPr/>
            <p:nvPr/>
          </p:nvSpPr>
          <p:spPr>
            <a:xfrm rot="13600800">
              <a:off x="1093680" y="2862360"/>
              <a:ext cx="217800" cy="671040"/>
            </a:xfrm>
            <a:custGeom>
              <a:avLst/>
              <a:gdLst>
                <a:gd name="textAreaLeft" fmla="*/ 31680 w 217800"/>
                <a:gd name="textAreaRight" fmla="*/ 186120 w 217800"/>
                <a:gd name="textAreaTop" fmla="*/ 31680 h 671040"/>
                <a:gd name="textAreaBottom" fmla="*/ 639360 h 671040"/>
              </a:gdLst>
              <a:ahLst/>
              <a:rect l="textAreaLeft" t="textAreaTop" r="textAreaRight" b="textAreaBottom"/>
              <a:pathLst>
                <a:path w="21600" h="66475">
                  <a:moveTo>
                    <a:pt x="10800" y="0"/>
                  </a:moveTo>
                  <a:arcTo wR="10800" hR="10800" stAng="16200000" swAng="-5400000"/>
                  <a:lnTo>
                    <a:pt x="0" y="55675"/>
                  </a:lnTo>
                  <a:arcTo wR="10800" hR="10800" stAng="10800000" swAng="-5400000"/>
                  <a:lnTo>
                    <a:pt x="10800" y="664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梯形 63"/>
            <p:cNvSpPr/>
            <p:nvPr/>
          </p:nvSpPr>
          <p:spPr>
            <a:xfrm flipV="1">
              <a:off x="683640" y="3175560"/>
              <a:ext cx="495720" cy="677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14"/>
            <p:cNvSpPr/>
            <p:nvPr/>
          </p:nvSpPr>
          <p:spPr>
            <a:xfrm>
              <a:off x="762120" y="4303080"/>
              <a:ext cx="35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9"/>
            <p:cNvSpPr/>
            <p:nvPr/>
          </p:nvSpPr>
          <p:spPr>
            <a:xfrm>
              <a:off x="756000" y="4386600"/>
              <a:ext cx="1321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圆角矩形 10"/>
          <p:cNvSpPr/>
          <p:nvPr/>
        </p:nvSpPr>
        <p:spPr>
          <a:xfrm>
            <a:off x="3160800" y="3156120"/>
            <a:ext cx="2190600" cy="148104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流程图: 过程 11"/>
          <p:cNvSpPr/>
          <p:nvPr/>
        </p:nvSpPr>
        <p:spPr>
          <a:xfrm>
            <a:off x="3687840" y="2127240"/>
            <a:ext cx="1730160" cy="2523960"/>
          </a:xfrm>
          <a:prstGeom prst="flowChartProcess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流程图: 过程 12"/>
          <p:cNvSpPr/>
          <p:nvPr/>
        </p:nvSpPr>
        <p:spPr>
          <a:xfrm>
            <a:off x="4842000" y="2744640"/>
            <a:ext cx="4724280" cy="1717920"/>
          </a:xfrm>
          <a:prstGeom prst="flowChartProcess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13"/>
          <p:cNvSpPr/>
          <p:nvPr/>
        </p:nvSpPr>
        <p:spPr>
          <a:xfrm>
            <a:off x="4070520" y="3897360"/>
            <a:ext cx="1314360" cy="1316160"/>
          </a:xfrm>
          <a:prstGeom prst="ellipse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14"/>
          <p:cNvSpPr/>
          <p:nvPr/>
        </p:nvSpPr>
        <p:spPr>
          <a:xfrm>
            <a:off x="6330960" y="3898800"/>
            <a:ext cx="1316160" cy="1316160"/>
          </a:xfrm>
          <a:prstGeom prst="ellipse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15"/>
          <p:cNvSpPr/>
          <p:nvPr/>
        </p:nvSpPr>
        <p:spPr>
          <a:xfrm>
            <a:off x="7954920" y="3909960"/>
            <a:ext cx="1316160" cy="1314360"/>
          </a:xfrm>
          <a:prstGeom prst="ellipse">
            <a:avLst/>
          </a:prstGeom>
          <a:solidFill>
            <a:srgbClr val="bfbfb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圆角矩形 16"/>
          <p:cNvSpPr/>
          <p:nvPr/>
        </p:nvSpPr>
        <p:spPr>
          <a:xfrm>
            <a:off x="3579840" y="2075040"/>
            <a:ext cx="2000160" cy="1503360"/>
          </a:xfrm>
          <a:prstGeom prst="roundRect">
            <a:avLst>
              <a:gd name="adj" fmla="val 16667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7"/>
          <p:cNvSpPr/>
          <p:nvPr/>
        </p:nvSpPr>
        <p:spPr>
          <a:xfrm>
            <a:off x="4010040" y="2422440"/>
            <a:ext cx="644400" cy="6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8"/>
          <p:cNvSpPr/>
          <p:nvPr/>
        </p:nvSpPr>
        <p:spPr>
          <a:xfrm>
            <a:off x="4808520" y="2422440"/>
            <a:ext cx="644400" cy="69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角三角形 19"/>
          <p:cNvSpPr/>
          <p:nvPr/>
        </p:nvSpPr>
        <p:spPr>
          <a:xfrm flipH="1">
            <a:off x="3269520" y="2255760"/>
            <a:ext cx="351000" cy="1020960"/>
          </a:xfrm>
          <a:prstGeom prst="rtTriangl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68"/>
          <p:cNvSpPr/>
          <p:nvPr/>
        </p:nvSpPr>
        <p:spPr>
          <a:xfrm>
            <a:off x="4070520" y="2511360"/>
            <a:ext cx="466560" cy="4669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梯形 69"/>
          <p:cNvSpPr/>
          <p:nvPr/>
        </p:nvSpPr>
        <p:spPr>
          <a:xfrm flipV="1">
            <a:off x="4156200" y="2944080"/>
            <a:ext cx="296640" cy="297000"/>
          </a:xfrm>
          <a:custGeom>
            <a:avLst/>
            <a:gdLst>
              <a:gd name="textAreaLeft" fmla="*/ 65160 w 296640"/>
              <a:gd name="textAreaRight" fmla="*/ 231480 w 296640"/>
              <a:gd name="textAreaTop" fmla="*/ 65160 h 297000"/>
              <a:gd name="textAreaBottom" fmla="*/ 23184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70"/>
          <p:cNvSpPr/>
          <p:nvPr/>
        </p:nvSpPr>
        <p:spPr>
          <a:xfrm>
            <a:off x="2986200" y="5452920"/>
            <a:ext cx="76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新领导</a:t>
            </a: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上任后又买回一车树苗让大家植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71"/>
          <p:cNvSpPr/>
          <p:nvPr/>
        </p:nvSpPr>
        <p:spPr>
          <a:xfrm>
            <a:off x="2668680" y="5175360"/>
            <a:ext cx="8040600" cy="109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文本框 315"/>
          <p:cNvSpPr/>
          <p:nvPr/>
        </p:nvSpPr>
        <p:spPr>
          <a:xfrm>
            <a:off x="4514040" y="5533920"/>
            <a:ext cx="37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不同的是他让每人植一棵树，</a:t>
            </a: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并以每个人的名字命名这棵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组合 317"/>
          <p:cNvGrpSpPr/>
          <p:nvPr/>
        </p:nvGrpSpPr>
        <p:grpSpPr>
          <a:xfrm>
            <a:off x="6237000" y="3659040"/>
            <a:ext cx="1658520" cy="1563480"/>
            <a:chOff x="6237000" y="3659040"/>
            <a:chExt cx="1658520" cy="1563480"/>
          </a:xfrm>
        </p:grpSpPr>
        <p:grpSp>
          <p:nvGrpSpPr>
            <p:cNvPr id="342" name="组合 318"/>
            <p:cNvGrpSpPr/>
            <p:nvPr/>
          </p:nvGrpSpPr>
          <p:grpSpPr>
            <a:xfrm>
              <a:off x="7372440" y="4767840"/>
              <a:ext cx="279720" cy="383040"/>
              <a:chOff x="7372440" y="4767840"/>
              <a:chExt cx="279720" cy="383040"/>
            </a:xfrm>
          </p:grpSpPr>
          <p:sp>
            <p:nvSpPr>
              <p:cNvPr id="343" name="椭圆 332"/>
              <p:cNvSpPr/>
              <p:nvPr/>
            </p:nvSpPr>
            <p:spPr>
              <a:xfrm flipH="1">
                <a:off x="7376760" y="5061960"/>
                <a:ext cx="212040" cy="889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组合 333"/>
              <p:cNvGrpSpPr/>
              <p:nvPr/>
            </p:nvGrpSpPr>
            <p:grpSpPr>
              <a:xfrm>
                <a:off x="7372440" y="4767840"/>
                <a:ext cx="279720" cy="344880"/>
                <a:chOff x="7372440" y="4767840"/>
                <a:chExt cx="279720" cy="344880"/>
              </a:xfrm>
            </p:grpSpPr>
            <p:sp>
              <p:nvSpPr>
                <p:cNvPr id="345" name="矩形 100"/>
                <p:cNvSpPr/>
                <p:nvPr/>
              </p:nvSpPr>
              <p:spPr>
                <a:xfrm flipH="1">
                  <a:off x="7468200" y="4897440"/>
                  <a:ext cx="36000" cy="2152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椭圆 335"/>
                <p:cNvSpPr/>
                <p:nvPr/>
              </p:nvSpPr>
              <p:spPr>
                <a:xfrm flipH="1" rot="19296600">
                  <a:off x="7472880" y="4804920"/>
                  <a:ext cx="160200" cy="11592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336"/>
                <p:cNvSpPr/>
                <p:nvPr/>
              </p:nvSpPr>
              <p:spPr>
                <a:xfrm flipH="1" rot="14057400">
                  <a:off x="7383240" y="4800600"/>
                  <a:ext cx="128520" cy="932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椭圆 337"/>
                <p:cNvSpPr/>
                <p:nvPr/>
              </p:nvSpPr>
              <p:spPr>
                <a:xfrm flipH="1" rot="12016800">
                  <a:off x="7397640" y="4937400"/>
                  <a:ext cx="67680" cy="482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椭圆 338"/>
                <p:cNvSpPr/>
                <p:nvPr/>
              </p:nvSpPr>
              <p:spPr>
                <a:xfrm flipH="1" rot="19758600">
                  <a:off x="7490520" y="4968720"/>
                  <a:ext cx="66240" cy="478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梯形 339"/>
                <p:cNvSpPr/>
                <p:nvPr/>
              </p:nvSpPr>
              <p:spPr>
                <a:xfrm flipH="1" flipV="1" rot="17463000">
                  <a:off x="7457040" y="4960800"/>
                  <a:ext cx="19800" cy="32760"/>
                </a:xfrm>
                <a:custGeom>
                  <a:avLst/>
                  <a:gdLst>
                    <a:gd name="textAreaLeft" fmla="*/ 4320 w 19800"/>
                    <a:gd name="textAreaRight" fmla="*/ 15480 w 19800"/>
                    <a:gd name="textAreaTop" fmla="*/ 7200 h 32760"/>
                    <a:gd name="textAreaBottom" fmla="*/ 25560 h 32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梯形 340"/>
                <p:cNvSpPr/>
                <p:nvPr/>
              </p:nvSpPr>
              <p:spPr>
                <a:xfrm flipH="1" flipV="1" rot="4620000">
                  <a:off x="7484760" y="4990680"/>
                  <a:ext cx="17280" cy="25920"/>
                </a:xfrm>
                <a:custGeom>
                  <a:avLst/>
                  <a:gdLst>
                    <a:gd name="textAreaLeft" fmla="*/ 3600 w 17280"/>
                    <a:gd name="textAreaRight" fmla="*/ 13680 w 17280"/>
                    <a:gd name="textAreaTop" fmla="*/ 5760 h 25920"/>
                    <a:gd name="textAreaBottom" fmla="*/ 20160 h 2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" name="组合 319"/>
            <p:cNvGrpSpPr/>
            <p:nvPr/>
          </p:nvGrpSpPr>
          <p:grpSpPr>
            <a:xfrm>
              <a:off x="6237000" y="3659040"/>
              <a:ext cx="1658520" cy="1563480"/>
              <a:chOff x="6237000" y="3659040"/>
              <a:chExt cx="1658520" cy="1563480"/>
            </a:xfrm>
          </p:grpSpPr>
          <p:sp>
            <p:nvSpPr>
              <p:cNvPr id="353" name="椭圆 320"/>
              <p:cNvSpPr/>
              <p:nvPr/>
            </p:nvSpPr>
            <p:spPr>
              <a:xfrm>
                <a:off x="6816600" y="3659040"/>
                <a:ext cx="410760" cy="41076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梯形 63"/>
              <p:cNvSpPr/>
              <p:nvPr/>
            </p:nvSpPr>
            <p:spPr>
              <a:xfrm flipV="1">
                <a:off x="6791400" y="4043880"/>
                <a:ext cx="435600" cy="596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圆角矩形 322"/>
              <p:cNvSpPr/>
              <p:nvPr/>
            </p:nvSpPr>
            <p:spPr>
              <a:xfrm rot="18006600">
                <a:off x="7116120" y="4011120"/>
                <a:ext cx="178560" cy="545040"/>
              </a:xfrm>
              <a:custGeom>
                <a:avLst/>
                <a:gdLst>
                  <a:gd name="textAreaLeft" fmla="*/ 25920 w 178560"/>
                  <a:gd name="textAreaRight" fmla="*/ 152640 w 178560"/>
                  <a:gd name="textAreaTop" fmla="*/ 25920 h 545040"/>
                  <a:gd name="textAreaBottom" fmla="*/ 519120 h 545040"/>
                </a:gdLst>
                <a:ahLst/>
                <a:rect l="textAreaLeft" t="textAreaTop" r="textAreaRight" b="textAreaBottom"/>
                <a:pathLst>
                  <a:path w="21600" h="65843">
                    <a:moveTo>
                      <a:pt x="10800" y="0"/>
                    </a:moveTo>
                    <a:arcTo wR="10800" hR="10800" stAng="16200000" swAng="-5400000"/>
                    <a:lnTo>
                      <a:pt x="0" y="55043"/>
                    </a:lnTo>
                    <a:arcTo wR="10800" hR="10800" stAng="10800000" swAng="-5400000"/>
                    <a:lnTo>
                      <a:pt x="10800" y="6584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6" name="组合 323"/>
              <p:cNvGrpSpPr/>
              <p:nvPr/>
            </p:nvGrpSpPr>
            <p:grpSpPr>
              <a:xfrm>
                <a:off x="6237000" y="3825000"/>
                <a:ext cx="1658520" cy="516960"/>
                <a:chOff x="6237000" y="3825000"/>
                <a:chExt cx="1658520" cy="516960"/>
              </a:xfrm>
            </p:grpSpPr>
            <p:sp>
              <p:nvSpPr>
                <p:cNvPr id="357" name="任意多边形 328"/>
                <p:cNvSpPr/>
                <p:nvPr/>
              </p:nvSpPr>
              <p:spPr>
                <a:xfrm rot="5116200">
                  <a:off x="7122600" y="3621600"/>
                  <a:ext cx="59760" cy="8956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任意多边形 329"/>
                <p:cNvSpPr/>
                <p:nvPr/>
              </p:nvSpPr>
              <p:spPr>
                <a:xfrm rot="5116200">
                  <a:off x="6232680" y="3963960"/>
                  <a:ext cx="383760" cy="3448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矩形 330"/>
                <p:cNvSpPr/>
                <p:nvPr/>
              </p:nvSpPr>
              <p:spPr>
                <a:xfrm flipH="1" rot="5115600">
                  <a:off x="6548760" y="3981600"/>
                  <a:ext cx="94320" cy="2674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任意多边形 331"/>
                <p:cNvSpPr/>
                <p:nvPr/>
              </p:nvSpPr>
              <p:spPr>
                <a:xfrm flipV="1" rot="5115600">
                  <a:off x="7529760" y="3850920"/>
                  <a:ext cx="363600" cy="3387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" name="圆角矩形 324"/>
              <p:cNvSpPr/>
              <p:nvPr/>
            </p:nvSpPr>
            <p:spPr>
              <a:xfrm rot="1387800">
                <a:off x="7376760" y="4012200"/>
                <a:ext cx="143640" cy="476640"/>
              </a:xfrm>
              <a:custGeom>
                <a:avLst/>
                <a:gdLst>
                  <a:gd name="textAreaLeft" fmla="*/ 20880 w 143640"/>
                  <a:gd name="textAreaRight" fmla="*/ 122760 w 143640"/>
                  <a:gd name="textAreaTop" fmla="*/ 20880 h 476640"/>
                  <a:gd name="textAreaBottom" fmla="*/ 455760 h 476640"/>
                </a:gdLst>
                <a:ahLst/>
                <a:rect l="textAreaLeft" t="textAreaTop" r="textAreaRight" b="textAreaBottom"/>
                <a:pathLst>
                  <a:path w="21600" h="71550">
                    <a:moveTo>
                      <a:pt x="10800" y="0"/>
                    </a:moveTo>
                    <a:arcTo wR="10800" hR="10800" stAng="16200000" swAng="-5400000"/>
                    <a:lnTo>
                      <a:pt x="0" y="60750"/>
                    </a:lnTo>
                    <a:arcTo wR="10800" hR="10800" stAng="10800000" swAng="-5400000"/>
                    <a:lnTo>
                      <a:pt x="10800" y="7155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椭圆 325"/>
              <p:cNvSpPr/>
              <p:nvPr/>
            </p:nvSpPr>
            <p:spPr>
              <a:xfrm>
                <a:off x="7421040" y="3958200"/>
                <a:ext cx="196920" cy="1969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梯形 27"/>
              <p:cNvSpPr/>
              <p:nvPr/>
            </p:nvSpPr>
            <p:spPr>
              <a:xfrm flipV="1" rot="21404400">
                <a:off x="6847560" y="4532040"/>
                <a:ext cx="348120" cy="6800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矩形 327"/>
              <p:cNvSpPr/>
              <p:nvPr/>
            </p:nvSpPr>
            <p:spPr>
              <a:xfrm rot="21368400">
                <a:off x="6913080" y="5116320"/>
                <a:ext cx="271800" cy="972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5" name="组合 341"/>
          <p:cNvGrpSpPr/>
          <p:nvPr/>
        </p:nvGrpSpPr>
        <p:grpSpPr>
          <a:xfrm>
            <a:off x="3485880" y="3722760"/>
            <a:ext cx="1592280" cy="1500840"/>
            <a:chOff x="3485880" y="3722760"/>
            <a:chExt cx="1592280" cy="1500840"/>
          </a:xfrm>
        </p:grpSpPr>
        <p:grpSp>
          <p:nvGrpSpPr>
            <p:cNvPr id="366" name="组合 342"/>
            <p:cNvGrpSpPr/>
            <p:nvPr/>
          </p:nvGrpSpPr>
          <p:grpSpPr>
            <a:xfrm>
              <a:off x="4577040" y="4787280"/>
              <a:ext cx="267480" cy="367560"/>
              <a:chOff x="4577040" y="4787280"/>
              <a:chExt cx="267480" cy="367560"/>
            </a:xfrm>
          </p:grpSpPr>
          <p:sp>
            <p:nvSpPr>
              <p:cNvPr id="367" name="椭圆 356"/>
              <p:cNvSpPr/>
              <p:nvPr/>
            </p:nvSpPr>
            <p:spPr>
              <a:xfrm flipH="1">
                <a:off x="4581000" y="5069520"/>
                <a:ext cx="203400" cy="853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组合 357"/>
              <p:cNvGrpSpPr/>
              <p:nvPr/>
            </p:nvGrpSpPr>
            <p:grpSpPr>
              <a:xfrm>
                <a:off x="4577040" y="4787280"/>
                <a:ext cx="267480" cy="330840"/>
                <a:chOff x="4577040" y="4787280"/>
                <a:chExt cx="267480" cy="330840"/>
              </a:xfrm>
            </p:grpSpPr>
            <p:sp>
              <p:nvSpPr>
                <p:cNvPr id="369" name="矩形 100"/>
                <p:cNvSpPr/>
                <p:nvPr/>
              </p:nvSpPr>
              <p:spPr>
                <a:xfrm flipH="1">
                  <a:off x="4668840" y="4911840"/>
                  <a:ext cx="34560" cy="2062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椭圆 359"/>
                <p:cNvSpPr/>
                <p:nvPr/>
              </p:nvSpPr>
              <p:spPr>
                <a:xfrm flipH="1" rot="19296600">
                  <a:off x="4672800" y="4822920"/>
                  <a:ext cx="153360" cy="1108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椭圆 360"/>
                <p:cNvSpPr/>
                <p:nvPr/>
              </p:nvSpPr>
              <p:spPr>
                <a:xfrm flipH="1" rot="14057400">
                  <a:off x="4587480" y="4818600"/>
                  <a:ext cx="123480" cy="896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椭圆 361"/>
                <p:cNvSpPr/>
                <p:nvPr/>
              </p:nvSpPr>
              <p:spPr>
                <a:xfrm flipH="1" rot="12016800">
                  <a:off x="4601520" y="4950000"/>
                  <a:ext cx="64800" cy="468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椭圆 362"/>
                <p:cNvSpPr/>
                <p:nvPr/>
              </p:nvSpPr>
              <p:spPr>
                <a:xfrm flipH="1" rot="19758600">
                  <a:off x="4690800" y="4980240"/>
                  <a:ext cx="63360" cy="453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梯形 363"/>
                <p:cNvSpPr/>
                <p:nvPr/>
              </p:nvSpPr>
              <p:spPr>
                <a:xfrm flipH="1" flipV="1" rot="17463000">
                  <a:off x="4658040" y="4971960"/>
                  <a:ext cx="19080" cy="31680"/>
                </a:xfrm>
                <a:custGeom>
                  <a:avLst/>
                  <a:gdLst>
                    <a:gd name="textAreaLeft" fmla="*/ 3960 w 19080"/>
                    <a:gd name="textAreaRight" fmla="*/ 15120 w 19080"/>
                    <a:gd name="textAreaTop" fmla="*/ 6840 h 31680"/>
                    <a:gd name="textAreaBottom" fmla="*/ 24840 h 31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梯形 364"/>
                <p:cNvSpPr/>
                <p:nvPr/>
              </p:nvSpPr>
              <p:spPr>
                <a:xfrm flipH="1" flipV="1" rot="4620000">
                  <a:off x="4685400" y="5001480"/>
                  <a:ext cx="16560" cy="24840"/>
                </a:xfrm>
                <a:custGeom>
                  <a:avLst/>
                  <a:gdLst>
                    <a:gd name="textAreaLeft" fmla="*/ 3600 w 16560"/>
                    <a:gd name="textAreaRight" fmla="*/ 12960 w 16560"/>
                    <a:gd name="textAreaTop" fmla="*/ 5400 h 24840"/>
                    <a:gd name="textAreaBottom" fmla="*/ 19440 h 24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组合 343"/>
            <p:cNvGrpSpPr/>
            <p:nvPr/>
          </p:nvGrpSpPr>
          <p:grpSpPr>
            <a:xfrm>
              <a:off x="3485880" y="3722760"/>
              <a:ext cx="1592280" cy="1500840"/>
              <a:chOff x="3485880" y="3722760"/>
              <a:chExt cx="1592280" cy="1500840"/>
            </a:xfrm>
          </p:grpSpPr>
          <p:sp>
            <p:nvSpPr>
              <p:cNvPr id="377" name="椭圆 344"/>
              <p:cNvSpPr/>
              <p:nvPr/>
            </p:nvSpPr>
            <p:spPr>
              <a:xfrm>
                <a:off x="4042800" y="3722760"/>
                <a:ext cx="394200" cy="3942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梯形 63"/>
              <p:cNvSpPr/>
              <p:nvPr/>
            </p:nvSpPr>
            <p:spPr>
              <a:xfrm flipV="1">
                <a:off x="3949920" y="4091400"/>
                <a:ext cx="521640" cy="7779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圆角矩形 346"/>
              <p:cNvSpPr/>
              <p:nvPr/>
            </p:nvSpPr>
            <p:spPr>
              <a:xfrm rot="18006600">
                <a:off x="4330440" y="4060440"/>
                <a:ext cx="171360" cy="523440"/>
              </a:xfrm>
              <a:custGeom>
                <a:avLst/>
                <a:gdLst>
                  <a:gd name="textAreaLeft" fmla="*/ 24840 w 171360"/>
                  <a:gd name="textAreaRight" fmla="*/ 146520 w 171360"/>
                  <a:gd name="textAreaTop" fmla="*/ 24840 h 523440"/>
                  <a:gd name="textAreaBottom" fmla="*/ 498600 h 523440"/>
                </a:gdLst>
                <a:ahLst/>
                <a:rect l="textAreaLeft" t="textAreaTop" r="textAreaRight" b="textAreaBottom"/>
                <a:pathLst>
                  <a:path w="21600" h="65887">
                    <a:moveTo>
                      <a:pt x="10800" y="0"/>
                    </a:moveTo>
                    <a:arcTo wR="10800" hR="10800" stAng="16200000" swAng="-5400000"/>
                    <a:lnTo>
                      <a:pt x="0" y="55087"/>
                    </a:lnTo>
                    <a:arcTo wR="10800" hR="10800" stAng="10800000" swAng="-5400000"/>
                    <a:lnTo>
                      <a:pt x="10800" y="658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组合 347"/>
              <p:cNvGrpSpPr/>
              <p:nvPr/>
            </p:nvGrpSpPr>
            <p:grpSpPr>
              <a:xfrm>
                <a:off x="3485880" y="3881880"/>
                <a:ext cx="1592280" cy="496440"/>
                <a:chOff x="3485880" y="3881880"/>
                <a:chExt cx="1592280" cy="496440"/>
              </a:xfrm>
            </p:grpSpPr>
            <p:sp>
              <p:nvSpPr>
                <p:cNvPr id="381" name="任意多边形 352"/>
                <p:cNvSpPr/>
                <p:nvPr/>
              </p:nvSpPr>
              <p:spPr>
                <a:xfrm rot="5116200">
                  <a:off x="4335840" y="3686760"/>
                  <a:ext cx="57240" cy="8600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任意多边形 353"/>
                <p:cNvSpPr/>
                <p:nvPr/>
              </p:nvSpPr>
              <p:spPr>
                <a:xfrm rot="5116200">
                  <a:off x="3481560" y="4015800"/>
                  <a:ext cx="368280" cy="3308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矩形 354"/>
                <p:cNvSpPr/>
                <p:nvPr/>
              </p:nvSpPr>
              <p:spPr>
                <a:xfrm flipH="1" rot="5115600">
                  <a:off x="3785040" y="4032000"/>
                  <a:ext cx="90360" cy="2566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任意多边形 355"/>
                <p:cNvSpPr/>
                <p:nvPr/>
              </p:nvSpPr>
              <p:spPr>
                <a:xfrm flipV="1" rot="5115600">
                  <a:off x="4726800" y="3906000"/>
                  <a:ext cx="349200" cy="3254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圆角矩形 348"/>
              <p:cNvSpPr/>
              <p:nvPr/>
            </p:nvSpPr>
            <p:spPr>
              <a:xfrm rot="1387800">
                <a:off x="4580640" y="4061520"/>
                <a:ext cx="137880" cy="457560"/>
              </a:xfrm>
              <a:custGeom>
                <a:avLst/>
                <a:gdLst>
                  <a:gd name="textAreaLeft" fmla="*/ 20160 w 137880"/>
                  <a:gd name="textAreaRight" fmla="*/ 117720 w 137880"/>
                  <a:gd name="textAreaTop" fmla="*/ 20160 h 457560"/>
                  <a:gd name="textAreaBottom" fmla="*/ 437400 h 457560"/>
                </a:gdLst>
                <a:ahLst/>
                <a:rect l="textAreaLeft" t="textAreaTop" r="textAreaRight" b="textAreaBottom"/>
                <a:pathLst>
                  <a:path w="21600" h="71550">
                    <a:moveTo>
                      <a:pt x="10800" y="0"/>
                    </a:moveTo>
                    <a:arcTo wR="10800" hR="10800" stAng="16200000" swAng="-5400000"/>
                    <a:lnTo>
                      <a:pt x="0" y="60750"/>
                    </a:lnTo>
                    <a:arcTo wR="10800" hR="10800" stAng="10800000" swAng="-5400000"/>
                    <a:lnTo>
                      <a:pt x="10800" y="7155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椭圆 349"/>
              <p:cNvSpPr/>
              <p:nvPr/>
            </p:nvSpPr>
            <p:spPr>
              <a:xfrm>
                <a:off x="4623120" y="4010040"/>
                <a:ext cx="189000" cy="1890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梯形 27"/>
              <p:cNvSpPr/>
              <p:nvPr/>
            </p:nvSpPr>
            <p:spPr>
              <a:xfrm flipV="1" rot="21404400">
                <a:off x="4107240" y="4558680"/>
                <a:ext cx="255960" cy="6552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矩形 351"/>
              <p:cNvSpPr/>
              <p:nvPr/>
            </p:nvSpPr>
            <p:spPr>
              <a:xfrm rot="21368400">
                <a:off x="4134960" y="5121720"/>
                <a:ext cx="261000" cy="932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组合 389"/>
          <p:cNvGrpSpPr/>
          <p:nvPr/>
        </p:nvGrpSpPr>
        <p:grpSpPr>
          <a:xfrm>
            <a:off x="567360" y="3790800"/>
            <a:ext cx="1506960" cy="1420920"/>
            <a:chOff x="567360" y="3790800"/>
            <a:chExt cx="1506960" cy="1420920"/>
          </a:xfrm>
        </p:grpSpPr>
        <p:grpSp>
          <p:nvGrpSpPr>
            <p:cNvPr id="390" name="组合 390"/>
            <p:cNvGrpSpPr/>
            <p:nvPr/>
          </p:nvGrpSpPr>
          <p:grpSpPr>
            <a:xfrm>
              <a:off x="1600200" y="4798440"/>
              <a:ext cx="253800" cy="348480"/>
              <a:chOff x="1600200" y="4798440"/>
              <a:chExt cx="253800" cy="348480"/>
            </a:xfrm>
          </p:grpSpPr>
          <p:sp>
            <p:nvSpPr>
              <p:cNvPr id="391" name="椭圆 404"/>
              <p:cNvSpPr/>
              <p:nvPr/>
            </p:nvSpPr>
            <p:spPr>
              <a:xfrm flipH="1">
                <a:off x="1603800" y="5066280"/>
                <a:ext cx="192600" cy="8064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" name="组合 405"/>
              <p:cNvGrpSpPr/>
              <p:nvPr/>
            </p:nvGrpSpPr>
            <p:grpSpPr>
              <a:xfrm>
                <a:off x="1600200" y="4798440"/>
                <a:ext cx="253800" cy="313560"/>
                <a:chOff x="1600200" y="4798440"/>
                <a:chExt cx="253800" cy="313560"/>
              </a:xfrm>
            </p:grpSpPr>
            <p:sp>
              <p:nvSpPr>
                <p:cNvPr id="393" name="矩形 100"/>
                <p:cNvSpPr/>
                <p:nvPr/>
              </p:nvSpPr>
              <p:spPr>
                <a:xfrm flipH="1">
                  <a:off x="1686600" y="4916520"/>
                  <a:ext cx="32760" cy="1954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椭圆 407"/>
                <p:cNvSpPr/>
                <p:nvPr/>
              </p:nvSpPr>
              <p:spPr>
                <a:xfrm flipH="1" rot="19296600">
                  <a:off x="1690920" y="4831920"/>
                  <a:ext cx="145440" cy="1054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椭圆 408"/>
                <p:cNvSpPr/>
                <p:nvPr/>
              </p:nvSpPr>
              <p:spPr>
                <a:xfrm flipH="1" rot="14057400">
                  <a:off x="1609920" y="4828320"/>
                  <a:ext cx="117000" cy="846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椭圆 409"/>
                <p:cNvSpPr/>
                <p:nvPr/>
              </p:nvSpPr>
              <p:spPr>
                <a:xfrm flipH="1" rot="12016800">
                  <a:off x="1622880" y="4952880"/>
                  <a:ext cx="61200" cy="442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椭圆 410"/>
                <p:cNvSpPr/>
                <p:nvPr/>
              </p:nvSpPr>
              <p:spPr>
                <a:xfrm flipH="1" rot="19758600">
                  <a:off x="1706760" y="4981320"/>
                  <a:ext cx="60120" cy="432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梯形 411"/>
                <p:cNvSpPr/>
                <p:nvPr/>
              </p:nvSpPr>
              <p:spPr>
                <a:xfrm flipH="1" flipV="1" rot="17463000">
                  <a:off x="1676880" y="4974120"/>
                  <a:ext cx="18000" cy="29880"/>
                </a:xfrm>
                <a:custGeom>
                  <a:avLst/>
                  <a:gdLst>
                    <a:gd name="textAreaLeft" fmla="*/ 3960 w 18000"/>
                    <a:gd name="textAreaRight" fmla="*/ 14040 w 18000"/>
                    <a:gd name="textAreaTop" fmla="*/ 6480 h 29880"/>
                    <a:gd name="textAreaBottom" fmla="*/ 23400 h 29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梯形 412"/>
                <p:cNvSpPr/>
                <p:nvPr/>
              </p:nvSpPr>
              <p:spPr>
                <a:xfrm flipH="1" flipV="1" rot="4620000">
                  <a:off x="1702080" y="5001480"/>
                  <a:ext cx="15840" cy="23760"/>
                </a:xfrm>
                <a:custGeom>
                  <a:avLst/>
                  <a:gdLst>
                    <a:gd name="textAreaLeft" fmla="*/ 3240 w 15840"/>
                    <a:gd name="textAreaRight" fmla="*/ 12600 w 15840"/>
                    <a:gd name="textAreaTop" fmla="*/ 5040 h 23760"/>
                    <a:gd name="textAreaBottom" fmla="*/ 18720 h 2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0" name="组合 391"/>
            <p:cNvGrpSpPr/>
            <p:nvPr/>
          </p:nvGrpSpPr>
          <p:grpSpPr>
            <a:xfrm>
              <a:off x="567360" y="3790800"/>
              <a:ext cx="1506960" cy="1420920"/>
              <a:chOff x="567360" y="3790800"/>
              <a:chExt cx="1506960" cy="1420920"/>
            </a:xfrm>
          </p:grpSpPr>
          <p:sp>
            <p:nvSpPr>
              <p:cNvPr id="401" name="椭圆 392"/>
              <p:cNvSpPr/>
              <p:nvPr/>
            </p:nvSpPr>
            <p:spPr>
              <a:xfrm>
                <a:off x="1094400" y="3790800"/>
                <a:ext cx="372960" cy="3733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梯形 63"/>
              <p:cNvSpPr/>
              <p:nvPr/>
            </p:nvSpPr>
            <p:spPr>
              <a:xfrm flipV="1">
                <a:off x="1071720" y="4140720"/>
                <a:ext cx="395640" cy="5421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圆角矩形 394"/>
              <p:cNvSpPr/>
              <p:nvPr/>
            </p:nvSpPr>
            <p:spPr>
              <a:xfrm rot="18006600">
                <a:off x="1366560" y="4110480"/>
                <a:ext cx="162360" cy="495360"/>
              </a:xfrm>
              <a:custGeom>
                <a:avLst/>
                <a:gdLst>
                  <a:gd name="textAreaLeft" fmla="*/ 23760 w 162360"/>
                  <a:gd name="textAreaRight" fmla="*/ 138600 w 162360"/>
                  <a:gd name="textAreaTop" fmla="*/ 23760 h 495360"/>
                  <a:gd name="textAreaBottom" fmla="*/ 471600 h 495360"/>
                </a:gdLst>
                <a:ahLst/>
                <a:rect l="textAreaLeft" t="textAreaTop" r="textAreaRight" b="textAreaBottom"/>
                <a:pathLst>
                  <a:path w="21600" h="65804">
                    <a:moveTo>
                      <a:pt x="10800" y="0"/>
                    </a:moveTo>
                    <a:arcTo wR="10800" hR="10800" stAng="16200000" swAng="-5400000"/>
                    <a:lnTo>
                      <a:pt x="0" y="55004"/>
                    </a:lnTo>
                    <a:arcTo wR="10800" hR="10800" stAng="10800000" swAng="-5400000"/>
                    <a:lnTo>
                      <a:pt x="10800" y="6580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组合 395"/>
              <p:cNvGrpSpPr/>
              <p:nvPr/>
            </p:nvGrpSpPr>
            <p:grpSpPr>
              <a:xfrm>
                <a:off x="567360" y="3941640"/>
                <a:ext cx="1506960" cy="469800"/>
                <a:chOff x="567360" y="3941640"/>
                <a:chExt cx="1506960" cy="469800"/>
              </a:xfrm>
            </p:grpSpPr>
            <p:sp>
              <p:nvSpPr>
                <p:cNvPr id="405" name="任意多边形 400"/>
                <p:cNvSpPr/>
                <p:nvPr/>
              </p:nvSpPr>
              <p:spPr>
                <a:xfrm rot="5116200">
                  <a:off x="1371960" y="3756600"/>
                  <a:ext cx="54360" cy="81396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任意多边形 401"/>
                <p:cNvSpPr/>
                <p:nvPr/>
              </p:nvSpPr>
              <p:spPr>
                <a:xfrm rot="5116200">
                  <a:off x="563040" y="4068000"/>
                  <a:ext cx="348840" cy="31320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矩形 402"/>
                <p:cNvSpPr/>
                <p:nvPr/>
              </p:nvSpPr>
              <p:spPr>
                <a:xfrm flipH="1" rot="5115600">
                  <a:off x="850320" y="4083840"/>
                  <a:ext cx="85680" cy="24300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任意多边形 403"/>
                <p:cNvSpPr/>
                <p:nvPr/>
              </p:nvSpPr>
              <p:spPr>
                <a:xfrm flipV="1" rot="5115600">
                  <a:off x="1741680" y="3965040"/>
                  <a:ext cx="330840" cy="30780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圆角矩形 396"/>
              <p:cNvSpPr/>
              <p:nvPr/>
            </p:nvSpPr>
            <p:spPr>
              <a:xfrm rot="1387800">
                <a:off x="1603440" y="4111200"/>
                <a:ext cx="130680" cy="433440"/>
              </a:xfrm>
              <a:custGeom>
                <a:avLst/>
                <a:gdLst>
                  <a:gd name="textAreaLeft" fmla="*/ 19080 w 130680"/>
                  <a:gd name="textAreaRight" fmla="*/ 111600 w 130680"/>
                  <a:gd name="textAreaTop" fmla="*/ 19080 h 433440"/>
                  <a:gd name="textAreaBottom" fmla="*/ 414360 h 433440"/>
                </a:gdLst>
                <a:ahLst/>
                <a:rect l="textAreaLeft" t="textAreaTop" r="textAreaRight" b="textAreaBottom"/>
                <a:pathLst>
                  <a:path w="21600" h="71505">
                    <a:moveTo>
                      <a:pt x="10800" y="0"/>
                    </a:moveTo>
                    <a:arcTo wR="10800" hR="10800" stAng="16200000" swAng="-5400000"/>
                    <a:lnTo>
                      <a:pt x="0" y="60705"/>
                    </a:lnTo>
                    <a:arcTo wR="10800" hR="10800" stAng="10800000" swAng="-5400000"/>
                    <a:lnTo>
                      <a:pt x="10800" y="71505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椭圆 397"/>
              <p:cNvSpPr/>
              <p:nvPr/>
            </p:nvSpPr>
            <p:spPr>
              <a:xfrm>
                <a:off x="1643760" y="4062960"/>
                <a:ext cx="178920" cy="1789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梯形 27"/>
              <p:cNvSpPr/>
              <p:nvPr/>
            </p:nvSpPr>
            <p:spPr>
              <a:xfrm flipV="1" rot="21404400">
                <a:off x="1122840" y="4584960"/>
                <a:ext cx="316080" cy="61812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矩形 399"/>
              <p:cNvSpPr/>
              <p:nvPr/>
            </p:nvSpPr>
            <p:spPr>
              <a:xfrm rot="21368400">
                <a:off x="1181880" y="5115240"/>
                <a:ext cx="246960" cy="882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组合 414"/>
          <p:cNvGrpSpPr/>
          <p:nvPr/>
        </p:nvGrpSpPr>
        <p:grpSpPr>
          <a:xfrm>
            <a:off x="9042120" y="3718080"/>
            <a:ext cx="1592280" cy="1500840"/>
            <a:chOff x="9042120" y="3718080"/>
            <a:chExt cx="1592280" cy="1500840"/>
          </a:xfrm>
        </p:grpSpPr>
        <p:grpSp>
          <p:nvGrpSpPr>
            <p:cNvPr id="414" name="组合 415"/>
            <p:cNvGrpSpPr/>
            <p:nvPr/>
          </p:nvGrpSpPr>
          <p:grpSpPr>
            <a:xfrm>
              <a:off x="10133280" y="4782600"/>
              <a:ext cx="267480" cy="367560"/>
              <a:chOff x="10133280" y="4782600"/>
              <a:chExt cx="267480" cy="367560"/>
            </a:xfrm>
          </p:grpSpPr>
          <p:sp>
            <p:nvSpPr>
              <p:cNvPr id="415" name="椭圆 429"/>
              <p:cNvSpPr/>
              <p:nvPr/>
            </p:nvSpPr>
            <p:spPr>
              <a:xfrm flipH="1">
                <a:off x="10137240" y="5064840"/>
                <a:ext cx="203400" cy="85320"/>
              </a:xfrm>
              <a:prstGeom prst="ellips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组合 430"/>
              <p:cNvGrpSpPr/>
              <p:nvPr/>
            </p:nvGrpSpPr>
            <p:grpSpPr>
              <a:xfrm>
                <a:off x="10133280" y="4782600"/>
                <a:ext cx="267480" cy="330840"/>
                <a:chOff x="10133280" y="4782600"/>
                <a:chExt cx="267480" cy="330840"/>
              </a:xfrm>
            </p:grpSpPr>
            <p:sp>
              <p:nvSpPr>
                <p:cNvPr id="417" name="矩形 100"/>
                <p:cNvSpPr/>
                <p:nvPr/>
              </p:nvSpPr>
              <p:spPr>
                <a:xfrm flipH="1">
                  <a:off x="10225080" y="4907160"/>
                  <a:ext cx="34560" cy="20628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椭圆 432"/>
                <p:cNvSpPr/>
                <p:nvPr/>
              </p:nvSpPr>
              <p:spPr>
                <a:xfrm flipH="1" rot="19296600">
                  <a:off x="10229040" y="4818240"/>
                  <a:ext cx="153360" cy="11088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椭圆 433"/>
                <p:cNvSpPr/>
                <p:nvPr/>
              </p:nvSpPr>
              <p:spPr>
                <a:xfrm flipH="1" rot="14057400">
                  <a:off x="10143720" y="4813920"/>
                  <a:ext cx="123480" cy="8964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椭圆 434"/>
                <p:cNvSpPr/>
                <p:nvPr/>
              </p:nvSpPr>
              <p:spPr>
                <a:xfrm flipH="1" rot="12016800">
                  <a:off x="10157760" y="4945320"/>
                  <a:ext cx="64800" cy="4680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椭圆 435"/>
                <p:cNvSpPr/>
                <p:nvPr/>
              </p:nvSpPr>
              <p:spPr>
                <a:xfrm flipH="1" rot="19758600">
                  <a:off x="10247040" y="4975560"/>
                  <a:ext cx="63360" cy="453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梯形 436"/>
                <p:cNvSpPr/>
                <p:nvPr/>
              </p:nvSpPr>
              <p:spPr>
                <a:xfrm flipH="1" flipV="1" rot="17463000">
                  <a:off x="10214280" y="4967280"/>
                  <a:ext cx="19080" cy="31680"/>
                </a:xfrm>
                <a:custGeom>
                  <a:avLst/>
                  <a:gdLst>
                    <a:gd name="textAreaLeft" fmla="*/ 3960 w 19080"/>
                    <a:gd name="textAreaRight" fmla="*/ 15120 w 19080"/>
                    <a:gd name="textAreaTop" fmla="*/ 6840 h 31680"/>
                    <a:gd name="textAreaBottom" fmla="*/ 24840 h 31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梯形 437"/>
                <p:cNvSpPr/>
                <p:nvPr/>
              </p:nvSpPr>
              <p:spPr>
                <a:xfrm flipH="1" flipV="1" rot="4620000">
                  <a:off x="10241640" y="4996800"/>
                  <a:ext cx="16560" cy="24840"/>
                </a:xfrm>
                <a:custGeom>
                  <a:avLst/>
                  <a:gdLst>
                    <a:gd name="textAreaLeft" fmla="*/ 3600 w 16560"/>
                    <a:gd name="textAreaRight" fmla="*/ 12960 w 16560"/>
                    <a:gd name="textAreaTop" fmla="*/ 5400 h 24840"/>
                    <a:gd name="textAreaBottom" fmla="*/ 19440 h 24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4" name="组合 416"/>
            <p:cNvGrpSpPr/>
            <p:nvPr/>
          </p:nvGrpSpPr>
          <p:grpSpPr>
            <a:xfrm>
              <a:off x="9042120" y="3718080"/>
              <a:ext cx="1592280" cy="1500840"/>
              <a:chOff x="9042120" y="3718080"/>
              <a:chExt cx="1592280" cy="1500840"/>
            </a:xfrm>
          </p:grpSpPr>
          <p:sp>
            <p:nvSpPr>
              <p:cNvPr id="425" name="椭圆 417"/>
              <p:cNvSpPr/>
              <p:nvPr/>
            </p:nvSpPr>
            <p:spPr>
              <a:xfrm>
                <a:off x="9599040" y="3718080"/>
                <a:ext cx="394200" cy="3942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梯形 63"/>
              <p:cNvSpPr/>
              <p:nvPr/>
            </p:nvSpPr>
            <p:spPr>
              <a:xfrm flipV="1">
                <a:off x="9506160" y="4086720"/>
                <a:ext cx="521640" cy="77796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圆角矩形 419"/>
              <p:cNvSpPr/>
              <p:nvPr/>
            </p:nvSpPr>
            <p:spPr>
              <a:xfrm rot="18006600">
                <a:off x="9886680" y="4055760"/>
                <a:ext cx="171360" cy="523440"/>
              </a:xfrm>
              <a:custGeom>
                <a:avLst/>
                <a:gdLst>
                  <a:gd name="textAreaLeft" fmla="*/ 24840 w 171360"/>
                  <a:gd name="textAreaRight" fmla="*/ 146520 w 171360"/>
                  <a:gd name="textAreaTop" fmla="*/ 24840 h 523440"/>
                  <a:gd name="textAreaBottom" fmla="*/ 498600 h 523440"/>
                </a:gdLst>
                <a:ahLst/>
                <a:rect l="textAreaLeft" t="textAreaTop" r="textAreaRight" b="textAreaBottom"/>
                <a:pathLst>
                  <a:path w="21600" h="65887">
                    <a:moveTo>
                      <a:pt x="10800" y="0"/>
                    </a:moveTo>
                    <a:arcTo wR="10800" hR="10800" stAng="16200000" swAng="-5400000"/>
                    <a:lnTo>
                      <a:pt x="0" y="55087"/>
                    </a:lnTo>
                    <a:arcTo wR="10800" hR="10800" stAng="10800000" swAng="-5400000"/>
                    <a:lnTo>
                      <a:pt x="10800" y="6588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组合 420"/>
              <p:cNvGrpSpPr/>
              <p:nvPr/>
            </p:nvGrpSpPr>
            <p:grpSpPr>
              <a:xfrm>
                <a:off x="9042120" y="3877200"/>
                <a:ext cx="1592280" cy="496440"/>
                <a:chOff x="9042120" y="3877200"/>
                <a:chExt cx="1592280" cy="496440"/>
              </a:xfrm>
            </p:grpSpPr>
            <p:sp>
              <p:nvSpPr>
                <p:cNvPr id="429" name="任意多边形 425"/>
                <p:cNvSpPr/>
                <p:nvPr/>
              </p:nvSpPr>
              <p:spPr>
                <a:xfrm rot="5116200">
                  <a:off x="9892080" y="3682080"/>
                  <a:ext cx="57240" cy="8600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任意多边形 426"/>
                <p:cNvSpPr/>
                <p:nvPr/>
              </p:nvSpPr>
              <p:spPr>
                <a:xfrm rot="5116200">
                  <a:off x="9037800" y="4011120"/>
                  <a:ext cx="368280" cy="3308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矩形 427"/>
                <p:cNvSpPr/>
                <p:nvPr/>
              </p:nvSpPr>
              <p:spPr>
                <a:xfrm flipH="1" rot="5115600">
                  <a:off x="9341280" y="4027320"/>
                  <a:ext cx="90360" cy="2566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任意多边形 428"/>
                <p:cNvSpPr/>
                <p:nvPr/>
              </p:nvSpPr>
              <p:spPr>
                <a:xfrm flipV="1" rot="5115600">
                  <a:off x="10283040" y="3901320"/>
                  <a:ext cx="349200" cy="3254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圆角矩形 421"/>
              <p:cNvSpPr/>
              <p:nvPr/>
            </p:nvSpPr>
            <p:spPr>
              <a:xfrm rot="1387800">
                <a:off x="10136880" y="4056840"/>
                <a:ext cx="137880" cy="457560"/>
              </a:xfrm>
              <a:custGeom>
                <a:avLst/>
                <a:gdLst>
                  <a:gd name="textAreaLeft" fmla="*/ 20160 w 137880"/>
                  <a:gd name="textAreaRight" fmla="*/ 117720 w 137880"/>
                  <a:gd name="textAreaTop" fmla="*/ 20160 h 457560"/>
                  <a:gd name="textAreaBottom" fmla="*/ 437400 h 457560"/>
                </a:gdLst>
                <a:ahLst/>
                <a:rect l="textAreaLeft" t="textAreaTop" r="textAreaRight" b="textAreaBottom"/>
                <a:pathLst>
                  <a:path w="21600" h="71550">
                    <a:moveTo>
                      <a:pt x="10800" y="0"/>
                    </a:moveTo>
                    <a:arcTo wR="10800" hR="10800" stAng="16200000" swAng="-5400000"/>
                    <a:lnTo>
                      <a:pt x="0" y="60750"/>
                    </a:lnTo>
                    <a:arcTo wR="10800" hR="10800" stAng="10800000" swAng="-5400000"/>
                    <a:lnTo>
                      <a:pt x="10800" y="7155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椭圆 422"/>
              <p:cNvSpPr/>
              <p:nvPr/>
            </p:nvSpPr>
            <p:spPr>
              <a:xfrm>
                <a:off x="10179360" y="4005360"/>
                <a:ext cx="189000" cy="18900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梯形 27"/>
              <p:cNvSpPr/>
              <p:nvPr/>
            </p:nvSpPr>
            <p:spPr>
              <a:xfrm flipV="1" rot="21404400">
                <a:off x="9663480" y="4554000"/>
                <a:ext cx="255960" cy="65520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矩形 424"/>
              <p:cNvSpPr/>
              <p:nvPr/>
            </p:nvSpPr>
            <p:spPr>
              <a:xfrm rot="21368400">
                <a:off x="9691200" y="5117040"/>
                <a:ext cx="261000" cy="932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任意多边形 441"/>
          <p:cNvSpPr/>
          <p:nvPr/>
        </p:nvSpPr>
        <p:spPr>
          <a:xfrm>
            <a:off x="2165400" y="3753000"/>
            <a:ext cx="1093680" cy="1455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442"/>
          <p:cNvSpPr/>
          <p:nvPr/>
        </p:nvSpPr>
        <p:spPr>
          <a:xfrm>
            <a:off x="5102280" y="3747960"/>
            <a:ext cx="1095480" cy="1454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443"/>
          <p:cNvSpPr/>
          <p:nvPr/>
        </p:nvSpPr>
        <p:spPr>
          <a:xfrm>
            <a:off x="7869240" y="3736800"/>
            <a:ext cx="1095480" cy="1454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444"/>
          <p:cNvSpPr/>
          <p:nvPr/>
        </p:nvSpPr>
        <p:spPr>
          <a:xfrm>
            <a:off x="10682280" y="3762360"/>
            <a:ext cx="1095480" cy="1455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38"/>
          <p:cNvSpPr/>
          <p:nvPr/>
        </p:nvSpPr>
        <p:spPr>
          <a:xfrm>
            <a:off x="2341440" y="380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张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5"/>
          <p:cNvSpPr/>
          <p:nvPr/>
        </p:nvSpPr>
        <p:spPr>
          <a:xfrm>
            <a:off x="5360040" y="3747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李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46"/>
          <p:cNvSpPr/>
          <p:nvPr/>
        </p:nvSpPr>
        <p:spPr>
          <a:xfrm>
            <a:off x="8118360" y="3778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王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447"/>
          <p:cNvSpPr/>
          <p:nvPr/>
        </p:nvSpPr>
        <p:spPr>
          <a:xfrm>
            <a:off x="10902960" y="380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赵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413"/>
          <p:cNvSpPr/>
          <p:nvPr/>
        </p:nvSpPr>
        <p:spPr>
          <a:xfrm>
            <a:off x="1071720" y="5175360"/>
            <a:ext cx="10331280" cy="109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文本框 3"/>
          <p:cNvSpPr/>
          <p:nvPr/>
        </p:nvSpPr>
        <p:spPr>
          <a:xfrm>
            <a:off x="4986360" y="5511960"/>
            <a:ext cx="372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结果树全都成活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任意多边形 7"/>
          <p:cNvSpPr/>
          <p:nvPr/>
        </p:nvSpPr>
        <p:spPr>
          <a:xfrm>
            <a:off x="642960" y="2104920"/>
            <a:ext cx="2230560" cy="31100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81"/>
          <p:cNvSpPr/>
          <p:nvPr/>
        </p:nvSpPr>
        <p:spPr>
          <a:xfrm>
            <a:off x="1071720" y="5175360"/>
            <a:ext cx="10331280" cy="1094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106"/>
          <p:cNvSpPr/>
          <p:nvPr/>
        </p:nvSpPr>
        <p:spPr>
          <a:xfrm>
            <a:off x="2165400" y="3753000"/>
            <a:ext cx="1093680" cy="145548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107"/>
          <p:cNvSpPr/>
          <p:nvPr/>
        </p:nvSpPr>
        <p:spPr>
          <a:xfrm>
            <a:off x="5111640" y="3738600"/>
            <a:ext cx="1095480" cy="14558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08"/>
          <p:cNvSpPr/>
          <p:nvPr/>
        </p:nvSpPr>
        <p:spPr>
          <a:xfrm>
            <a:off x="7869240" y="3736800"/>
            <a:ext cx="1095480" cy="14544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109"/>
          <p:cNvSpPr/>
          <p:nvPr/>
        </p:nvSpPr>
        <p:spPr>
          <a:xfrm>
            <a:off x="10682280" y="3762360"/>
            <a:ext cx="1095480" cy="14558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110"/>
          <p:cNvSpPr/>
          <p:nvPr/>
        </p:nvSpPr>
        <p:spPr>
          <a:xfrm>
            <a:off x="2341440" y="380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张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11"/>
          <p:cNvSpPr/>
          <p:nvPr/>
        </p:nvSpPr>
        <p:spPr>
          <a:xfrm>
            <a:off x="5360040" y="3776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李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112"/>
          <p:cNvSpPr/>
          <p:nvPr/>
        </p:nvSpPr>
        <p:spPr>
          <a:xfrm>
            <a:off x="8118360" y="3778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王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113"/>
          <p:cNvSpPr/>
          <p:nvPr/>
        </p:nvSpPr>
        <p:spPr>
          <a:xfrm>
            <a:off x="10902960" y="380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赵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114"/>
          <p:cNvSpPr/>
          <p:nvPr/>
        </p:nvSpPr>
        <p:spPr>
          <a:xfrm>
            <a:off x="3030480" y="1368360"/>
            <a:ext cx="2760840" cy="38498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任意多边形 115"/>
          <p:cNvSpPr/>
          <p:nvPr/>
        </p:nvSpPr>
        <p:spPr>
          <a:xfrm>
            <a:off x="6006960" y="2104920"/>
            <a:ext cx="2232000" cy="31100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任意多边形 116"/>
          <p:cNvSpPr/>
          <p:nvPr/>
        </p:nvSpPr>
        <p:spPr>
          <a:xfrm>
            <a:off x="8640720" y="1720800"/>
            <a:ext cx="2506680" cy="34941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文本框 3"/>
          <p:cNvSpPr/>
          <p:nvPr/>
        </p:nvSpPr>
        <p:spPr>
          <a:xfrm>
            <a:off x="5540400" y="5045040"/>
            <a:ext cx="211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启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4"/>
          <p:cNvSpPr/>
          <p:nvPr/>
        </p:nvSpPr>
        <p:spPr>
          <a:xfrm>
            <a:off x="1622520" y="4869000"/>
            <a:ext cx="9432720" cy="110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5"/>
          <p:cNvSpPr/>
          <p:nvPr/>
        </p:nvSpPr>
        <p:spPr>
          <a:xfrm>
            <a:off x="1712880" y="1306440"/>
            <a:ext cx="922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责任不能落实到人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就是责任已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责任死了工作自然就死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任何工作首先是落实责任到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等腰三角形 8"/>
          <p:cNvSpPr/>
          <p:nvPr/>
        </p:nvSpPr>
        <p:spPr>
          <a:xfrm>
            <a:off x="5872320" y="4587840"/>
            <a:ext cx="901440" cy="32724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文本框 3"/>
          <p:cNvSpPr/>
          <p:nvPr/>
        </p:nvSpPr>
        <p:spPr>
          <a:xfrm>
            <a:off x="2330280" y="2143080"/>
            <a:ext cx="807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千金重担众人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人人头上有指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5"/>
          <p:cNvSpPr/>
          <p:nvPr/>
        </p:nvSpPr>
        <p:spPr>
          <a:xfrm>
            <a:off x="2433600" y="4611600"/>
            <a:ext cx="7128000" cy="1112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等腰三角形 6"/>
          <p:cNvSpPr/>
          <p:nvPr/>
        </p:nvSpPr>
        <p:spPr>
          <a:xfrm flipV="1">
            <a:off x="5486400" y="4611600"/>
            <a:ext cx="901800" cy="3780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7"/>
          <p:cNvSpPr/>
          <p:nvPr/>
        </p:nvSpPr>
        <p:spPr>
          <a:xfrm>
            <a:off x="2319480" y="906480"/>
            <a:ext cx="807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责任是一对一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任意多边形 13"/>
          <p:cNvSpPr/>
          <p:nvPr/>
        </p:nvSpPr>
        <p:spPr>
          <a:xfrm>
            <a:off x="4019400" y="5187960"/>
            <a:ext cx="3837240" cy="1670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4"/>
          <p:cNvSpPr/>
          <p:nvPr/>
        </p:nvSpPr>
        <p:spPr>
          <a:xfrm>
            <a:off x="4778280" y="5842080"/>
            <a:ext cx="252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就如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16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47:38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