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E04-D72D-4047-8627-4849DF3E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62A-0E6C-4829-BA45-39CBC93C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707-8628-44C6-A0EC-E1960B7A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BD0-CFC4-4DE6-BA1B-8B0F9681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0D03-385A-4106-A321-529697D7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1FCE-32F9-4945-9771-26F7EEF5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629F-2C4B-404C-A80F-697BB8A3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B417-6F62-410A-BE5E-92A9EC3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F292-0CF1-47D1-9BE6-41406088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456-1AFB-4CED-899D-DF148977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FA8-D764-47BA-BC40-A90300C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547-F541-450F-99B3-5A1168A2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7DB3-235B-4247-92A0-EA3122D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89B-407F-4877-9E0E-ED8CB259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5CD8-5B81-4801-8F00-BDF4F267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066C-D71A-4E1A-AE1E-1348B2F7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A4B8-6A93-40C3-BCD1-9F102FF8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EB1-6483-4E02-95DC-FF512A0B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6F5-5A58-4A0E-BDC3-B3674D06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D1D-75F5-4239-A5E5-808F376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EBE-3D2B-435C-A18B-2FD75791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D52-239C-40AF-88EB-9C4783B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74F-99B2-49A6-B426-EC3BA90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1AE-3352-4A2E-A789-00878154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17C-150F-4871-A6CE-63C081554E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8959-C923-41A0-A063-4908BED8D5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0" y="6396120"/>
            <a:ext cx="12192120" cy="461880"/>
          </a:xfrm>
          <a:prstGeom prst="rect">
            <a:avLst/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文本框 7"/>
          <p:cNvSpPr/>
          <p:nvPr/>
        </p:nvSpPr>
        <p:spPr>
          <a:xfrm>
            <a:off x="324000" y="642456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矩形 8"/>
          <p:cNvSpPr/>
          <p:nvPr/>
        </p:nvSpPr>
        <p:spPr>
          <a:xfrm>
            <a:off x="0" y="6316560"/>
            <a:ext cx="12192120" cy="84240"/>
          </a:xfrm>
          <a:prstGeom prst="rect">
            <a:avLst/>
          </a:prstGeom>
          <a:solidFill>
            <a:srgbClr val="a6a6a6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0" y="299880"/>
            <a:ext cx="12192120" cy="317520"/>
          </a:xfrm>
          <a:prstGeom prst="rect">
            <a:avLst/>
          </a:prstGeom>
          <a:solidFill>
            <a:srgbClr val="01395c"/>
          </a:solidFill>
          <a:ln w="1260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396120"/>
            <a:ext cx="12192120" cy="461880"/>
          </a:xfrm>
          <a:prstGeom prst="rect">
            <a:avLst/>
          </a:prstGeom>
          <a:solidFill>
            <a:srgbClr val="d9d9d9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文本框 7"/>
          <p:cNvSpPr/>
          <p:nvPr/>
        </p:nvSpPr>
        <p:spPr>
          <a:xfrm>
            <a:off x="324000" y="642456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0" y="6316560"/>
            <a:ext cx="12192120" cy="84240"/>
          </a:xfrm>
          <a:prstGeom prst="rect">
            <a:avLst/>
          </a:prstGeom>
          <a:solidFill>
            <a:srgbClr val="a6a6a6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0" y="299880"/>
            <a:ext cx="12192120" cy="317520"/>
          </a:xfrm>
          <a:prstGeom prst="rect">
            <a:avLst/>
          </a:prstGeom>
          <a:solidFill>
            <a:srgbClr val="01395c"/>
          </a:solidFill>
          <a:ln w="1260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862A-9D49-48F3-B008-3886F4C147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1395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663C-1535-4324-AF90-29FB3C7ED193}" type="slidenum">
              <a:rPr b="0" lang="zh-CN" sz="1200" spc="-1" strike="noStrike">
                <a:solidFill>
                  <a:srgbClr val="01395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 hidden="1"/>
          <p:cNvSpPr/>
          <p:nvPr/>
        </p:nvSpPr>
        <p:spPr>
          <a:xfrm>
            <a:off x="-11160" y="4083120"/>
            <a:ext cx="12203280" cy="1989000"/>
          </a:xfrm>
          <a:custGeom>
            <a:avLst/>
            <a:gdLst/>
            <a:ahLst/>
            <a:rect l="l" t="t" r="r" b="b"/>
            <a:pathLst>
              <a:path w="12202851" h="1987781">
                <a:moveTo>
                  <a:pt x="11430" y="0"/>
                </a:moveTo>
                <a:cubicBezTo>
                  <a:pt x="3514321" y="1818409"/>
                  <a:pt x="8046951" y="1697875"/>
                  <a:pt x="12202391" y="629689"/>
                </a:cubicBezTo>
                <a:cubicBezTo>
                  <a:pt x="12205855" y="1003762"/>
                  <a:pt x="12188536" y="1613708"/>
                  <a:pt x="12192000" y="1987781"/>
                </a:cubicBezTo>
                <a:lnTo>
                  <a:pt x="0" y="1987781"/>
                </a:lnTo>
                <a:lnTo>
                  <a:pt x="11430" y="0"/>
                </a:lnTo>
                <a:close/>
              </a:path>
            </a:pathLst>
          </a:custGeom>
          <a:solidFill>
            <a:srgbClr val="8bb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9" name="组合 9"/>
          <p:cNvGrpSpPr/>
          <p:nvPr/>
        </p:nvGrpSpPr>
        <p:grpSpPr>
          <a:xfrm>
            <a:off x="0" y="3979800"/>
            <a:ext cx="12203280" cy="2878200"/>
            <a:chOff x="0" y="3979800"/>
            <a:chExt cx="12203280" cy="2878200"/>
          </a:xfrm>
        </p:grpSpPr>
        <p:sp>
          <p:nvSpPr>
            <p:cNvPr id="90" name="矩形 1"/>
            <p:cNvSpPr/>
            <p:nvPr/>
          </p:nvSpPr>
          <p:spPr>
            <a:xfrm>
              <a:off x="0" y="4049280"/>
              <a:ext cx="12203280" cy="2330640"/>
            </a:xfrm>
            <a:custGeom>
              <a:avLst/>
              <a:gdLst/>
              <a:ahLst/>
              <a:rect l="l" t="t" r="r" b="b"/>
              <a:pathLst>
                <a:path w="12202851" h="2330681">
                  <a:moveTo>
                    <a:pt x="0" y="0"/>
                  </a:moveTo>
                  <a:cubicBezTo>
                    <a:pt x="3502891" y="1818409"/>
                    <a:pt x="8046951" y="2097925"/>
                    <a:pt x="12202391" y="1029739"/>
                  </a:cubicBezTo>
                  <a:cubicBezTo>
                    <a:pt x="12205855" y="1403812"/>
                    <a:pt x="12188536" y="1956608"/>
                    <a:pt x="12192000" y="2330681"/>
                  </a:cubicBezTo>
                  <a:lnTo>
                    <a:pt x="0" y="2330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" name="矩形 1"/>
            <p:cNvSpPr/>
            <p:nvPr/>
          </p:nvSpPr>
          <p:spPr>
            <a:xfrm>
              <a:off x="0" y="3979800"/>
              <a:ext cx="12203280" cy="2639520"/>
            </a:xfrm>
            <a:custGeom>
              <a:avLst/>
              <a:gdLst/>
              <a:ahLst/>
              <a:rect l="l" t="t" r="r" b="b"/>
              <a:pathLst>
                <a:path w="12202851" h="2639291">
                  <a:moveTo>
                    <a:pt x="0" y="0"/>
                  </a:moveTo>
                  <a:cubicBezTo>
                    <a:pt x="3502891" y="1818409"/>
                    <a:pt x="8024091" y="2726575"/>
                    <a:pt x="12202391" y="1406929"/>
                  </a:cubicBezTo>
                  <a:cubicBezTo>
                    <a:pt x="12205855" y="1781002"/>
                    <a:pt x="12188536" y="2265218"/>
                    <a:pt x="12192000" y="2639291"/>
                  </a:cubicBezTo>
                  <a:lnTo>
                    <a:pt x="0" y="2639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9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" name="矩形 1"/>
            <p:cNvSpPr/>
            <p:nvPr/>
          </p:nvSpPr>
          <p:spPr>
            <a:xfrm>
              <a:off x="0" y="3989880"/>
              <a:ext cx="12193560" cy="2868120"/>
            </a:xfrm>
            <a:custGeom>
              <a:avLst/>
              <a:gdLst/>
              <a:ahLst/>
              <a:rect l="l" t="t" r="r" b="b"/>
              <a:pathLst>
                <a:path w="12192999" h="2867891">
                  <a:moveTo>
                    <a:pt x="0" y="0"/>
                  </a:moveTo>
                  <a:cubicBezTo>
                    <a:pt x="3502891" y="1818409"/>
                    <a:pt x="8013700" y="3054928"/>
                    <a:pt x="12192000" y="1735282"/>
                  </a:cubicBezTo>
                  <a:cubicBezTo>
                    <a:pt x="12195464" y="2109355"/>
                    <a:pt x="12188536" y="2493818"/>
                    <a:pt x="12192000" y="2867891"/>
                  </a:cubicBezTo>
                  <a:lnTo>
                    <a:pt x="0" y="2867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93" name="矩形 5"/>
          <p:cNvSpPr/>
          <p:nvPr/>
        </p:nvSpPr>
        <p:spPr>
          <a:xfrm>
            <a:off x="8577360" y="0"/>
            <a:ext cx="2446200" cy="1752480"/>
          </a:xfrm>
          <a:prstGeom prst="rect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文本框 6"/>
          <p:cNvSpPr/>
          <p:nvPr/>
        </p:nvSpPr>
        <p:spPr>
          <a:xfrm>
            <a:off x="8758080" y="1057320"/>
            <a:ext cx="24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Impact"/>
              </a:rPr>
              <a:t>2017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1967040"/>
            <a:ext cx="10451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1395c"/>
                </a:solidFill>
                <a:latin typeface="Impact"/>
              </a:rPr>
              <a:t>工作汇报扁平商务</a:t>
            </a:r>
            <a:r>
              <a:rPr b="0" lang="en-US" sz="4000" spc="-1" strike="noStrike">
                <a:solidFill>
                  <a:srgbClr val="01395c"/>
                </a:solidFill>
                <a:latin typeface="Impact"/>
              </a:rPr>
              <a:t>PPT</a:t>
            </a:r>
            <a:r>
              <a:rPr b="0" lang="zh-CN" sz="4000" spc="-1" strike="noStrike">
                <a:solidFill>
                  <a:srgbClr val="01395c"/>
                </a:solidFill>
                <a:latin typeface="Impac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39040" y="3099960"/>
            <a:ext cx="2865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公司名称</a:t>
            </a:r>
            <a:r>
              <a:rPr b="0" lang="en-US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/LOGO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3"/>
          <p:cNvSpPr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9746-D76D-4A8F-AF75-A98B3BB776E6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文本框 5"/>
          <p:cNvSpPr/>
          <p:nvPr/>
        </p:nvSpPr>
        <p:spPr>
          <a:xfrm>
            <a:off x="4086360" y="2146320"/>
            <a:ext cx="96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直接连接符 6"/>
          <p:cNvSpPr/>
          <p:nvPr/>
        </p:nvSpPr>
        <p:spPr>
          <a:xfrm>
            <a:off x="4938840" y="2314440"/>
            <a:ext cx="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文本框 7"/>
          <p:cNvSpPr/>
          <p:nvPr/>
        </p:nvSpPr>
        <p:spPr>
          <a:xfrm>
            <a:off x="5029200" y="2530440"/>
            <a:ext cx="420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企业文化建设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3"/>
          <p:cNvSpPr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D33A-BC1A-45E1-B891-58B425A2E5AC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10" name="组合 4"/>
          <p:cNvGrpSpPr/>
          <p:nvPr/>
        </p:nvGrpSpPr>
        <p:grpSpPr>
          <a:xfrm>
            <a:off x="1108080" y="239760"/>
            <a:ext cx="1623960" cy="468360"/>
            <a:chOff x="1108080" y="239760"/>
            <a:chExt cx="1623960" cy="468360"/>
          </a:xfrm>
        </p:grpSpPr>
        <p:sp>
          <p:nvSpPr>
            <p:cNvPr id="211" name="矩形 5"/>
            <p:cNvSpPr/>
            <p:nvPr/>
          </p:nvSpPr>
          <p:spPr>
            <a:xfrm>
              <a:off x="1108080" y="239760"/>
              <a:ext cx="159156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" name="文本框 6"/>
            <p:cNvSpPr/>
            <p:nvPr/>
          </p:nvSpPr>
          <p:spPr>
            <a:xfrm>
              <a:off x="1140480" y="274320"/>
              <a:ext cx="159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13" name="组合 14"/>
          <p:cNvGrpSpPr/>
          <p:nvPr/>
        </p:nvGrpSpPr>
        <p:grpSpPr>
          <a:xfrm>
            <a:off x="1392120" y="992160"/>
            <a:ext cx="9205920" cy="2352600"/>
            <a:chOff x="1392120" y="992160"/>
            <a:chExt cx="9205920" cy="2352600"/>
          </a:xfrm>
        </p:grpSpPr>
        <p:sp>
          <p:nvSpPr>
            <p:cNvPr id="214" name="圆角矩形 8"/>
            <p:cNvSpPr/>
            <p:nvPr/>
          </p:nvSpPr>
          <p:spPr>
            <a:xfrm>
              <a:off x="1922760" y="1537560"/>
              <a:ext cx="8675280" cy="180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13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" name="文本框 10"/>
            <p:cNvSpPr/>
            <p:nvPr/>
          </p:nvSpPr>
          <p:spPr>
            <a:xfrm>
              <a:off x="2868120" y="1299960"/>
              <a:ext cx="205740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</a:rPr>
                <a:t>       </a:t>
              </a:r>
              <a:r>
                <a:rPr b="1" lang="zh-CN" sz="1800" spc="-1" strike="noStrike">
                  <a:solidFill>
                    <a:srgbClr val="01395c"/>
                  </a:solidFill>
                  <a:latin typeface="Impact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216" name="组合 12"/>
            <p:cNvGrpSpPr/>
            <p:nvPr/>
          </p:nvGrpSpPr>
          <p:grpSpPr>
            <a:xfrm>
              <a:off x="1392120" y="992160"/>
              <a:ext cx="1210320" cy="1211040"/>
              <a:chOff x="1392120" y="992160"/>
              <a:chExt cx="1210320" cy="1211040"/>
            </a:xfrm>
          </p:grpSpPr>
          <p:sp>
            <p:nvSpPr>
              <p:cNvPr id="217" name="椭圆 7"/>
              <p:cNvSpPr/>
              <p:nvPr/>
            </p:nvSpPr>
            <p:spPr>
              <a:xfrm>
                <a:off x="1392120" y="992160"/>
                <a:ext cx="1210320" cy="121104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18" name="文本框 11"/>
              <p:cNvSpPr/>
              <p:nvPr/>
            </p:nvSpPr>
            <p:spPr>
              <a:xfrm>
                <a:off x="1753560" y="1076760"/>
                <a:ext cx="696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219" name="文本框 13"/>
            <p:cNvSpPr/>
            <p:nvPr/>
          </p:nvSpPr>
          <p:spPr>
            <a:xfrm>
              <a:off x="2491200" y="1841400"/>
              <a:ext cx="8106840" cy="13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1392120" y="3652920"/>
            <a:ext cx="9205920" cy="2351160"/>
            <a:chOff x="1392120" y="3652920"/>
            <a:chExt cx="9205920" cy="2351160"/>
          </a:xfrm>
        </p:grpSpPr>
        <p:sp>
          <p:nvSpPr>
            <p:cNvPr id="221" name="圆角矩形 16"/>
            <p:cNvSpPr/>
            <p:nvPr/>
          </p:nvSpPr>
          <p:spPr>
            <a:xfrm>
              <a:off x="1922760" y="4198320"/>
              <a:ext cx="8675280" cy="1805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13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" name="文本框 17"/>
            <p:cNvSpPr/>
            <p:nvPr/>
          </p:nvSpPr>
          <p:spPr>
            <a:xfrm>
              <a:off x="2868120" y="4013640"/>
              <a:ext cx="205740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</a:rPr>
                <a:t>   </a:t>
              </a: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223" name="组合 18"/>
            <p:cNvGrpSpPr/>
            <p:nvPr/>
          </p:nvGrpSpPr>
          <p:grpSpPr>
            <a:xfrm>
              <a:off x="1392120" y="3652920"/>
              <a:ext cx="1210320" cy="1209960"/>
              <a:chOff x="1392120" y="3652920"/>
              <a:chExt cx="1210320" cy="1209960"/>
            </a:xfrm>
          </p:grpSpPr>
          <p:sp>
            <p:nvSpPr>
              <p:cNvPr id="224" name="椭圆 20"/>
              <p:cNvSpPr/>
              <p:nvPr/>
            </p:nvSpPr>
            <p:spPr>
              <a:xfrm>
                <a:off x="1392120" y="3652920"/>
                <a:ext cx="1210320" cy="120996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25" name="文本框 21"/>
              <p:cNvSpPr/>
              <p:nvPr/>
            </p:nvSpPr>
            <p:spPr>
              <a:xfrm>
                <a:off x="1753560" y="3737520"/>
                <a:ext cx="696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226" name="文本框 19"/>
            <p:cNvSpPr/>
            <p:nvPr/>
          </p:nvSpPr>
          <p:spPr>
            <a:xfrm>
              <a:off x="2491200" y="4449600"/>
              <a:ext cx="8106840" cy="13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1"/>
          <p:cNvSpPr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7B35-7738-4705-9A32-7DA9131B23A2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28" name="组合 2"/>
          <p:cNvGrpSpPr/>
          <p:nvPr/>
        </p:nvGrpSpPr>
        <p:grpSpPr>
          <a:xfrm>
            <a:off x="1108080" y="239760"/>
            <a:ext cx="1623960" cy="468360"/>
            <a:chOff x="1108080" y="239760"/>
            <a:chExt cx="1623960" cy="468360"/>
          </a:xfrm>
        </p:grpSpPr>
        <p:sp>
          <p:nvSpPr>
            <p:cNvPr id="229" name="矩形 3"/>
            <p:cNvSpPr/>
            <p:nvPr/>
          </p:nvSpPr>
          <p:spPr>
            <a:xfrm>
              <a:off x="1108080" y="239760"/>
              <a:ext cx="159156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" name="文本框 4"/>
            <p:cNvSpPr/>
            <p:nvPr/>
          </p:nvSpPr>
          <p:spPr>
            <a:xfrm>
              <a:off x="1140480" y="274320"/>
              <a:ext cx="159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31" name="圆角矩形 6"/>
          <p:cNvSpPr/>
          <p:nvPr/>
        </p:nvSpPr>
        <p:spPr>
          <a:xfrm>
            <a:off x="1922400" y="1538280"/>
            <a:ext cx="8675640" cy="1806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文本框 7"/>
          <p:cNvSpPr/>
          <p:nvPr/>
        </p:nvSpPr>
        <p:spPr>
          <a:xfrm>
            <a:off x="2868480" y="1352520"/>
            <a:ext cx="21672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1392120" y="992160"/>
            <a:ext cx="1209960" cy="1211400"/>
          </a:xfrm>
          <a:prstGeom prst="ellipse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文本框 11"/>
          <p:cNvSpPr/>
          <p:nvPr/>
        </p:nvSpPr>
        <p:spPr>
          <a:xfrm>
            <a:off x="1690560" y="107640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文本框 9"/>
          <p:cNvSpPr/>
          <p:nvPr/>
        </p:nvSpPr>
        <p:spPr>
          <a:xfrm>
            <a:off x="2490840" y="1789200"/>
            <a:ext cx="81072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圆角矩形 13"/>
          <p:cNvSpPr/>
          <p:nvPr/>
        </p:nvSpPr>
        <p:spPr>
          <a:xfrm>
            <a:off x="1922400" y="4197240"/>
            <a:ext cx="8675640" cy="1806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7" name="文本框 14"/>
          <p:cNvSpPr/>
          <p:nvPr/>
        </p:nvSpPr>
        <p:spPr>
          <a:xfrm>
            <a:off x="2868480" y="4013280"/>
            <a:ext cx="21672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椭圆 17"/>
          <p:cNvSpPr/>
          <p:nvPr/>
        </p:nvSpPr>
        <p:spPr>
          <a:xfrm>
            <a:off x="1392120" y="3652920"/>
            <a:ext cx="1209960" cy="1209600"/>
          </a:xfrm>
          <a:prstGeom prst="ellipse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文本框 18"/>
          <p:cNvSpPr/>
          <p:nvPr/>
        </p:nvSpPr>
        <p:spPr>
          <a:xfrm>
            <a:off x="1690560" y="373068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0" name="文本框 16"/>
          <p:cNvSpPr/>
          <p:nvPr/>
        </p:nvSpPr>
        <p:spPr>
          <a:xfrm>
            <a:off x="2490840" y="4449600"/>
            <a:ext cx="81072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7920" y="11397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1395c"/>
                </a:solidFill>
                <a:latin typeface="Impact"/>
              </a:rPr>
              <a:t>感谢聆听</a:t>
            </a:r>
            <a:br>
              <a:rPr sz="6000"/>
            </a:br>
            <a:r>
              <a:rPr b="0" lang="zh-CN" sz="6000" spc="-1" strike="noStrike">
                <a:solidFill>
                  <a:srgbClr val="01395c"/>
                </a:solidFill>
                <a:latin typeface="Impact"/>
              </a:rPr>
              <a:t>请批评指正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0" y="3979800"/>
            <a:ext cx="12203280" cy="2878200"/>
            <a:chOff x="0" y="3979800"/>
            <a:chExt cx="12203280" cy="2878200"/>
          </a:xfrm>
        </p:grpSpPr>
        <p:sp>
          <p:nvSpPr>
            <p:cNvPr id="243" name="矩形 1"/>
            <p:cNvSpPr/>
            <p:nvPr/>
          </p:nvSpPr>
          <p:spPr>
            <a:xfrm>
              <a:off x="0" y="4049280"/>
              <a:ext cx="12203280" cy="2330640"/>
            </a:xfrm>
            <a:custGeom>
              <a:avLst/>
              <a:gdLst/>
              <a:ahLst/>
              <a:rect l="l" t="t" r="r" b="b"/>
              <a:pathLst>
                <a:path w="12202851" h="2330681">
                  <a:moveTo>
                    <a:pt x="0" y="0"/>
                  </a:moveTo>
                  <a:cubicBezTo>
                    <a:pt x="3502891" y="1818409"/>
                    <a:pt x="8046951" y="2097925"/>
                    <a:pt x="12202391" y="1029739"/>
                  </a:cubicBezTo>
                  <a:cubicBezTo>
                    <a:pt x="12205855" y="1403812"/>
                    <a:pt x="12188536" y="1956608"/>
                    <a:pt x="12192000" y="2330681"/>
                  </a:cubicBezTo>
                  <a:lnTo>
                    <a:pt x="0" y="2330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4" name="矩形 1"/>
            <p:cNvSpPr/>
            <p:nvPr/>
          </p:nvSpPr>
          <p:spPr>
            <a:xfrm>
              <a:off x="0" y="3979800"/>
              <a:ext cx="12203280" cy="2639520"/>
            </a:xfrm>
            <a:custGeom>
              <a:avLst/>
              <a:gdLst/>
              <a:ahLst/>
              <a:rect l="l" t="t" r="r" b="b"/>
              <a:pathLst>
                <a:path w="12202851" h="2639291">
                  <a:moveTo>
                    <a:pt x="0" y="0"/>
                  </a:moveTo>
                  <a:cubicBezTo>
                    <a:pt x="3502891" y="1818409"/>
                    <a:pt x="8024091" y="2726575"/>
                    <a:pt x="12202391" y="1406929"/>
                  </a:cubicBezTo>
                  <a:cubicBezTo>
                    <a:pt x="12205855" y="1781002"/>
                    <a:pt x="12188536" y="2265218"/>
                    <a:pt x="12192000" y="2639291"/>
                  </a:cubicBezTo>
                  <a:lnTo>
                    <a:pt x="0" y="2639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9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5" name="矩形 1"/>
            <p:cNvSpPr/>
            <p:nvPr/>
          </p:nvSpPr>
          <p:spPr>
            <a:xfrm>
              <a:off x="0" y="3989880"/>
              <a:ext cx="12193560" cy="2868120"/>
            </a:xfrm>
            <a:custGeom>
              <a:avLst/>
              <a:gdLst/>
              <a:ahLst/>
              <a:rect l="l" t="t" r="r" b="b"/>
              <a:pathLst>
                <a:path w="12192999" h="2867891">
                  <a:moveTo>
                    <a:pt x="0" y="0"/>
                  </a:moveTo>
                  <a:cubicBezTo>
                    <a:pt x="3502891" y="1818409"/>
                    <a:pt x="8013700" y="3054928"/>
                    <a:pt x="12192000" y="1735282"/>
                  </a:cubicBezTo>
                  <a:cubicBezTo>
                    <a:pt x="12195464" y="2109355"/>
                    <a:pt x="12188536" y="2493818"/>
                    <a:pt x="12192000" y="2867891"/>
                  </a:cubicBezTo>
                  <a:lnTo>
                    <a:pt x="0" y="2867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3"/>
          <p:cNvSpPr/>
          <p:nvPr/>
        </p:nvSpPr>
        <p:spPr>
          <a:xfrm>
            <a:off x="8610480" y="64245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573-CD29-4372-AB1F-2101B2A8EC08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9" name="组合 25"/>
          <p:cNvGrpSpPr/>
          <p:nvPr/>
        </p:nvGrpSpPr>
        <p:grpSpPr>
          <a:xfrm>
            <a:off x="2994120" y="1039680"/>
            <a:ext cx="6024600" cy="696960"/>
            <a:chOff x="2994120" y="1039680"/>
            <a:chExt cx="6024600" cy="696960"/>
          </a:xfrm>
        </p:grpSpPr>
        <p:sp>
          <p:nvSpPr>
            <p:cNvPr id="100" name="矩形 5"/>
            <p:cNvSpPr/>
            <p:nvPr/>
          </p:nvSpPr>
          <p:spPr>
            <a:xfrm>
              <a:off x="3439800" y="1062360"/>
              <a:ext cx="5578920" cy="6512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" name="椭圆 4"/>
            <p:cNvSpPr/>
            <p:nvPr/>
          </p:nvSpPr>
          <p:spPr>
            <a:xfrm>
              <a:off x="2994120" y="103968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" name="文本框 6"/>
            <p:cNvSpPr/>
            <p:nvPr/>
          </p:nvSpPr>
          <p:spPr>
            <a:xfrm>
              <a:off x="3159720" y="111420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" name="文本框 7"/>
            <p:cNvSpPr/>
            <p:nvPr/>
          </p:nvSpPr>
          <p:spPr>
            <a:xfrm>
              <a:off x="4270680" y="1144800"/>
              <a:ext cx="416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2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04" name="组合 36"/>
          <p:cNvGrpSpPr/>
          <p:nvPr/>
        </p:nvGrpSpPr>
        <p:grpSpPr>
          <a:xfrm>
            <a:off x="2994120" y="2000160"/>
            <a:ext cx="6064200" cy="696960"/>
            <a:chOff x="2994120" y="2000160"/>
            <a:chExt cx="6064200" cy="696960"/>
          </a:xfrm>
        </p:grpSpPr>
        <p:sp>
          <p:nvSpPr>
            <p:cNvPr id="105" name="矩形 10"/>
            <p:cNvSpPr/>
            <p:nvPr/>
          </p:nvSpPr>
          <p:spPr>
            <a:xfrm>
              <a:off x="3439800" y="2022840"/>
              <a:ext cx="5578560" cy="6512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" name="椭圆 11"/>
            <p:cNvSpPr/>
            <p:nvPr/>
          </p:nvSpPr>
          <p:spPr>
            <a:xfrm>
              <a:off x="2994120" y="200016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" name="文本框 12"/>
            <p:cNvSpPr/>
            <p:nvPr/>
          </p:nvSpPr>
          <p:spPr>
            <a:xfrm>
              <a:off x="3159720" y="207468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" name="文本框 13"/>
            <p:cNvSpPr/>
            <p:nvPr/>
          </p:nvSpPr>
          <p:spPr>
            <a:xfrm>
              <a:off x="3788280" y="2142360"/>
              <a:ext cx="52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2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09" name="组合 26"/>
          <p:cNvGrpSpPr/>
          <p:nvPr/>
        </p:nvGrpSpPr>
        <p:grpSpPr>
          <a:xfrm>
            <a:off x="2973240" y="3008160"/>
            <a:ext cx="6024600" cy="696960"/>
            <a:chOff x="2973240" y="3008160"/>
            <a:chExt cx="6024600" cy="696960"/>
          </a:xfrm>
        </p:grpSpPr>
        <p:sp>
          <p:nvSpPr>
            <p:cNvPr id="110" name="矩形 27"/>
            <p:cNvSpPr/>
            <p:nvPr/>
          </p:nvSpPr>
          <p:spPr>
            <a:xfrm>
              <a:off x="3418920" y="3030840"/>
              <a:ext cx="5578920" cy="6512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" name="椭圆 28"/>
            <p:cNvSpPr/>
            <p:nvPr/>
          </p:nvSpPr>
          <p:spPr>
            <a:xfrm>
              <a:off x="2973240" y="300816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" name="文本框 29"/>
            <p:cNvSpPr/>
            <p:nvPr/>
          </p:nvSpPr>
          <p:spPr>
            <a:xfrm>
              <a:off x="3138840" y="308268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" name="文本框 30"/>
            <p:cNvSpPr/>
            <p:nvPr/>
          </p:nvSpPr>
          <p:spPr>
            <a:xfrm>
              <a:off x="5297760" y="3144240"/>
              <a:ext cx="25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2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4" name="组合 31"/>
          <p:cNvGrpSpPr/>
          <p:nvPr/>
        </p:nvGrpSpPr>
        <p:grpSpPr>
          <a:xfrm>
            <a:off x="2994120" y="4062240"/>
            <a:ext cx="6024600" cy="696960"/>
            <a:chOff x="2994120" y="4062240"/>
            <a:chExt cx="6024600" cy="696960"/>
          </a:xfrm>
        </p:grpSpPr>
        <p:sp>
          <p:nvSpPr>
            <p:cNvPr id="115" name="矩形 32"/>
            <p:cNvSpPr/>
            <p:nvPr/>
          </p:nvSpPr>
          <p:spPr>
            <a:xfrm>
              <a:off x="3439800" y="4084920"/>
              <a:ext cx="5578920" cy="6512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" name="椭圆 33"/>
            <p:cNvSpPr/>
            <p:nvPr/>
          </p:nvSpPr>
          <p:spPr>
            <a:xfrm>
              <a:off x="2994120" y="406224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" name="文本框 34"/>
            <p:cNvSpPr/>
            <p:nvPr/>
          </p:nvSpPr>
          <p:spPr>
            <a:xfrm>
              <a:off x="3159720" y="413676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" name="文本框 35"/>
            <p:cNvSpPr/>
            <p:nvPr/>
          </p:nvSpPr>
          <p:spPr>
            <a:xfrm>
              <a:off x="5093640" y="4163040"/>
              <a:ext cx="25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2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9" name="矩形 37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3"/>
          <p:cNvSpPr/>
          <p:nvPr/>
        </p:nvSpPr>
        <p:spPr>
          <a:xfrm>
            <a:off x="8610480" y="64263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649-814D-4C67-A61F-4BCA53DAA02B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2627280" y="2058840"/>
            <a:ext cx="96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直接连接符 7"/>
          <p:cNvSpPr/>
          <p:nvPr/>
        </p:nvSpPr>
        <p:spPr>
          <a:xfrm>
            <a:off x="3375000" y="2225520"/>
            <a:ext cx="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3463920" y="2441520"/>
            <a:ext cx="711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风廉政和惩防体系建设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3"/>
          <p:cNvSpPr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44AC-68DF-4568-9EBA-0AEC0991B614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6" name="组合 22"/>
          <p:cNvGrpSpPr/>
          <p:nvPr/>
        </p:nvGrpSpPr>
        <p:grpSpPr>
          <a:xfrm>
            <a:off x="1108080" y="239760"/>
            <a:ext cx="2846520" cy="468360"/>
            <a:chOff x="1108080" y="239760"/>
            <a:chExt cx="2846520" cy="468360"/>
          </a:xfrm>
        </p:grpSpPr>
        <p:sp>
          <p:nvSpPr>
            <p:cNvPr id="127" name="矩形 6"/>
            <p:cNvSpPr/>
            <p:nvPr/>
          </p:nvSpPr>
          <p:spPr>
            <a:xfrm>
              <a:off x="1108080" y="239760"/>
              <a:ext cx="27896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8" name="文本框 5"/>
            <p:cNvSpPr/>
            <p:nvPr/>
          </p:nvSpPr>
          <p:spPr>
            <a:xfrm>
              <a:off x="1164960" y="27432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29" name="圆角矩形 7"/>
          <p:cNvSpPr/>
          <p:nvPr/>
        </p:nvSpPr>
        <p:spPr>
          <a:xfrm>
            <a:off x="102888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文本框 10"/>
          <p:cNvSpPr/>
          <p:nvPr/>
        </p:nvSpPr>
        <p:spPr>
          <a:xfrm>
            <a:off x="1284120" y="1630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圆角矩形 12"/>
          <p:cNvSpPr/>
          <p:nvPr/>
        </p:nvSpPr>
        <p:spPr>
          <a:xfrm>
            <a:off x="487692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圆角矩形 13"/>
          <p:cNvSpPr/>
          <p:nvPr/>
        </p:nvSpPr>
        <p:spPr>
          <a:xfrm>
            <a:off x="872496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132520" y="163188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9015480" y="1631880"/>
            <a:ext cx="24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463680" y="2720880"/>
            <a:ext cx="3508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4468680" y="2720880"/>
            <a:ext cx="345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8451720" y="2720880"/>
            <a:ext cx="328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直接连接符 20"/>
          <p:cNvSpPr/>
          <p:nvPr/>
        </p:nvSpPr>
        <p:spPr>
          <a:xfrm>
            <a:off x="4194000" y="1200240"/>
            <a:ext cx="0" cy="48686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直接连接符 21"/>
          <p:cNvSpPr/>
          <p:nvPr/>
        </p:nvSpPr>
        <p:spPr>
          <a:xfrm>
            <a:off x="8150400" y="1200240"/>
            <a:ext cx="0" cy="48686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3"/>
          <p:cNvSpPr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4BE-8DC2-4BB7-9781-9DAD52FC9F18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文本框 5"/>
          <p:cNvSpPr/>
          <p:nvPr/>
        </p:nvSpPr>
        <p:spPr>
          <a:xfrm>
            <a:off x="1484280" y="2146320"/>
            <a:ext cx="96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直接连接符 6"/>
          <p:cNvSpPr/>
          <p:nvPr/>
        </p:nvSpPr>
        <p:spPr>
          <a:xfrm>
            <a:off x="2319480" y="2314440"/>
            <a:ext cx="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文本框 7"/>
          <p:cNvSpPr/>
          <p:nvPr/>
        </p:nvSpPr>
        <p:spPr>
          <a:xfrm>
            <a:off x="2409840" y="2530440"/>
            <a:ext cx="87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员干部队伍和基层党组织建设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3"/>
          <p:cNvSpPr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62AD-D43E-4BD3-B1A6-876A17D95C55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1108080" y="239760"/>
            <a:ext cx="3635280" cy="468360"/>
            <a:chOff x="1108080" y="239760"/>
            <a:chExt cx="3635280" cy="468360"/>
          </a:xfrm>
        </p:grpSpPr>
        <p:sp>
          <p:nvSpPr>
            <p:cNvPr id="147" name="矩形 4"/>
            <p:cNvSpPr/>
            <p:nvPr/>
          </p:nvSpPr>
          <p:spPr>
            <a:xfrm>
              <a:off x="1108080" y="239760"/>
              <a:ext cx="3475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8" name="文本框 5"/>
            <p:cNvSpPr/>
            <p:nvPr/>
          </p:nvSpPr>
          <p:spPr>
            <a:xfrm>
              <a:off x="1164960" y="274320"/>
              <a:ext cx="35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49" name="文本框 11"/>
          <p:cNvSpPr/>
          <p:nvPr/>
        </p:nvSpPr>
        <p:spPr>
          <a:xfrm>
            <a:off x="1771560" y="1292400"/>
            <a:ext cx="4183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50" name="组合 26"/>
          <p:cNvGrpSpPr/>
          <p:nvPr/>
        </p:nvGrpSpPr>
        <p:grpSpPr>
          <a:xfrm>
            <a:off x="1050840" y="1292400"/>
            <a:ext cx="595440" cy="593640"/>
            <a:chOff x="1050840" y="1292400"/>
            <a:chExt cx="595440" cy="593640"/>
          </a:xfrm>
        </p:grpSpPr>
        <p:sp>
          <p:nvSpPr>
            <p:cNvPr id="151" name="椭圆 6"/>
            <p:cNvSpPr/>
            <p:nvPr/>
          </p:nvSpPr>
          <p:spPr>
            <a:xfrm>
              <a:off x="1050840" y="1292400"/>
              <a:ext cx="595440" cy="59364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" name="文本框 13"/>
            <p:cNvSpPr/>
            <p:nvPr/>
          </p:nvSpPr>
          <p:spPr>
            <a:xfrm>
              <a:off x="1211040" y="142740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53" name="文本框 12"/>
          <p:cNvSpPr/>
          <p:nvPr/>
        </p:nvSpPr>
        <p:spPr>
          <a:xfrm>
            <a:off x="1771560" y="3943440"/>
            <a:ext cx="321156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1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2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3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4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54" name="组合 27"/>
          <p:cNvGrpSpPr/>
          <p:nvPr/>
        </p:nvGrpSpPr>
        <p:grpSpPr>
          <a:xfrm>
            <a:off x="1050840" y="3943440"/>
            <a:ext cx="595440" cy="595080"/>
            <a:chOff x="1050840" y="3943440"/>
            <a:chExt cx="595440" cy="595080"/>
          </a:xfrm>
        </p:grpSpPr>
        <p:sp>
          <p:nvSpPr>
            <p:cNvPr id="155" name="椭圆 7"/>
            <p:cNvSpPr/>
            <p:nvPr/>
          </p:nvSpPr>
          <p:spPr>
            <a:xfrm>
              <a:off x="1050840" y="3943440"/>
              <a:ext cx="595440" cy="59508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" name="文本框 14"/>
            <p:cNvSpPr/>
            <p:nvPr/>
          </p:nvSpPr>
          <p:spPr>
            <a:xfrm>
              <a:off x="1211040" y="4056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57" name="文本框 18"/>
          <p:cNvSpPr/>
          <p:nvPr/>
        </p:nvSpPr>
        <p:spPr>
          <a:xfrm>
            <a:off x="7207200" y="3943440"/>
            <a:ext cx="34909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58" name="组合 29"/>
          <p:cNvGrpSpPr/>
          <p:nvPr/>
        </p:nvGrpSpPr>
        <p:grpSpPr>
          <a:xfrm>
            <a:off x="6486480" y="3943440"/>
            <a:ext cx="593640" cy="595080"/>
            <a:chOff x="6486480" y="3943440"/>
            <a:chExt cx="593640" cy="595080"/>
          </a:xfrm>
        </p:grpSpPr>
        <p:sp>
          <p:nvSpPr>
            <p:cNvPr id="159" name="椭圆 17"/>
            <p:cNvSpPr/>
            <p:nvPr/>
          </p:nvSpPr>
          <p:spPr>
            <a:xfrm>
              <a:off x="6486480" y="3943440"/>
              <a:ext cx="593640" cy="59508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0" name="文本框 19"/>
            <p:cNvSpPr/>
            <p:nvPr/>
          </p:nvSpPr>
          <p:spPr>
            <a:xfrm>
              <a:off x="6646320" y="4056120"/>
              <a:ext cx="3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1" name="组合 32"/>
          <p:cNvGrpSpPr/>
          <p:nvPr/>
        </p:nvGrpSpPr>
        <p:grpSpPr>
          <a:xfrm>
            <a:off x="6486480" y="1314360"/>
            <a:ext cx="4859280" cy="1757880"/>
            <a:chOff x="6486480" y="1314360"/>
            <a:chExt cx="4859280" cy="1757880"/>
          </a:xfrm>
        </p:grpSpPr>
        <p:sp>
          <p:nvSpPr>
            <p:cNvPr id="162" name="文本框 23"/>
            <p:cNvSpPr/>
            <p:nvPr/>
          </p:nvSpPr>
          <p:spPr>
            <a:xfrm>
              <a:off x="7206480" y="1314360"/>
              <a:ext cx="413928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63" name="组合 28"/>
            <p:cNvGrpSpPr/>
            <p:nvPr/>
          </p:nvGrpSpPr>
          <p:grpSpPr>
            <a:xfrm>
              <a:off x="6486480" y="1314360"/>
              <a:ext cx="594000" cy="594000"/>
              <a:chOff x="6486480" y="1314360"/>
              <a:chExt cx="594000" cy="594000"/>
            </a:xfrm>
          </p:grpSpPr>
          <p:sp>
            <p:nvSpPr>
              <p:cNvPr id="164" name="椭圆 22"/>
              <p:cNvSpPr/>
              <p:nvPr/>
            </p:nvSpPr>
            <p:spPr>
              <a:xfrm>
                <a:off x="6486480" y="1314360"/>
                <a:ext cx="594000" cy="59400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5" name="文本框 24"/>
              <p:cNvSpPr/>
              <p:nvPr/>
            </p:nvSpPr>
            <p:spPr>
              <a:xfrm>
                <a:off x="6646320" y="1426680"/>
                <a:ext cx="33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3"/>
          <p:cNvSpPr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087-F23A-4CF2-9452-AA989A123038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7" name="组合 4"/>
          <p:cNvGrpSpPr/>
          <p:nvPr/>
        </p:nvGrpSpPr>
        <p:grpSpPr>
          <a:xfrm>
            <a:off x="1108080" y="239760"/>
            <a:ext cx="3635280" cy="468360"/>
            <a:chOff x="1108080" y="239760"/>
            <a:chExt cx="3635280" cy="468360"/>
          </a:xfrm>
        </p:grpSpPr>
        <p:sp>
          <p:nvSpPr>
            <p:cNvPr id="168" name="矩形 5"/>
            <p:cNvSpPr/>
            <p:nvPr/>
          </p:nvSpPr>
          <p:spPr>
            <a:xfrm>
              <a:off x="1108080" y="239760"/>
              <a:ext cx="3475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9" name="文本框 6"/>
            <p:cNvSpPr/>
            <p:nvPr/>
          </p:nvSpPr>
          <p:spPr>
            <a:xfrm>
              <a:off x="1164960" y="274320"/>
              <a:ext cx="35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70" name="文本框 8"/>
          <p:cNvSpPr/>
          <p:nvPr/>
        </p:nvSpPr>
        <p:spPr>
          <a:xfrm>
            <a:off x="1752480" y="1797120"/>
            <a:ext cx="47102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1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2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3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4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</a:rPr>
              <a:t>5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1" name="组合 9"/>
          <p:cNvGrpSpPr/>
          <p:nvPr/>
        </p:nvGrpSpPr>
        <p:grpSpPr>
          <a:xfrm>
            <a:off x="1046160" y="1797120"/>
            <a:ext cx="593640" cy="593640"/>
            <a:chOff x="1046160" y="1797120"/>
            <a:chExt cx="593640" cy="593640"/>
          </a:xfrm>
        </p:grpSpPr>
        <p:sp>
          <p:nvSpPr>
            <p:cNvPr id="172" name="椭圆 10"/>
            <p:cNvSpPr/>
            <p:nvPr/>
          </p:nvSpPr>
          <p:spPr>
            <a:xfrm>
              <a:off x="1046160" y="1797120"/>
              <a:ext cx="593640" cy="59364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1206000" y="1932120"/>
              <a:ext cx="3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74" name="组合 12"/>
          <p:cNvGrpSpPr/>
          <p:nvPr/>
        </p:nvGrpSpPr>
        <p:grpSpPr>
          <a:xfrm>
            <a:off x="6324480" y="1797120"/>
            <a:ext cx="5021280" cy="2032200"/>
            <a:chOff x="6324480" y="1797120"/>
            <a:chExt cx="5021280" cy="2032200"/>
          </a:xfrm>
        </p:grpSpPr>
        <p:sp>
          <p:nvSpPr>
            <p:cNvPr id="175" name="文本框 13"/>
            <p:cNvSpPr/>
            <p:nvPr/>
          </p:nvSpPr>
          <p:spPr>
            <a:xfrm>
              <a:off x="7044480" y="1797120"/>
              <a:ext cx="4301280" cy="20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</a:rPr>
                <a:t>1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</a:rPr>
                <a:t>2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</a:rPr>
                <a:t>3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</a:rPr>
                <a:t>4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</a:rPr>
                <a:t>5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76" name="组合 14"/>
            <p:cNvGrpSpPr/>
            <p:nvPr/>
          </p:nvGrpSpPr>
          <p:grpSpPr>
            <a:xfrm>
              <a:off x="6324480" y="1797120"/>
              <a:ext cx="594360" cy="594000"/>
              <a:chOff x="6324480" y="1797120"/>
              <a:chExt cx="594360" cy="594000"/>
            </a:xfrm>
          </p:grpSpPr>
          <p:sp>
            <p:nvSpPr>
              <p:cNvPr id="177" name="椭圆 15"/>
              <p:cNvSpPr/>
              <p:nvPr/>
            </p:nvSpPr>
            <p:spPr>
              <a:xfrm>
                <a:off x="6324480" y="1797120"/>
                <a:ext cx="594360" cy="59400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" name="文本框 16"/>
              <p:cNvSpPr/>
              <p:nvPr/>
            </p:nvSpPr>
            <p:spPr>
              <a:xfrm>
                <a:off x="6455880" y="193248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1AB4-BE38-4065-ACF8-59860A38BA9B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4086360" y="2146320"/>
            <a:ext cx="96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直接连接符 6"/>
          <p:cNvSpPr/>
          <p:nvPr/>
        </p:nvSpPr>
        <p:spPr>
          <a:xfrm>
            <a:off x="4938840" y="2314440"/>
            <a:ext cx="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文本框 7"/>
          <p:cNvSpPr/>
          <p:nvPr/>
        </p:nvSpPr>
        <p:spPr>
          <a:xfrm>
            <a:off x="5029200" y="253044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作风建设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01760" y="5891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8610480" y="648000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9067-425A-4C76-9846-C73DA0B1126D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86" name="组合 7"/>
          <p:cNvGrpSpPr/>
          <p:nvPr/>
        </p:nvGrpSpPr>
        <p:grpSpPr>
          <a:xfrm>
            <a:off x="1108080" y="239760"/>
            <a:ext cx="1670040" cy="468360"/>
            <a:chOff x="1108080" y="239760"/>
            <a:chExt cx="1670040" cy="468360"/>
          </a:xfrm>
        </p:grpSpPr>
        <p:sp>
          <p:nvSpPr>
            <p:cNvPr id="187" name="矩形 5"/>
            <p:cNvSpPr/>
            <p:nvPr/>
          </p:nvSpPr>
          <p:spPr>
            <a:xfrm>
              <a:off x="1108080" y="239760"/>
              <a:ext cx="1468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" name="文本框 6"/>
            <p:cNvSpPr/>
            <p:nvPr/>
          </p:nvSpPr>
          <p:spPr>
            <a:xfrm>
              <a:off x="1309680" y="289440"/>
              <a:ext cx="14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89" name="文本框 9"/>
          <p:cNvSpPr/>
          <p:nvPr/>
        </p:nvSpPr>
        <p:spPr>
          <a:xfrm>
            <a:off x="1554120" y="216072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文本框 10"/>
          <p:cNvSpPr/>
          <p:nvPr/>
        </p:nvSpPr>
        <p:spPr>
          <a:xfrm>
            <a:off x="835200" y="2917800"/>
            <a:ext cx="348588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91" name="组合 24"/>
          <p:cNvGrpSpPr/>
          <p:nvPr/>
        </p:nvGrpSpPr>
        <p:grpSpPr>
          <a:xfrm>
            <a:off x="650880" y="1855800"/>
            <a:ext cx="927000" cy="925560"/>
            <a:chOff x="650880" y="1855800"/>
            <a:chExt cx="927000" cy="925560"/>
          </a:xfrm>
        </p:grpSpPr>
        <p:sp>
          <p:nvSpPr>
            <p:cNvPr id="192" name="椭圆 8"/>
            <p:cNvSpPr/>
            <p:nvPr/>
          </p:nvSpPr>
          <p:spPr>
            <a:xfrm>
              <a:off x="650880" y="1855800"/>
              <a:ext cx="92700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" name="文本框 11"/>
            <p:cNvSpPr/>
            <p:nvPr/>
          </p:nvSpPr>
          <p:spPr>
            <a:xfrm>
              <a:off x="879840" y="1902960"/>
              <a:ext cx="42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94" name="文本框 15"/>
          <p:cNvSpPr/>
          <p:nvPr/>
        </p:nvSpPr>
        <p:spPr>
          <a:xfrm>
            <a:off x="5257800" y="216072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文本框 16"/>
          <p:cNvSpPr/>
          <p:nvPr/>
        </p:nvSpPr>
        <p:spPr>
          <a:xfrm>
            <a:off x="4537080" y="2917800"/>
            <a:ext cx="34862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文本框 20"/>
          <p:cNvSpPr/>
          <p:nvPr/>
        </p:nvSpPr>
        <p:spPr>
          <a:xfrm>
            <a:off x="9029880" y="216072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文本框 21"/>
          <p:cNvSpPr/>
          <p:nvPr/>
        </p:nvSpPr>
        <p:spPr>
          <a:xfrm>
            <a:off x="8308800" y="2917800"/>
            <a:ext cx="348624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98" name="组合 25"/>
          <p:cNvGrpSpPr/>
          <p:nvPr/>
        </p:nvGrpSpPr>
        <p:grpSpPr>
          <a:xfrm>
            <a:off x="4343400" y="1855800"/>
            <a:ext cx="925560" cy="925560"/>
            <a:chOff x="4343400" y="1855800"/>
            <a:chExt cx="925560" cy="925560"/>
          </a:xfrm>
        </p:grpSpPr>
        <p:sp>
          <p:nvSpPr>
            <p:cNvPr id="199" name="椭圆 26"/>
            <p:cNvSpPr/>
            <p:nvPr/>
          </p:nvSpPr>
          <p:spPr>
            <a:xfrm>
              <a:off x="4343400" y="1855800"/>
              <a:ext cx="92556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" name="文本框 27"/>
            <p:cNvSpPr/>
            <p:nvPr/>
          </p:nvSpPr>
          <p:spPr>
            <a:xfrm>
              <a:off x="4572000" y="1902960"/>
              <a:ext cx="42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01" name="组合 28"/>
          <p:cNvGrpSpPr/>
          <p:nvPr/>
        </p:nvGrpSpPr>
        <p:grpSpPr>
          <a:xfrm>
            <a:off x="8147160" y="1855800"/>
            <a:ext cx="927000" cy="925560"/>
            <a:chOff x="8147160" y="1855800"/>
            <a:chExt cx="927000" cy="925560"/>
          </a:xfrm>
        </p:grpSpPr>
        <p:sp>
          <p:nvSpPr>
            <p:cNvPr id="202" name="椭圆 29"/>
            <p:cNvSpPr/>
            <p:nvPr/>
          </p:nvSpPr>
          <p:spPr>
            <a:xfrm>
              <a:off x="8147160" y="1855800"/>
              <a:ext cx="92700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" name="文本框 30"/>
            <p:cNvSpPr/>
            <p:nvPr/>
          </p:nvSpPr>
          <p:spPr>
            <a:xfrm>
              <a:off x="8376120" y="1902960"/>
              <a:ext cx="42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7:42:00Z</dcterms:created>
  <dc:creator>jianfeng lai</dc:creator>
  <dc:description/>
  <dc:language>en-US</dc:language>
  <cp:lastModifiedBy>xinxing</cp:lastModifiedBy>
  <dcterms:modified xsi:type="dcterms:W3CDTF">2017-04-02T12:11:28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</Properties>
</file>