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A4881-59BD-4E71-8D5E-CD662ADFE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8FA6F-5899-4F35-8E84-24B0E2EE1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C840-25F4-4C42-BFF8-83992066C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E722-AF2C-4471-B6B2-E4636FE3E2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21600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AC5D-BE01-46C5-83C5-009DB4F96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B509-5963-4FB6-ACA1-C1FF02565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755E-6928-4D0D-BB33-4AB7035C0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DC44-52AC-4121-99C7-79FD8954B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21600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6F0AA-0326-44B6-B731-A3EC8AC22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3F809-14EF-4D39-8486-2DDF4F00F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B33E-C735-4750-AC8D-2C9AB45D8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9030-5727-4F01-85DB-C36CA04E3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5" descr="bg2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23564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B13443E-1E00-41BC-AE5A-FEEB51CBB349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7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7286760" y="3240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95280" y="513504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WordArt 10" descr=""/>
          <p:cNvPicPr/>
          <p:nvPr/>
        </p:nvPicPr>
        <p:blipFill>
          <a:blip r:embed="rId1"/>
          <a:stretch/>
        </p:blipFill>
        <p:spPr>
          <a:xfrm>
            <a:off x="480960" y="4121280"/>
            <a:ext cx="4822920" cy="511200"/>
          </a:xfrm>
          <a:prstGeom prst="rect">
            <a:avLst/>
          </a:prstGeom>
          <a:ln w="0">
            <a:noFill/>
          </a:ln>
        </p:spPr>
      </p:pic>
      <p:sp>
        <p:nvSpPr>
          <p:cNvPr id="83" name="WordArt 11"/>
          <p:cNvSpPr txBox="1"/>
          <p:nvPr/>
        </p:nvSpPr>
        <p:spPr>
          <a:xfrm>
            <a:off x="-4344840" y="4456080"/>
            <a:ext cx="481320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fff">
                        <a:alpha val="10196"/>
                      </a:srgbClr>
                    </a:gs>
                  </a:gsLst>
                  <a:lin ang="5400000"/>
                </a:gradFill>
                <a:latin typeface="黑体"/>
              </a:rPr>
              <a:t>单击此处添加标题文字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1019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FA59D33-4911-4A8A-BC29-E9CCA283288C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bg3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5357880" y="4640400"/>
            <a:ext cx="29034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添加您的公司信息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5651640" y="3718080"/>
            <a:ext cx="2465280" cy="60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谢谢观赏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9" name="WordArt 6"/>
          <p:cNvSpPr txBox="1"/>
          <p:nvPr/>
        </p:nvSpPr>
        <p:spPr>
          <a:xfrm>
            <a:off x="3122280" y="4118760"/>
            <a:ext cx="24656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fff">
                        <a:alpha val="18039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18039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www.pptbz.com</dc:creator>
  <dc:description/>
  <cp:keywords/>
  <dc:language>en-US</dc:language>
  <cp:lastModifiedBy>王玉清</cp:lastModifiedBy>
  <dcterms:modified xsi:type="dcterms:W3CDTF">2016-03-06T03:40:01Z</dcterms:modified>
  <cp:revision>221</cp:revision>
  <dc:subject/>
  <dc:title>幻灯片 1</dc:title>
</cp:coreProperties>
</file>