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3096-2D3D-41FE-8263-9765207A0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8278-5099-4A0F-B828-5C7412DB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96D8-1E55-4017-99E4-DFBB1E206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AFB9-CD54-448B-9995-E5F7DFDC2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50BB-69B2-4E37-AC2E-C3EA5EB6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76C0-082F-4AB4-86E3-D742DFF9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5807-B73A-4F65-B562-3E8A990B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B0F5-EC01-4975-B77B-0D3C3586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FCDF-D8D1-44B8-806D-D3318E68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6DAD-F8E1-4574-9A8A-0C096625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9DAA-F607-4B53-ABE7-F822611F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25B9-627E-4FD9-A2F9-EAC5B93B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0848-C94A-46F0-B71E-BA525DD1AE96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55640" y="5116680"/>
            <a:ext cx="442764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333333"/>
                </a:solidFill>
                <a:latin typeface="Arial"/>
                <a:ea typeface="宋体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4788000" y="5516640"/>
            <a:ext cx="3960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Subtitle goe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"/>
          <p:cNvSpPr/>
          <p:nvPr/>
        </p:nvSpPr>
        <p:spPr>
          <a:xfrm>
            <a:off x="937080" y="62064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红白间隔条爆米花主题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王玉清</cp:lastModifiedBy>
  <dcterms:modified xsi:type="dcterms:W3CDTF">2016-02-24T03:37:28Z</dcterms:modified>
  <cp:revision>718</cp:revision>
  <dc:subject/>
  <dc:title>Diapositiva 1</dc:title>
</cp:coreProperties>
</file>