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58B13A-D1C9-4738-AAB0-C593F65E8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275F53-6FB6-47B8-A279-A349E8E13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57CC05-758D-40FD-A986-6093F2290E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99B72C-1096-42D4-98E5-90A39ADEF5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60A-C525-4C49-9C37-F00D1964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1B1-7627-4F62-B559-3D1B69F0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A3A7-A6D9-4DDE-9FB1-41DD7EBC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7EB-3C01-4454-8A70-183112DC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DE4E-E8A6-4A4C-9D1B-65BFDF27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55EB-CDB0-41A2-91DF-9FCE59BA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5C9B-B418-43AC-AEBF-F4E72B16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786B-9B57-45FA-87BD-89435A75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5541-9F43-4A68-AABD-D846E0BA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0A3B-750C-4F3E-8977-A0E8D79F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D921-7A4E-43B7-B152-4FBFBD3B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A9C-325F-4BAC-BC8F-B99C2DB1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4304-1F2E-47AB-BE03-4D64F3EC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4085-A051-4B84-8EA5-F24E4ED2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D213-F08C-4213-9AA6-E69820C3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F2AE-CB22-4CC7-96DC-491AA203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9D82-62A0-46F8-A57E-75611A9A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B7069-1E64-4782-AC3A-63C374B4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01917-933F-496E-BD70-96872B64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2E3B-7773-4CB0-9E98-3025C691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732C-AEA4-4DD5-87A0-4F005876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DB1C-99BA-4CF3-9DBB-BDCB47C5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CDA-8381-4B42-9D12-824B0F2F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F3C0-54BC-4A88-99CC-FD22B774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029F-E939-4DD1-ADBC-62EFBE06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B1F9-CAE0-4689-9377-A1F36720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CD8E3-5DB3-4F14-9C94-52F7DCC1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3553-60C2-49D3-9FC1-C080148A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FD7E-6913-499E-8E94-DFEE14E8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AA9B-F38D-43C1-A1D4-0D03D02A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9EB-F99E-43C4-AB96-A4A5AE9E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F4A-7B92-438C-86C3-D572E526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180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FFF-B1A2-4D3B-862E-D57FAAEB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242-6E5B-4850-91C7-40105815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25D-37DA-4316-99FF-E900354F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284-B7C6-4500-886E-9B42AFA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8bb76e">
                  <a:alpha val="80000"/>
                </a:srgbClr>
              </a:gs>
              <a:gs pos="100000">
                <a:srgbClr val="8bb76e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221600" y="0"/>
            <a:ext cx="1922040" cy="1439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0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333360" y="0"/>
            <a:ext cx="8569080" cy="1368000"/>
          </a:xfrm>
          <a:prstGeom prst="rect">
            <a:avLst/>
          </a:prstGeom>
          <a:gradFill rotWithShape="0">
            <a:gsLst>
              <a:gs pos="0">
                <a:srgbClr val="8bb76e">
                  <a:alpha val="80000"/>
                </a:srgbClr>
              </a:gs>
              <a:gs pos="100000">
                <a:srgbClr val="8bb76e">
                  <a:alpha val="6000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95520" y="55800"/>
            <a:ext cx="7772040" cy="722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CBA8A4-78A1-4924-AAAD-7EAA79C05B9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8bb76e">
                  <a:alpha val="80000"/>
                </a:srgbClr>
              </a:gs>
              <a:gs pos="100000">
                <a:srgbClr val="8bb76e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2"/>
          <a:stretch/>
        </p:blipFill>
        <p:spPr>
          <a:xfrm>
            <a:off x="7221600" y="0"/>
            <a:ext cx="1922040" cy="143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036073-EB49-44B2-955E-35BE4F3AF9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0"/>
            <a:ext cx="7235640" cy="1439640"/>
          </a:xfrm>
          <a:prstGeom prst="rect">
            <a:avLst/>
          </a:prstGeom>
          <a:gradFill rotWithShape="0">
            <a:gsLst>
              <a:gs pos="0">
                <a:srgbClr val="8bb76e">
                  <a:alpha val="80000"/>
                </a:srgbClr>
              </a:gs>
              <a:gs pos="100000">
                <a:srgbClr val="8bb76e">
                  <a:alpha val="85098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7221600" y="0"/>
            <a:ext cx="1922040" cy="143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5CCA90-BDBF-47EC-906B-C820D64819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95160" y="55440"/>
            <a:ext cx="777204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蝗虫特写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41360" y="777960"/>
            <a:ext cx="6400440" cy="479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r name and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240" cy="4368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Content Placeholder 3"/>
          <p:cNvGraphicFramePr/>
          <p:nvPr/>
        </p:nvGraphicFramePr>
        <p:xfrm>
          <a:off x="901800" y="1790640"/>
          <a:ext cx="7340400" cy="3944520"/>
        </p:xfrm>
        <a:graphic>
          <a:graphicData uri="http://schemas.openxmlformats.org/presentationml/2006/ole">
            <p:oleObj progId="Excel.Chart.8" r:id="rId1" spid="">
              <p:embed/>
              <p:pic>
                <p:nvPicPr>
                  <p:cNvPr id="145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790640"/>
                    <a:ext cx="7340400" cy="39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571920" y="2863800"/>
            <a:ext cx="826560" cy="610920"/>
          </a:xfrm>
          <a:prstGeom prst="rect">
            <a:avLst/>
          </a:prstGeom>
          <a:solidFill>
            <a:schemeClr val="tx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48320" y="2863800"/>
            <a:ext cx="826560" cy="610920"/>
          </a:xfrm>
          <a:prstGeom prst="rect">
            <a:avLst/>
          </a:prstGeom>
          <a:solidFill>
            <a:schemeClr val="bg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519280" y="4478400"/>
            <a:ext cx="826560" cy="61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587760" y="4478400"/>
            <a:ext cx="826560" cy="6109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56240" y="4478400"/>
            <a:ext cx="826560" cy="610920"/>
          </a:xfrm>
          <a:prstGeom prst="rect">
            <a:avLst/>
          </a:prstGeom>
          <a:solidFill>
            <a:schemeClr val="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726160" y="4478400"/>
            <a:ext cx="826560" cy="61092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08520" y="2863800"/>
            <a:ext cx="826560" cy="610920"/>
          </a:xfrm>
          <a:prstGeom prst="rect">
            <a:avLst/>
          </a:prstGeom>
          <a:solidFill>
            <a:schemeClr val="tx2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503440" y="2863800"/>
            <a:ext cx="826560" cy="610920"/>
          </a:xfrm>
          <a:prstGeom prst="rect">
            <a:avLst/>
          </a:prstGeom>
          <a:solidFill>
            <a:schemeClr val="bg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285280" y="2224080"/>
            <a:ext cx="1264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614400" y="2101680"/>
            <a:ext cx="746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4553280" y="2224080"/>
            <a:ext cx="1016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843160" y="2101680"/>
            <a:ext cx="55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662200" y="3838680"/>
            <a:ext cx="542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3609000" y="3838680"/>
            <a:ext cx="802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4543560" y="371628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5624640" y="3714840"/>
            <a:ext cx="10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19040" y="609300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1800" cy="92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69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6720" cy="3852360"/>
          </a:xfrm>
          <a:prstGeom prst="rect">
            <a:avLst/>
          </a:prstGeom>
          <a:ln w="57150">
            <a:solidFill>
              <a:srgbClr val="8bb76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Custom 199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8bb76e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Custom 199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8bb76e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Custom 199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8bb76e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fffff"/>
      </a:lt2>
      <a:accent1>
        <a:srgbClr val="8bb76e"/>
      </a:accent1>
      <a:accent2>
        <a:srgbClr val="6ba7f8"/>
      </a:accent2>
      <a:accent3>
        <a:srgbClr val="c3dbfc"/>
      </a:accent3>
      <a:accent4>
        <a:srgbClr val="0a2793"/>
      </a:accent4>
      <a:accent5>
        <a:srgbClr val="c0e8fd"/>
      </a:accent5>
      <a:accent6>
        <a:srgbClr val="6097e1"/>
      </a:accent6>
      <a:hlink>
        <a:srgbClr val="0b6def"/>
      </a:hlink>
      <a:folHlink>
        <a:srgbClr val="237df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  <Words>70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王玉清</cp:lastModifiedBy>
  <dcterms:modified xsi:type="dcterms:W3CDTF">2016-03-02T10:30:54Z</dcterms:modified>
  <cp:revision>15</cp:revision>
  <dc:subject/>
  <dc:title>grasshopper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5</vt:r8>
  </property>
</Properties>
</file>