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C96-5D5E-4DB1-BA35-95D48888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FAD-DE0F-429E-9AC3-DC7C9B1F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6B0-2DF2-4957-96BF-80BDB7C1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66C-2F7B-43B9-A112-9F41B293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744-8073-4D71-B748-3D50A92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0E6-B276-42EF-8823-00FA357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B61-880E-4E70-99E8-B91D128E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542-2B50-487D-8567-31FC11C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C11-2C20-4BC3-99E1-1A6685F8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70B-BC5A-4915-B3BF-A5630F1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F44-565F-4D3E-9490-546F1A38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7A4-0E15-42C7-9647-A81B3FE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843-9C1D-4816-85AF-4792F2B914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058-4730-4F1E-9E36-81632E2BAA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6104160" cy="417996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20"/>
          <p:cNvSpPr/>
          <p:nvPr/>
        </p:nvSpPr>
        <p:spPr>
          <a:xfrm>
            <a:off x="2681280" y="1517760"/>
            <a:ext cx="1440" cy="815760"/>
          </a:xfrm>
          <a:prstGeom prst="line">
            <a:avLst/>
          </a:prstGeom>
          <a:ln w="1908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1"/>
          <p:cNvSpPr/>
          <p:nvPr/>
        </p:nvSpPr>
        <p:spPr>
          <a:xfrm>
            <a:off x="2681280" y="3084480"/>
            <a:ext cx="1440" cy="817560"/>
          </a:xfrm>
          <a:prstGeom prst="line">
            <a:avLst/>
          </a:prstGeom>
          <a:ln w="1908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2"/>
          <p:cNvSpPr/>
          <p:nvPr/>
        </p:nvSpPr>
        <p:spPr>
          <a:xfrm>
            <a:off x="2681280" y="4667400"/>
            <a:ext cx="1440" cy="817560"/>
          </a:xfrm>
          <a:prstGeom prst="line">
            <a:avLst/>
          </a:prstGeom>
          <a:ln w="19080">
            <a:solidFill>
              <a:srgbClr val="3a8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1971720" y="139716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4"/>
          <p:cNvSpPr/>
          <p:nvPr/>
        </p:nvSpPr>
        <p:spPr>
          <a:xfrm>
            <a:off x="1971720" y="300996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5"/>
          <p:cNvSpPr/>
          <p:nvPr/>
        </p:nvSpPr>
        <p:spPr>
          <a:xfrm>
            <a:off x="1971720" y="453708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2903400" y="151776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2903400" y="310032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2903400" y="468324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3"/>
          <p:cNvSpPr/>
          <p:nvPr/>
        </p:nvSpPr>
        <p:spPr>
          <a:xfrm>
            <a:off x="7451640" y="658800"/>
            <a:ext cx="1081080" cy="334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064640" y="774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写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1"/>
          <p:cNvSpPr/>
          <p:nvPr/>
        </p:nvSpPr>
        <p:spPr>
          <a:xfrm>
            <a:off x="2903400" y="192708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903400" y="343692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2903400" y="499284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44840" y="11736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39-E547-4A25-8CFC-EC98C37EE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1:00Z</dcterms:modified>
  <cp:revision>10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