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148B-2E60-449F-AD71-F3116AE15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B6D9-45E5-4924-A9CD-D9E740C3D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016D-D2CA-4664-84CA-34294C40E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2556-B42B-49AA-BBE2-9F29AAC10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2B54-3748-4A35-8559-3CEECF65E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870440" y="1628640"/>
            <a:ext cx="2314440" cy="703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2383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好叫月朗风清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589360" y="2133720"/>
            <a:ext cx="2314440" cy="703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2383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专为词人作雨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471680" y="6576840"/>
            <a:ext cx="2367000" cy="307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2383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99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3399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3399ff"/>
                </a:solidFill>
                <a:latin typeface="Arial"/>
              </a:rPr>
              <a:t>模板网 </a:t>
            </a:r>
            <a:r>
              <a:rPr b="0" lang="en-US" sz="1400" spc="-1" strike="noStrike">
                <a:solidFill>
                  <a:srgbClr val="3399ff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"/>
          <p:cNvSpPr/>
          <p:nvPr/>
        </p:nvSpPr>
        <p:spPr>
          <a:xfrm>
            <a:off x="2045880" y="4348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荷花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6845760" y="6453360"/>
            <a:ext cx="1797840" cy="368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2383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ff8f"/>
                </a:solidFill>
                <a:latin typeface="华文隶书"/>
                <a:ea typeface="华文隶书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405880" y="54936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4065120" y="234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这是目录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4065120" y="3021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这是目录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4065120" y="3692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这是目录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4"/>
          <p:cNvSpPr/>
          <p:nvPr/>
        </p:nvSpPr>
        <p:spPr>
          <a:xfrm>
            <a:off x="4065120" y="4365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这是目录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5" descr="粉红荷花"/>
          <p:cNvPicPr/>
          <p:nvPr/>
        </p:nvPicPr>
        <p:blipFill>
          <a:blip r:embed="rId1"/>
          <a:stretch/>
        </p:blipFill>
        <p:spPr>
          <a:xfrm>
            <a:off x="2700360" y="2301840"/>
            <a:ext cx="711000" cy="687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粉红荷花"/>
          <p:cNvPicPr/>
          <p:nvPr/>
        </p:nvPicPr>
        <p:blipFill>
          <a:blip r:embed="rId2"/>
          <a:stretch/>
        </p:blipFill>
        <p:spPr>
          <a:xfrm>
            <a:off x="2700360" y="2965320"/>
            <a:ext cx="711000" cy="687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粉红荷花"/>
          <p:cNvPicPr/>
          <p:nvPr/>
        </p:nvPicPr>
        <p:blipFill>
          <a:blip r:embed="rId3"/>
          <a:stretch/>
        </p:blipFill>
        <p:spPr>
          <a:xfrm>
            <a:off x="2700360" y="3629160"/>
            <a:ext cx="711000" cy="687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粉红荷花"/>
          <p:cNvPicPr/>
          <p:nvPr/>
        </p:nvPicPr>
        <p:blipFill>
          <a:blip r:embed="rId4"/>
          <a:stretch/>
        </p:blipFill>
        <p:spPr>
          <a:xfrm>
            <a:off x="2700360" y="4292640"/>
            <a:ext cx="7110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087920" y="227772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您可以创作演绎作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024280" y="2638080"/>
            <a:ext cx="46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您必须按照作者或者许可人指定的方式对作品进行署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337040" y="299844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您不得将本作品用于商业目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469240" y="54936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6845760" y="6453360"/>
            <a:ext cx="1797840" cy="368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2383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ff8f"/>
                </a:solidFill>
                <a:latin typeface="华文隶书"/>
                <a:ea typeface="华文隶书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1619280" y="6442200"/>
            <a:ext cx="183960" cy="304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135040" y="2349360"/>
            <a:ext cx="1593360" cy="916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谢 谢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4:43:35Z</dcterms:created>
  <dc:creator>jzxpc</dc:creator>
  <dc:description/>
  <dc:language>en-US</dc:language>
  <cp:lastModifiedBy>王玉清</cp:lastModifiedBy>
  <dcterms:modified xsi:type="dcterms:W3CDTF">2016-02-22T03:41:06Z</dcterms:modified>
  <cp:revision>7</cp:revision>
  <dc:subject/>
  <dc:title>幻灯片 1</dc:title>
</cp:coreProperties>
</file>