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901C-FAF3-46CC-B800-C98AC5C666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D071-96D5-4A3B-A3F1-25F235E065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2005-E5A6-4CF9-9F0B-105B050B18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5F1A-5796-46CE-9EA5-79A17D2353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7B6-9A77-4CC9-8FCA-E63A2222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527-FA3C-437E-856E-1B7753BA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EBC-84D3-4ABC-94D9-3AD09733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8840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952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8764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8840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952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B49A-DB12-445F-A370-BD98133C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A4CC-64E1-4686-AD8A-C87F9671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7C69-13B3-4898-B451-1ABA2596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B918-9B5A-4DE8-814F-DB5D8F7E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53BE-8455-493C-B9EC-7A0C4558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E4B3-0101-4074-8FD6-9E399479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87640" y="609120"/>
            <a:ext cx="680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16F4-791A-49D8-BC4B-0DCD23E5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E1CF-A3FA-4C41-9DFB-A5D5A159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72D-E0F4-4019-B64C-3C431B9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4472-14B9-4503-9490-646E15D3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2B12-928A-45BA-BB47-2E234EEC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B520-CB27-4918-B338-C0043E0C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D616-D4C7-4D2C-99E7-454606B8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8840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952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8764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8840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952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2BC5-03EF-4010-9C1A-E4DAC014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E778-2828-478A-B243-11FB6D0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84A-D7CA-4155-BA5E-798BE79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FFC7-1FE0-4D2A-B53B-5A2C097D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87640" y="609120"/>
            <a:ext cx="680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2A8-F543-49F9-8A07-5DCCC091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CF7-44BD-49D9-811E-739A052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50C-7B73-4B5F-973F-88A02DE0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7B8-1A28-4B48-B319-2CAAB85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16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4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83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E388-C139-4A97-A45D-548118797E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533520" y="3271680"/>
            <a:ext cx="1371600" cy="358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988-CCF6-40AD-853D-96DE2F957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IMATED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"/>
          <p:cNvPicPr/>
          <p:nvPr/>
        </p:nvPicPr>
        <p:blipFill>
          <a:blip r:embed="rId1"/>
          <a:srcRect l="0" t="0" r="0" b="8650"/>
          <a:stretch/>
        </p:blipFill>
        <p:spPr>
          <a:xfrm>
            <a:off x="304920" y="304920"/>
            <a:ext cx="2743200" cy="655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1081080" cy="380988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2475720" y="4876920"/>
            <a:ext cx="50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绿灯通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trafficlights_1"/>
          <p:cNvPicPr/>
          <p:nvPr/>
        </p:nvPicPr>
        <p:blipFill>
          <a:blip r:embed="rId1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trafficlights_2"/>
          <p:cNvPicPr/>
          <p:nvPr/>
        </p:nvPicPr>
        <p:blipFill>
          <a:blip r:embed="rId2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trafficlights_3"/>
          <p:cNvPicPr/>
          <p:nvPr/>
        </p:nvPicPr>
        <p:blipFill>
          <a:blip r:embed="rId3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3048120" y="15238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宋体"/>
              </a:rPr>
              <a:t>ON CLICK ANI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068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Bullet poin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8:08:39Z</dcterms:created>
  <dc:creator>Presentation Magazine</dc:creator>
  <dc:description/>
  <dc:language>en-US</dc:language>
  <cp:lastModifiedBy>王玉清</cp:lastModifiedBy>
  <dcterms:modified xsi:type="dcterms:W3CDTF">2016-02-29T07:36:38Z</dcterms:modified>
  <cp:revision>13</cp:revision>
  <dc:subject/>
  <dc:title>PowerPoint Presentation</dc:title>
</cp:coreProperties>
</file>