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6D5-E072-4433-BC62-84C2948C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956-B948-41FF-A00C-F9D68A65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6AA-A871-410B-8504-B7B58E84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CA6-F640-44CF-A917-88EC82A1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7AD-E666-448E-B3AE-23CA1479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29C-BBBD-4726-8121-1A93A986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B246-D617-41D2-865E-79322FB3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B2D-0E6B-4559-AA4C-294E6EF6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265-EA0A-4F45-9137-9CF4FDEB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712-A9D8-4694-B347-923FF1B2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500-E760-429D-B24C-2A813620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5D4-3498-4C39-ADEC-DEA8EC3A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3009-3695-445C-A895-2370ACC995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0320" y="20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红色爱心通用</a:t>
            </a:r>
            <a:r>
              <a:rPr b="0" lang="en-US" sz="36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汉仪细行楷简"/>
                <a:ea typeface="汉仪细行楷简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07:08:47Z</dcterms:created>
  <dc:creator>keke</dc:creator>
  <dc:description/>
  <dc:language>en-US</dc:language>
  <cp:lastModifiedBy>王玉清</cp:lastModifiedBy>
  <dcterms:modified xsi:type="dcterms:W3CDTF">2016-02-20T04:19:51Z</dcterms:modified>
  <cp:revision>3</cp:revision>
  <dc:subject/>
  <dc:title>站长站素材 SC.chinaz.COM</dc:title>
</cp:coreProperties>
</file>