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D342-39FD-4B00-A92D-E47E6A2BEF5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98CF-8C32-415A-B26D-3B6ACF0ACAA0}" type="slidenum">
              <a:rPr b="0" lang="en-GB" sz="1200" spc="-1" strike="noStrike">
                <a:solidFill>
                  <a:srgbClr val="4d4d4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1779-C98E-4BE4-9E35-4A3AB32AA454}" type="slidenum">
              <a:rPr b="0" lang="en-GB" sz="1200" spc="-1" strike="noStrike">
                <a:solidFill>
                  <a:srgbClr val="4d4d4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83AF-18D2-4C84-AE33-2507AFD3727A}" type="slidenum">
              <a:rPr b="0" lang="en-GB" sz="1200" spc="-1" strike="noStrike">
                <a:solidFill>
                  <a:srgbClr val="4d4d4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193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2020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473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749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193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8473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749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193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020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19320" y="380520"/>
            <a:ext cx="77724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020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193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193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020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2020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20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193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020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193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2020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473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749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193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8473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4749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2020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19320" y="380520"/>
            <a:ext cx="77724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020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193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020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2020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020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193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58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58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193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1196640"/>
            <a:ext cx="6842160" cy="10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58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741"/>
                </a:solidFill>
                <a:latin typeface="华文细黑"/>
                <a:ea typeface="华文细黑"/>
              </a:rPr>
              <a:t>黄色商务</a:t>
            </a:r>
            <a:r>
              <a:rPr b="0" lang="en-US" sz="4000" spc="-1" strike="noStrike">
                <a:solidFill>
                  <a:srgbClr val="ff9741"/>
                </a:solidFill>
                <a:latin typeface="华文细黑"/>
                <a:ea typeface="华文细黑"/>
              </a:rPr>
              <a:t>PPT</a:t>
            </a:r>
            <a:r>
              <a:rPr b="0" lang="zh-CN" sz="4000" spc="-1" strike="noStrike">
                <a:solidFill>
                  <a:srgbClr val="ff9741"/>
                </a:solidFill>
                <a:latin typeface="华文细黑"/>
                <a:ea typeface="华文细黑"/>
              </a:rPr>
              <a:t>模板免费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4920" y="5105160"/>
            <a:ext cx="716256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58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2235240" y="1414440"/>
            <a:ext cx="5280120" cy="463680"/>
            <a:chOff x="2235240" y="1414440"/>
            <a:chExt cx="5280120" cy="463680"/>
          </a:xfrm>
        </p:grpSpPr>
        <p:sp>
          <p:nvSpPr>
            <p:cNvPr id="87" name="AutoShape 3"/>
            <p:cNvSpPr/>
            <p:nvPr/>
          </p:nvSpPr>
          <p:spPr>
            <a:xfrm>
              <a:off x="2473560" y="1474560"/>
              <a:ext cx="5041800" cy="365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34300"/>
                </a:gs>
                <a:gs pos="50000">
                  <a:srgbClr val="c25800"/>
                </a:gs>
                <a:gs pos="100000">
                  <a:srgbClr val="934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8" name="AutoShape 4"/>
            <p:cNvSpPr/>
            <p:nvPr/>
          </p:nvSpPr>
          <p:spPr>
            <a:xfrm>
              <a:off x="2235240" y="1414440"/>
              <a:ext cx="457200" cy="463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5a2900"/>
                </a:gs>
                <a:gs pos="100000">
                  <a:srgbClr val="c25800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9" name="Group 5"/>
          <p:cNvGrpSpPr/>
          <p:nvPr/>
        </p:nvGrpSpPr>
        <p:grpSpPr>
          <a:xfrm>
            <a:off x="2235240" y="2351160"/>
            <a:ext cx="5250960" cy="463320"/>
            <a:chOff x="2235240" y="2351160"/>
            <a:chExt cx="5250960" cy="463320"/>
          </a:xfrm>
        </p:grpSpPr>
        <p:sp>
          <p:nvSpPr>
            <p:cNvPr id="90" name="AutoShape 6"/>
            <p:cNvSpPr/>
            <p:nvPr/>
          </p:nvSpPr>
          <p:spPr>
            <a:xfrm>
              <a:off x="2444400" y="2405160"/>
              <a:ext cx="5041800" cy="365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78e03"/>
                </a:gs>
                <a:gs pos="50000">
                  <a:srgbClr val="f2bc04"/>
                </a:gs>
                <a:gs pos="100000">
                  <a:srgbClr val="b78e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1" name="AutoShape 7"/>
            <p:cNvSpPr/>
            <p:nvPr/>
          </p:nvSpPr>
          <p:spPr>
            <a:xfrm>
              <a:off x="2235240" y="2351160"/>
              <a:ext cx="456840" cy="46332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05702"/>
                </a:gs>
                <a:gs pos="100000">
                  <a:srgbClr val="f2bc04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2" name="Group 8"/>
          <p:cNvGrpSpPr/>
          <p:nvPr/>
        </p:nvGrpSpPr>
        <p:grpSpPr>
          <a:xfrm>
            <a:off x="2235240" y="3359160"/>
            <a:ext cx="5280120" cy="463320"/>
            <a:chOff x="2235240" y="3359160"/>
            <a:chExt cx="5280120" cy="463320"/>
          </a:xfrm>
        </p:grpSpPr>
        <p:sp>
          <p:nvSpPr>
            <p:cNvPr id="93" name="AutoShape 9"/>
            <p:cNvSpPr/>
            <p:nvPr/>
          </p:nvSpPr>
          <p:spPr>
            <a:xfrm>
              <a:off x="2473560" y="3417840"/>
              <a:ext cx="5041800" cy="365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b0000"/>
                </a:gs>
                <a:gs pos="50000">
                  <a:srgbClr val="fe0000"/>
                </a:gs>
                <a:gs pos="100000">
                  <a:srgbClr val="cb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4" name="AutoShape 10"/>
            <p:cNvSpPr/>
            <p:nvPr/>
          </p:nvSpPr>
          <p:spPr>
            <a:xfrm>
              <a:off x="2235240" y="3359160"/>
              <a:ext cx="457200" cy="463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60000"/>
                </a:gs>
                <a:gs pos="100000">
                  <a:srgbClr val="fe0000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5" name="Group 11"/>
          <p:cNvGrpSpPr/>
          <p:nvPr/>
        </p:nvGrpSpPr>
        <p:grpSpPr>
          <a:xfrm>
            <a:off x="2235240" y="4295880"/>
            <a:ext cx="5241960" cy="463320"/>
            <a:chOff x="2235240" y="4295880"/>
            <a:chExt cx="5241960" cy="463320"/>
          </a:xfrm>
        </p:grpSpPr>
        <p:sp>
          <p:nvSpPr>
            <p:cNvPr id="96" name="AutoShape 12"/>
            <p:cNvSpPr/>
            <p:nvPr/>
          </p:nvSpPr>
          <p:spPr>
            <a:xfrm>
              <a:off x="2435400" y="4351320"/>
              <a:ext cx="5041800" cy="365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a5a5a"/>
                </a:gs>
                <a:gs pos="50000">
                  <a:srgbClr val="777777"/>
                </a:gs>
                <a:gs pos="100000">
                  <a:srgbClr val="5a5a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7" name="AutoShape 13"/>
            <p:cNvSpPr/>
            <p:nvPr/>
          </p:nvSpPr>
          <p:spPr>
            <a:xfrm>
              <a:off x="2235240" y="4295880"/>
              <a:ext cx="457200" cy="463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73737"/>
                </a:gs>
                <a:gs pos="100000">
                  <a:srgbClr val="777777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98" name="AutoShape 14"/>
          <p:cNvSpPr/>
          <p:nvPr/>
        </p:nvSpPr>
        <p:spPr>
          <a:xfrm>
            <a:off x="2762280" y="1406520"/>
            <a:ext cx="324000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Moment at Nigh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AutoShape 15"/>
          <p:cNvSpPr/>
          <p:nvPr/>
        </p:nvSpPr>
        <p:spPr>
          <a:xfrm>
            <a:off x="2771640" y="2349360"/>
            <a:ext cx="3240360" cy="466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Moment by a Wel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AutoShape 16"/>
          <p:cNvSpPr/>
          <p:nvPr/>
        </p:nvSpPr>
        <p:spPr>
          <a:xfrm>
            <a:off x="2752560" y="3375000"/>
            <a:ext cx="3095640" cy="466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Moment in Cour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AutoShape 17"/>
          <p:cNvSpPr/>
          <p:nvPr/>
        </p:nvSpPr>
        <p:spPr>
          <a:xfrm>
            <a:off x="2770200" y="4281480"/>
            <a:ext cx="309564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Moment at Dinner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" name="AutoShape 18"/>
          <p:cNvSpPr/>
          <p:nvPr/>
        </p:nvSpPr>
        <p:spPr>
          <a:xfrm>
            <a:off x="1744560" y="1357200"/>
            <a:ext cx="574920" cy="577800"/>
          </a:xfrm>
          <a:custGeom>
            <a:avLst/>
            <a:gdLst>
              <a:gd name="textAreaLeft" fmla="*/ 23760 w 574920"/>
              <a:gd name="textAreaRight" fmla="*/ 551160 w 574920"/>
              <a:gd name="textAreaTop" fmla="*/ 23760 h 577800"/>
              <a:gd name="textAreaBottom" fmla="*/ 554040 h 577800"/>
            </a:gdLst>
            <a:ahLst/>
            <a:rect l="textAreaLeft" t="textAreaTop" r="textAreaRight" b="textAreaBottom"/>
            <a:pathLst>
              <a:path w="21600" h="21708">
                <a:moveTo>
                  <a:pt x="3072" y="0"/>
                </a:moveTo>
                <a:arcTo wR="3072" hR="3072" stAng="16200000" swAng="-5400000"/>
                <a:lnTo>
                  <a:pt x="0" y="18636"/>
                </a:lnTo>
                <a:arcTo wR="3072" hR="3072" stAng="10800000" swAng="-5400000"/>
                <a:lnTo>
                  <a:pt x="18528" y="21708"/>
                </a:lnTo>
                <a:arcTo wR="3072" hR="3072" stAng="5400000" swAng="-5400000"/>
                <a:lnTo>
                  <a:pt x="21600" y="3072"/>
                </a:lnTo>
                <a:arcTo wR="3072" hR="3072" stAng="0" swAng="-5400000"/>
                <a:close/>
              </a:path>
            </a:pathLst>
          </a:custGeom>
          <a:solidFill>
            <a:srgbClr val="c2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03" name="Group 19"/>
          <p:cNvGrpSpPr/>
          <p:nvPr/>
        </p:nvGrpSpPr>
        <p:grpSpPr>
          <a:xfrm>
            <a:off x="1744560" y="1357200"/>
            <a:ext cx="574920" cy="577800"/>
            <a:chOff x="1744560" y="1357200"/>
            <a:chExt cx="574920" cy="577800"/>
          </a:xfrm>
        </p:grpSpPr>
        <p:sp>
          <p:nvSpPr>
            <p:cNvPr id="104" name="Oval 20"/>
            <p:cNvSpPr/>
            <p:nvPr/>
          </p:nvSpPr>
          <p:spPr>
            <a:xfrm>
              <a:off x="1744560" y="1357200"/>
              <a:ext cx="574920" cy="5778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5" name="Oval 21"/>
            <p:cNvSpPr/>
            <p:nvPr/>
          </p:nvSpPr>
          <p:spPr>
            <a:xfrm>
              <a:off x="1752840" y="1357920"/>
              <a:ext cx="560520" cy="562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06" name="Oval 22"/>
          <p:cNvSpPr/>
          <p:nvPr/>
        </p:nvSpPr>
        <p:spPr>
          <a:xfrm flipH="1">
            <a:off x="1789920" y="1409760"/>
            <a:ext cx="482760" cy="460440"/>
          </a:xfrm>
          <a:prstGeom prst="ellipse">
            <a:avLst/>
          </a:prstGeom>
          <a:solidFill>
            <a:srgbClr val="c2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Oval 23"/>
          <p:cNvSpPr/>
          <p:nvPr/>
        </p:nvSpPr>
        <p:spPr>
          <a:xfrm flipH="1">
            <a:off x="1838160" y="1419120"/>
            <a:ext cx="378000" cy="304920"/>
          </a:xfrm>
          <a:prstGeom prst="ellipse">
            <a:avLst/>
          </a:prstGeom>
          <a:gradFill rotWithShape="0">
            <a:gsLst>
              <a:gs pos="0">
                <a:srgbClr val="f6e7da"/>
              </a:gs>
              <a:gs pos="100000">
                <a:srgbClr val="c25800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AutoShape 24"/>
          <p:cNvSpPr/>
          <p:nvPr/>
        </p:nvSpPr>
        <p:spPr>
          <a:xfrm>
            <a:off x="1744560" y="1359000"/>
            <a:ext cx="576360" cy="539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09" name="Group 25"/>
          <p:cNvGrpSpPr/>
          <p:nvPr/>
        </p:nvGrpSpPr>
        <p:grpSpPr>
          <a:xfrm>
            <a:off x="1744560" y="2293920"/>
            <a:ext cx="576000" cy="577800"/>
            <a:chOff x="1744560" y="2293920"/>
            <a:chExt cx="576000" cy="577800"/>
          </a:xfrm>
        </p:grpSpPr>
        <p:sp>
          <p:nvSpPr>
            <p:cNvPr id="110" name="AutoShape 26"/>
            <p:cNvSpPr/>
            <p:nvPr/>
          </p:nvSpPr>
          <p:spPr>
            <a:xfrm>
              <a:off x="1747800" y="2295360"/>
              <a:ext cx="571320" cy="576360"/>
            </a:xfrm>
            <a:custGeom>
              <a:avLst/>
              <a:gdLst>
                <a:gd name="textAreaLeft" fmla="*/ 23760 w 571320"/>
                <a:gd name="textAreaRight" fmla="*/ 547560 w 571320"/>
                <a:gd name="textAreaTop" fmla="*/ 23760 h 576360"/>
                <a:gd name="textAreaBottom" fmla="*/ 552600 h 576360"/>
              </a:gdLst>
              <a:ahLst/>
              <a:rect l="textAreaLeft" t="textAreaTop" r="textAreaRight" b="textAreaBottom"/>
              <a:pathLst>
                <a:path w="21600" h="21790">
                  <a:moveTo>
                    <a:pt x="3072" y="0"/>
                  </a:moveTo>
                  <a:arcTo wR="3072" hR="3072" stAng="16200000" swAng="-5400000"/>
                  <a:lnTo>
                    <a:pt x="0" y="18718"/>
                  </a:lnTo>
                  <a:arcTo wR="3072" hR="3072" stAng="10800000" swAng="-5400000"/>
                  <a:lnTo>
                    <a:pt x="18528" y="21790"/>
                  </a:lnTo>
                  <a:arcTo wR="3072" hR="3072" stAng="5400000" swAng="-5400000"/>
                  <a:lnTo>
                    <a:pt x="21600" y="3072"/>
                  </a:lnTo>
                  <a:arcTo wR="3072" hR="3072" stAng="0" swAng="-5400000"/>
                  <a:close/>
                </a:path>
              </a:pathLst>
            </a:custGeom>
            <a:solidFill>
              <a:srgbClr val="f2b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11" name="Group 27"/>
            <p:cNvGrpSpPr/>
            <p:nvPr/>
          </p:nvGrpSpPr>
          <p:grpSpPr>
            <a:xfrm>
              <a:off x="1747800" y="2293920"/>
              <a:ext cx="569880" cy="577800"/>
              <a:chOff x="1747800" y="2293920"/>
              <a:chExt cx="569880" cy="577800"/>
            </a:xfrm>
          </p:grpSpPr>
          <p:sp>
            <p:nvSpPr>
              <p:cNvPr id="112" name="Oval 28"/>
              <p:cNvSpPr/>
              <p:nvPr/>
            </p:nvSpPr>
            <p:spPr>
              <a:xfrm>
                <a:off x="1747800" y="2293920"/>
                <a:ext cx="569880" cy="57780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13" name="Oval 29"/>
              <p:cNvSpPr/>
              <p:nvPr/>
            </p:nvSpPr>
            <p:spPr>
              <a:xfrm>
                <a:off x="1756080" y="2294640"/>
                <a:ext cx="555480" cy="56268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14" name="Oval 30"/>
            <p:cNvSpPr/>
            <p:nvPr/>
          </p:nvSpPr>
          <p:spPr>
            <a:xfrm flipH="1">
              <a:off x="1793520" y="2346120"/>
              <a:ext cx="479520" cy="463680"/>
            </a:xfrm>
            <a:prstGeom prst="ellipse">
              <a:avLst/>
            </a:prstGeom>
            <a:solidFill>
              <a:srgbClr val="f2b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5" name="Oval 31"/>
            <p:cNvSpPr/>
            <p:nvPr/>
          </p:nvSpPr>
          <p:spPr>
            <a:xfrm flipH="1">
              <a:off x="1838160" y="2359080"/>
              <a:ext cx="387360" cy="303120"/>
            </a:xfrm>
            <a:prstGeom prst="ellipse">
              <a:avLst/>
            </a:prstGeom>
            <a:gradFill rotWithShape="0">
              <a:gsLst>
                <a:gs pos="0">
                  <a:srgbClr val="fcf2cd"/>
                </a:gs>
                <a:gs pos="100000">
                  <a:srgbClr val="f2bc04">
                    <a:alpha val="3725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6" name="AutoShape 32"/>
            <p:cNvSpPr/>
            <p:nvPr/>
          </p:nvSpPr>
          <p:spPr>
            <a:xfrm>
              <a:off x="1744560" y="2295360"/>
              <a:ext cx="576000" cy="5400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7" name="Group 33"/>
          <p:cNvGrpSpPr/>
          <p:nvPr/>
        </p:nvGrpSpPr>
        <p:grpSpPr>
          <a:xfrm>
            <a:off x="1744560" y="3303720"/>
            <a:ext cx="576000" cy="577800"/>
            <a:chOff x="1744560" y="3303720"/>
            <a:chExt cx="576000" cy="577800"/>
          </a:xfrm>
        </p:grpSpPr>
        <p:sp>
          <p:nvSpPr>
            <p:cNvPr id="118" name="AutoShape 34"/>
            <p:cNvSpPr/>
            <p:nvPr/>
          </p:nvSpPr>
          <p:spPr>
            <a:xfrm>
              <a:off x="1746000" y="3303720"/>
              <a:ext cx="573120" cy="576000"/>
            </a:xfrm>
            <a:custGeom>
              <a:avLst/>
              <a:gdLst>
                <a:gd name="textAreaLeft" fmla="*/ 23760 w 573120"/>
                <a:gd name="textAreaRight" fmla="*/ 549360 w 573120"/>
                <a:gd name="textAreaTop" fmla="*/ 23760 h 576000"/>
                <a:gd name="textAreaBottom" fmla="*/ 552240 h 576000"/>
              </a:gdLst>
              <a:ahLst/>
              <a:rect l="textAreaLeft" t="textAreaTop" r="textAreaRight" b="textAreaBottom"/>
              <a:pathLst>
                <a:path w="21600" h="21708">
                  <a:moveTo>
                    <a:pt x="3072" y="0"/>
                  </a:moveTo>
                  <a:arcTo wR="3072" hR="3072" stAng="16200000" swAng="-5400000"/>
                  <a:lnTo>
                    <a:pt x="0" y="18636"/>
                  </a:lnTo>
                  <a:arcTo wR="3072" hR="3072" stAng="10800000" swAng="-5400000"/>
                  <a:lnTo>
                    <a:pt x="18528" y="21708"/>
                  </a:lnTo>
                  <a:arcTo wR="3072" hR="3072" stAng="5400000" swAng="-5400000"/>
                  <a:lnTo>
                    <a:pt x="21600" y="3072"/>
                  </a:lnTo>
                  <a:arcTo wR="3072" hR="3072" stAng="0" swAng="-5400000"/>
                  <a:close/>
                </a:path>
              </a:pathLst>
            </a:custGeom>
            <a:solidFill>
              <a:srgbClr val="f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19" name="Group 35"/>
            <p:cNvGrpSpPr/>
            <p:nvPr/>
          </p:nvGrpSpPr>
          <p:grpSpPr>
            <a:xfrm>
              <a:off x="1744560" y="3303720"/>
              <a:ext cx="573120" cy="577800"/>
              <a:chOff x="1744560" y="3303720"/>
              <a:chExt cx="573120" cy="577800"/>
            </a:xfrm>
          </p:grpSpPr>
          <p:sp>
            <p:nvSpPr>
              <p:cNvPr id="120" name="Oval 36"/>
              <p:cNvSpPr/>
              <p:nvPr/>
            </p:nvSpPr>
            <p:spPr>
              <a:xfrm>
                <a:off x="1744560" y="3303720"/>
                <a:ext cx="573120" cy="57780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21" name="Oval 37"/>
              <p:cNvSpPr/>
              <p:nvPr/>
            </p:nvSpPr>
            <p:spPr>
              <a:xfrm>
                <a:off x="1752840" y="3304440"/>
                <a:ext cx="558720" cy="56268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22" name="Oval 38"/>
            <p:cNvSpPr/>
            <p:nvPr/>
          </p:nvSpPr>
          <p:spPr>
            <a:xfrm flipH="1">
              <a:off x="1790640" y="3355920"/>
              <a:ext cx="480960" cy="464760"/>
            </a:xfrm>
            <a:prstGeom prst="ellipse">
              <a:avLst/>
            </a:prstGeom>
            <a:solidFill>
              <a:srgbClr val="f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3" name="Oval 39"/>
            <p:cNvSpPr/>
            <p:nvPr/>
          </p:nvSpPr>
          <p:spPr>
            <a:xfrm flipH="1">
              <a:off x="1834200" y="3368520"/>
              <a:ext cx="390600" cy="303120"/>
            </a:xfrm>
            <a:prstGeom prst="ellipse">
              <a:avLst/>
            </a:prstGeom>
            <a:gradFill rotWithShape="0">
              <a:gsLst>
                <a:gs pos="0">
                  <a:srgbClr val="ffaaaa"/>
                </a:gs>
                <a:gs pos="100000">
                  <a:srgbClr val="fe0000">
                    <a:alpha val="3725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4" name="AutoShape 40"/>
            <p:cNvSpPr/>
            <p:nvPr/>
          </p:nvSpPr>
          <p:spPr>
            <a:xfrm>
              <a:off x="1744560" y="3303720"/>
              <a:ext cx="576000" cy="5396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5" name="Group 41"/>
          <p:cNvGrpSpPr/>
          <p:nvPr/>
        </p:nvGrpSpPr>
        <p:grpSpPr>
          <a:xfrm>
            <a:off x="1744560" y="4238640"/>
            <a:ext cx="576000" cy="577800"/>
            <a:chOff x="1744560" y="4238640"/>
            <a:chExt cx="576000" cy="577800"/>
          </a:xfrm>
        </p:grpSpPr>
        <p:sp>
          <p:nvSpPr>
            <p:cNvPr id="126" name="AutoShape 42"/>
            <p:cNvSpPr/>
            <p:nvPr/>
          </p:nvSpPr>
          <p:spPr>
            <a:xfrm>
              <a:off x="1746000" y="4240080"/>
              <a:ext cx="573120" cy="576360"/>
            </a:xfrm>
            <a:custGeom>
              <a:avLst/>
              <a:gdLst>
                <a:gd name="textAreaLeft" fmla="*/ 23760 w 573120"/>
                <a:gd name="textAreaRight" fmla="*/ 549360 w 573120"/>
                <a:gd name="textAreaTop" fmla="*/ 23760 h 576360"/>
                <a:gd name="textAreaBottom" fmla="*/ 552600 h 576360"/>
              </a:gdLst>
              <a:ahLst/>
              <a:rect l="textAreaLeft" t="textAreaTop" r="textAreaRight" b="textAreaBottom"/>
              <a:pathLst>
                <a:path w="21600" h="21722">
                  <a:moveTo>
                    <a:pt x="3072" y="0"/>
                  </a:moveTo>
                  <a:arcTo wR="3072" hR="3072" stAng="16200000" swAng="-5400000"/>
                  <a:lnTo>
                    <a:pt x="0" y="18650"/>
                  </a:lnTo>
                  <a:arcTo wR="3072" hR="3072" stAng="10800000" swAng="-5400000"/>
                  <a:lnTo>
                    <a:pt x="18528" y="21722"/>
                  </a:lnTo>
                  <a:arcTo wR="3072" hR="3072" stAng="5400000" swAng="-5400000"/>
                  <a:lnTo>
                    <a:pt x="21600" y="3072"/>
                  </a:lnTo>
                  <a:arcTo wR="3072" hR="3072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27" name="Group 43"/>
            <p:cNvGrpSpPr/>
            <p:nvPr/>
          </p:nvGrpSpPr>
          <p:grpSpPr>
            <a:xfrm>
              <a:off x="1744560" y="4238640"/>
              <a:ext cx="571320" cy="577800"/>
              <a:chOff x="1744560" y="4238640"/>
              <a:chExt cx="571320" cy="577800"/>
            </a:xfrm>
          </p:grpSpPr>
          <p:grpSp>
            <p:nvGrpSpPr>
              <p:cNvPr id="128" name="Group 44"/>
              <p:cNvGrpSpPr/>
              <p:nvPr/>
            </p:nvGrpSpPr>
            <p:grpSpPr>
              <a:xfrm>
                <a:off x="1744560" y="4238640"/>
                <a:ext cx="571320" cy="577800"/>
                <a:chOff x="1744560" y="4238640"/>
                <a:chExt cx="571320" cy="577800"/>
              </a:xfrm>
            </p:grpSpPr>
            <p:sp>
              <p:nvSpPr>
                <p:cNvPr id="129" name="Oval 45"/>
                <p:cNvSpPr/>
                <p:nvPr/>
              </p:nvSpPr>
              <p:spPr>
                <a:xfrm>
                  <a:off x="1744560" y="4238640"/>
                  <a:ext cx="571320" cy="577800"/>
                </a:xfrm>
                <a:prstGeom prst="ellipse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30" name="Oval 46"/>
                <p:cNvSpPr/>
                <p:nvPr/>
              </p:nvSpPr>
              <p:spPr>
                <a:xfrm>
                  <a:off x="1752840" y="4239360"/>
                  <a:ext cx="556920" cy="562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1" name="Oval 47"/>
              <p:cNvSpPr/>
              <p:nvPr/>
            </p:nvSpPr>
            <p:spPr>
              <a:xfrm flipH="1">
                <a:off x="1790280" y="4291560"/>
                <a:ext cx="480240" cy="462600"/>
              </a:xfrm>
              <a:prstGeom prst="ellipse">
                <a:avLst/>
              </a:pr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32" name="Oval 48"/>
            <p:cNvSpPr/>
            <p:nvPr/>
          </p:nvSpPr>
          <p:spPr>
            <a:xfrm flipH="1">
              <a:off x="1834920" y="4305240"/>
              <a:ext cx="387360" cy="303120"/>
            </a:xfrm>
            <a:prstGeom prst="ellipse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777777">
                    <a:alpha val="3725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3" name="AutoShape 49"/>
            <p:cNvSpPr/>
            <p:nvPr/>
          </p:nvSpPr>
          <p:spPr>
            <a:xfrm>
              <a:off x="1744560" y="4240080"/>
              <a:ext cx="576000" cy="5396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4" name="Group 50"/>
          <p:cNvGrpSpPr/>
          <p:nvPr/>
        </p:nvGrpSpPr>
        <p:grpSpPr>
          <a:xfrm>
            <a:off x="2182680" y="5068800"/>
            <a:ext cx="5280120" cy="463320"/>
            <a:chOff x="2182680" y="5068800"/>
            <a:chExt cx="5280120" cy="463320"/>
          </a:xfrm>
        </p:grpSpPr>
        <p:sp>
          <p:nvSpPr>
            <p:cNvPr id="135" name="AutoShape 51"/>
            <p:cNvSpPr/>
            <p:nvPr/>
          </p:nvSpPr>
          <p:spPr>
            <a:xfrm>
              <a:off x="2421000" y="5127480"/>
              <a:ext cx="5041800" cy="365040"/>
            </a:xfrm>
            <a:prstGeom prst="roundRect">
              <a:avLst>
                <a:gd name="adj" fmla="val 50000"/>
              </a:avLst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6" name="AutoShape 52"/>
            <p:cNvSpPr/>
            <p:nvPr/>
          </p:nvSpPr>
          <p:spPr>
            <a:xfrm>
              <a:off x="2182680" y="5068800"/>
              <a:ext cx="457200" cy="463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37" name="AutoShape 53"/>
          <p:cNvSpPr/>
          <p:nvPr/>
        </p:nvSpPr>
        <p:spPr>
          <a:xfrm>
            <a:off x="2700360" y="5084640"/>
            <a:ext cx="3095640" cy="46692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oment outside the Templ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38" name="Group 54"/>
          <p:cNvGrpSpPr/>
          <p:nvPr/>
        </p:nvGrpSpPr>
        <p:grpSpPr>
          <a:xfrm>
            <a:off x="1692360" y="5013360"/>
            <a:ext cx="576000" cy="577800"/>
            <a:chOff x="1692360" y="5013360"/>
            <a:chExt cx="576000" cy="577800"/>
          </a:xfrm>
        </p:grpSpPr>
        <p:sp>
          <p:nvSpPr>
            <p:cNvPr id="139" name="AutoShape 55"/>
            <p:cNvSpPr/>
            <p:nvPr/>
          </p:nvSpPr>
          <p:spPr>
            <a:xfrm>
              <a:off x="1693800" y="5013360"/>
              <a:ext cx="573120" cy="576000"/>
            </a:xfrm>
            <a:custGeom>
              <a:avLst/>
              <a:gdLst>
                <a:gd name="textAreaLeft" fmla="*/ 23760 w 573120"/>
                <a:gd name="textAreaRight" fmla="*/ 549360 w 573120"/>
                <a:gd name="textAreaTop" fmla="*/ 23760 h 576000"/>
                <a:gd name="textAreaBottom" fmla="*/ 552240 h 576000"/>
              </a:gdLst>
              <a:ahLst/>
              <a:rect l="textAreaLeft" t="textAreaTop" r="textAreaRight" b="textAreaBottom"/>
              <a:pathLst>
                <a:path w="21600" h="21708">
                  <a:moveTo>
                    <a:pt x="3072" y="0"/>
                  </a:moveTo>
                  <a:arcTo wR="3072" hR="3072" stAng="16200000" swAng="-5400000"/>
                  <a:lnTo>
                    <a:pt x="0" y="18636"/>
                  </a:lnTo>
                  <a:arcTo wR="3072" hR="3072" stAng="10800000" swAng="-5400000"/>
                  <a:lnTo>
                    <a:pt x="18528" y="21708"/>
                  </a:lnTo>
                  <a:arcTo wR="3072" hR="3072" stAng="5400000" swAng="-5400000"/>
                  <a:lnTo>
                    <a:pt x="21600" y="3072"/>
                  </a:lnTo>
                  <a:arcTo wR="3072" hR="3072" stAng="0" swAng="-5400000"/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40" name="Group 56"/>
            <p:cNvGrpSpPr/>
            <p:nvPr/>
          </p:nvGrpSpPr>
          <p:grpSpPr>
            <a:xfrm>
              <a:off x="1692360" y="5013360"/>
              <a:ext cx="573120" cy="577800"/>
              <a:chOff x="1692360" y="5013360"/>
              <a:chExt cx="573120" cy="577800"/>
            </a:xfrm>
          </p:grpSpPr>
          <p:sp>
            <p:nvSpPr>
              <p:cNvPr id="141" name="Oval 57"/>
              <p:cNvSpPr/>
              <p:nvPr/>
            </p:nvSpPr>
            <p:spPr>
              <a:xfrm>
                <a:off x="1692360" y="5013360"/>
                <a:ext cx="573120" cy="5778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42" name="Oval 58"/>
              <p:cNvSpPr/>
              <p:nvPr/>
            </p:nvSpPr>
            <p:spPr>
              <a:xfrm>
                <a:off x="1700640" y="5014080"/>
                <a:ext cx="558720" cy="5626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43" name="Oval 59"/>
            <p:cNvSpPr/>
            <p:nvPr/>
          </p:nvSpPr>
          <p:spPr>
            <a:xfrm flipH="1">
              <a:off x="1738440" y="5065560"/>
              <a:ext cx="480960" cy="46476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4" name="Oval 60"/>
            <p:cNvSpPr/>
            <p:nvPr/>
          </p:nvSpPr>
          <p:spPr>
            <a:xfrm flipH="1">
              <a:off x="1782000" y="5078160"/>
              <a:ext cx="390600" cy="303120"/>
            </a:xfrm>
            <a:prstGeom prst="ellipse">
              <a:avLst/>
            </a:prstGeom>
            <a:solidFill>
              <a:srgbClr val="00ffff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5" name="AutoShape 61"/>
            <p:cNvSpPr/>
            <p:nvPr/>
          </p:nvSpPr>
          <p:spPr>
            <a:xfrm>
              <a:off x="1692360" y="5013360"/>
              <a:ext cx="576000" cy="539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5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58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Arial"/>
                <a:ea typeface="宋体"/>
              </a:rPr>
              <a:t>Moments to Consid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WordArt 3"/>
          <p:cNvSpPr txBox="1"/>
          <p:nvPr/>
        </p:nvSpPr>
        <p:spPr>
          <a:xfrm>
            <a:off x="304920" y="4578480"/>
            <a:ext cx="374472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777777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!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777777"/>
                  </a:gs>
                </a:gsLst>
                <a:lin ang="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21:51:20Z</dcterms:created>
  <dc:creator>Matthew Blewett</dc:creator>
  <dc:description/>
  <dc:language>en-US</dc:language>
  <cp:lastModifiedBy>a</cp:lastModifiedBy>
  <dcterms:modified xsi:type="dcterms:W3CDTF">2015-07-25T08:55:44Z</dcterms:modified>
  <cp:revision>15</cp:revision>
  <dc:subject/>
  <dc:title>Moments of Truth with Jesus</dc:title>
</cp:coreProperties>
</file>