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6E5-6A5A-4369-ABD6-DA85E12A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7B2-799F-4DB4-A6CC-989B677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94D-1AFB-4EBE-A66F-F2B5D030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E10-8D1A-4069-A2EC-C8156A20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A03-CC14-4A69-86DB-5E2C9C0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33-22E7-4227-8168-6A6B046A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62D-3659-4F30-8F4C-21A10C2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4A1-F77F-49CC-9154-FF63763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739-0468-4F9A-82CE-8AFE83E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945-9F15-46D3-B69F-2692B62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E5C-7C90-4C03-BDFF-A6FAF72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7A1-1A06-404D-8CD5-A08941C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5F48-4B51-4B9D-9653-E75B841FA4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71360" y="9097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谐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图片1"/>
          <p:cNvPicPr/>
          <p:nvPr/>
        </p:nvPicPr>
        <p:blipFill>
          <a:blip r:embed="rId2"/>
          <a:stretch/>
        </p:blipFill>
        <p:spPr>
          <a:xfrm>
            <a:off x="1835280" y="4680000"/>
            <a:ext cx="5400720" cy="127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10440"/>
            <a:ext cx="80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426-DE9F-485B-9483-01783DFCA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55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3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