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C2DB-D09B-46DD-8313-FC5A8CDA28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B3B-D6DC-4968-A4E4-42318DEE1A3B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890-CE82-4933-A6D8-854385F946BA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37AE-7C62-4067-9FC7-3CA051E74CAB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AEF-7644-494F-8C60-5E9B539CECC1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9636-3D7E-4008-87FF-3EABEDB14F5B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3654-1947-40ED-A94D-FB6D993335BE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5E8-1C09-4842-B363-DE508C1CE0BB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21F-7DCD-4A3F-B95F-6E645147AD9C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59BE-18B8-4AA1-A7E0-472A05E34B63}" type="slidenum">
              <a:rPr b="0" lang="en-US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D51-B013-4902-85B5-FA146430A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C844-DAC6-492D-A789-F9C627F6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9E9-CE16-4170-882A-B98AA174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5769-1946-4CCB-97E9-0D7579FA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A4C-99C3-42DE-9D15-2BA6E471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B401-FA00-4BF4-9935-324870D8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0510-6BAA-4B5C-A70F-965C0954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338A-27A6-4202-86CF-20327090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D922-EE8F-48E5-A18F-07B0C635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9274-6B81-4310-BF43-88E17619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2C23-B310-466A-A95D-3EE0F194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2861-396A-4F0A-8A3B-5455F496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09DA-7E07-4918-8617-77A594A6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0AC9-B7E7-480D-B725-82B4E909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C22A-0A79-4469-839F-FD014FA3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98E-FC40-4AC8-9CC5-2561D82E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6088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64560" y="148428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6088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64560" y="3891600"/>
            <a:ext cx="26697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C267-751A-42A7-9B34-1B36F4F2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68B-4493-4D2C-8109-3D361D6A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CA41-5B0D-4F95-86C5-B9940E9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1554-52C7-4B2F-A4EA-01FB44C7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0018-DCBD-4F76-AE74-C99F888E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2240-4E1C-425B-89B7-05EB0544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389160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0B72-8F7E-4217-BB3E-74E298AE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484280"/>
            <a:ext cx="4046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8291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9585-D237-40A1-A37D-57E0BFC3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-3240" y="0"/>
            <a:ext cx="9144000" cy="1197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-3240" y="1089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8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56100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56100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56100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e4c6b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207E-062B-4B18-A6EE-589419509613}" type="slidenum">
              <a:rPr b="0" lang="en-US" sz="1400" spc="-1" strike="noStrike">
                <a:solidFill>
                  <a:srgbClr val="2e4c6b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2421000"/>
          </a:xfrm>
          <a:prstGeom prst="rect">
            <a:avLst/>
          </a:prstGeom>
          <a:solidFill>
            <a:srgbClr val="33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6605640"/>
            <a:ext cx="9139320" cy="27792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-3240" y="2421000"/>
            <a:ext cx="9147240" cy="216000"/>
          </a:xfrm>
          <a:prstGeom prst="rect">
            <a:avLst/>
          </a:prstGeom>
          <a:solidFill>
            <a:srgbClr val="b3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8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1983-D9AB-4942-9992-56055E62F70B}" type="slidenum">
              <a:rPr b="0" lang="en-US" sz="1400" spc="-1" strike="noStrike">
                <a:solidFill>
                  <a:srgbClr val="00336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96640"/>
            <a:ext cx="79898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环形目录商务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完整版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28"/>
          <p:cNvGrpSpPr/>
          <p:nvPr/>
        </p:nvGrpSpPr>
        <p:grpSpPr>
          <a:xfrm>
            <a:off x="503280" y="3213000"/>
            <a:ext cx="2970000" cy="2881440"/>
            <a:chOff x="503280" y="3213000"/>
            <a:chExt cx="2970000" cy="2881440"/>
          </a:xfrm>
        </p:grpSpPr>
        <p:sp>
          <p:nvSpPr>
            <p:cNvPr id="97" name="Oval 16">
              <a:hlinkClick r:id="rId1" action="ppaction://hlinksldjump"/>
            </p:cNvPr>
            <p:cNvSpPr/>
            <p:nvPr/>
          </p:nvSpPr>
          <p:spPr>
            <a:xfrm>
              <a:off x="503280" y="3308400"/>
              <a:ext cx="716040" cy="7142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1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Oval 17">
              <a:hlinkClick r:id="rId2" action="ppaction://hlinksldjump"/>
            </p:cNvPr>
            <p:cNvSpPr/>
            <p:nvPr/>
          </p:nvSpPr>
          <p:spPr>
            <a:xfrm>
              <a:off x="2292480" y="3635280"/>
              <a:ext cx="7142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3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Oval 18">
              <a:hlinkClick r:id="rId3" action="ppaction://hlinksldjump"/>
            </p:cNvPr>
            <p:cNvSpPr/>
            <p:nvPr/>
          </p:nvSpPr>
          <p:spPr>
            <a:xfrm>
              <a:off x="2757600" y="4462560"/>
              <a:ext cx="71568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4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Oval 19">
              <a:hlinkClick r:id="rId4" action="ppaction://hlinksldjump"/>
            </p:cNvPr>
            <p:cNvSpPr/>
            <p:nvPr/>
          </p:nvSpPr>
          <p:spPr>
            <a:xfrm>
              <a:off x="2708280" y="5378400"/>
              <a:ext cx="7160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5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>
              <a:off x="1003320" y="3990960"/>
              <a:ext cx="183960" cy="48564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Oval 21">
              <a:hlinkClick r:id="rId5" action="ppaction://hlinksldjump"/>
            </p:cNvPr>
            <p:cNvSpPr/>
            <p:nvPr/>
          </p:nvSpPr>
          <p:spPr>
            <a:xfrm>
              <a:off x="1452600" y="3213000"/>
              <a:ext cx="716040" cy="71604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6698cc"/>
                  </a:solidFill>
                  <a:latin typeface="Arial"/>
                  <a:ea typeface="宋体"/>
                </a:rPr>
                <a:t>2</a:t>
              </a:r>
              <a:endParaRPr b="0" lang="en-US" sz="4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Line 22"/>
            <p:cNvSpPr/>
            <p:nvPr/>
          </p:nvSpPr>
          <p:spPr>
            <a:xfrm flipH="1">
              <a:off x="1649160" y="3916440"/>
              <a:ext cx="83880" cy="50328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4" name="Line 23"/>
            <p:cNvSpPr/>
            <p:nvPr/>
          </p:nvSpPr>
          <p:spPr>
            <a:xfrm flipH="1">
              <a:off x="2027160" y="4243320"/>
              <a:ext cx="385920" cy="40320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Line 24"/>
            <p:cNvSpPr/>
            <p:nvPr/>
          </p:nvSpPr>
          <p:spPr>
            <a:xfrm flipV="1">
              <a:off x="2254320" y="4889520"/>
              <a:ext cx="519120" cy="13320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6" name="Line 25"/>
            <p:cNvSpPr/>
            <p:nvPr/>
          </p:nvSpPr>
          <p:spPr>
            <a:xfrm>
              <a:off x="2230560" y="5451480"/>
              <a:ext cx="501480" cy="150840"/>
            </a:xfrm>
            <a:prstGeom prst="line">
              <a:avLst/>
            </a:prstGeom>
            <a:ln w="76320">
              <a:solidFill>
                <a:srgbClr val="6698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Oval 26"/>
            <p:cNvSpPr/>
            <p:nvPr/>
          </p:nvSpPr>
          <p:spPr>
            <a:xfrm>
              <a:off x="704880" y="4419720"/>
              <a:ext cx="1565280" cy="1565280"/>
            </a:xfrm>
            <a:prstGeom prst="ellipse">
              <a:avLst/>
            </a:prstGeom>
            <a:solidFill>
              <a:srgbClr val="b3cce6"/>
            </a:solidFill>
            <a:ln w="76320">
              <a:solidFill>
                <a:srgbClr val="3365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Main Men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Oval 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Oval 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Oval 8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Oval 10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e4c6b"/>
                </a:solidFill>
                <a:latin typeface="Arial"/>
                <a:ea typeface="宋体"/>
              </a:rPr>
              <a:t>Menu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4824360" y="1521000"/>
            <a:ext cx="36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  <a:ea typeface="宋体"/>
              </a:rPr>
              <a:t>Click on a number to go to that s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66"/>
                </a:solidFill>
                <a:latin typeface="Arial"/>
                <a:ea typeface="宋体"/>
              </a:rPr>
              <a:t>(Only works in PowerPoint Show mod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23" name="Oval 14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Oval 15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Oval 16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Oval 17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Oval 19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Line 22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Oval 24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35" name="Oval 14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Oval 15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Oval 16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Oval 17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Oval 19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20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21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22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Oval 24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47" name="Oval 1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Oval 1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Oval 1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Oval 18">
            <a:hlinkClick r:id="rId4" action="ppaction://hlinksldjump"/>
          </p:cNvPr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Oval 20">
            <a:hlinkClick r:id="rId5" action="ppaction://hlinksldjump"/>
          </p:cNvPr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59" name="Oval 15">
            <a:hlinkClick r:id="rId1" action="ppaction://hlinksldjump"/>
          </p:cNvPr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Oval 16">
            <a:hlinkClick r:id="rId2" action="ppaction://hlinksldjump"/>
          </p:cNvPr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Oval 17">
            <a:hlinkClick r:id="rId3" action="ppaction://hlinksldjump"/>
          </p:cNvPr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Oval 18"/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Oval 20"/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3366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72" name="Oval 15"/>
          <p:cNvSpPr/>
          <p:nvPr/>
        </p:nvSpPr>
        <p:spPr>
          <a:xfrm>
            <a:off x="314280" y="1627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Oval 16"/>
          <p:cNvSpPr/>
          <p:nvPr/>
        </p:nvSpPr>
        <p:spPr>
          <a:xfrm>
            <a:off x="3365640" y="218592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Oval 17"/>
          <p:cNvSpPr/>
          <p:nvPr/>
        </p:nvSpPr>
        <p:spPr>
          <a:xfrm>
            <a:off x="4160880" y="3597120"/>
            <a:ext cx="1220760" cy="12211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Oval 18"/>
          <p:cNvSpPr/>
          <p:nvPr/>
        </p:nvSpPr>
        <p:spPr>
          <a:xfrm>
            <a:off x="4076640" y="5160960"/>
            <a:ext cx="1220760" cy="12207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599"/>
                </a:solidFill>
                <a:latin typeface="Arial"/>
                <a:ea typeface="宋体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1168560" y="2792520"/>
            <a:ext cx="314280" cy="82872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1933560" y="1465200"/>
            <a:ext cx="1220760" cy="12207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98cc"/>
                </a:solidFill>
                <a:latin typeface="Arial"/>
                <a:ea typeface="宋体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Line 21"/>
          <p:cNvSpPr/>
          <p:nvPr/>
        </p:nvSpPr>
        <p:spPr>
          <a:xfrm flipH="1">
            <a:off x="2269800" y="2665440"/>
            <a:ext cx="142920" cy="8571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22"/>
          <p:cNvSpPr/>
          <p:nvPr/>
        </p:nvSpPr>
        <p:spPr>
          <a:xfrm flipH="1">
            <a:off x="2914560" y="3224160"/>
            <a:ext cx="657360" cy="6858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Line 23"/>
          <p:cNvSpPr/>
          <p:nvPr/>
        </p:nvSpPr>
        <p:spPr>
          <a:xfrm flipV="1">
            <a:off x="3301920" y="4325400"/>
            <a:ext cx="885960" cy="22860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Line 24"/>
          <p:cNvSpPr/>
          <p:nvPr/>
        </p:nvSpPr>
        <p:spPr>
          <a:xfrm>
            <a:off x="3260880" y="5284800"/>
            <a:ext cx="857160" cy="25704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Oval 25"/>
          <p:cNvSpPr/>
          <p:nvPr/>
        </p:nvSpPr>
        <p:spPr>
          <a:xfrm>
            <a:off x="658800" y="3524400"/>
            <a:ext cx="2670120" cy="2671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Section 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Example in use - Mood indicato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4"/>
          <p:cNvSpPr/>
          <p:nvPr/>
        </p:nvSpPr>
        <p:spPr>
          <a:xfrm>
            <a:off x="652320" y="2662200"/>
            <a:ext cx="876600" cy="844560"/>
          </a:xfrm>
          <a:prstGeom prst="ellipse">
            <a:avLst/>
          </a:prstGeom>
          <a:solidFill>
            <a:srgbClr val="b3cce6"/>
          </a:solid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Tahoma"/>
                <a:ea typeface="宋体"/>
              </a:rPr>
              <a:t>5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366"/>
                </a:solidFill>
                <a:latin typeface="Tahoma"/>
                <a:ea typeface="宋体"/>
              </a:rPr>
              <a:t>Excellent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1814400" y="2558880"/>
            <a:ext cx="8780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4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Goo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2843280" y="305748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3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Fai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3414600" y="403380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Tahoma"/>
                <a:ea typeface="宋体"/>
              </a:rPr>
              <a:t>2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Tahoma"/>
                <a:ea typeface="宋体"/>
              </a:rPr>
              <a:t>Poor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Oval 8"/>
          <p:cNvSpPr/>
          <p:nvPr/>
        </p:nvSpPr>
        <p:spPr>
          <a:xfrm>
            <a:off x="3354480" y="5116680"/>
            <a:ext cx="876240" cy="844560"/>
          </a:xfrm>
          <a:prstGeom prst="ellipse">
            <a:avLst/>
          </a:prstGeom>
          <a:noFill/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6599"/>
                </a:solidFill>
                <a:latin typeface="Arial"/>
                <a:ea typeface="宋体"/>
              </a:rPr>
              <a:t>1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6599"/>
                </a:solidFill>
                <a:latin typeface="Arial"/>
                <a:ea typeface="宋体"/>
              </a:rPr>
              <a:t>Bad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1265400" y="3476520"/>
            <a:ext cx="225360" cy="574920"/>
          </a:xfrm>
          <a:prstGeom prst="line">
            <a:avLst/>
          </a:prstGeom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 flipH="1">
            <a:off x="2057400" y="3389400"/>
            <a:ext cx="101520" cy="5936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2519280" y="3776760"/>
            <a:ext cx="471600" cy="47448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 flipV="1">
            <a:off x="2797200" y="4538160"/>
            <a:ext cx="636480" cy="15876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2768760" y="5202360"/>
            <a:ext cx="614160" cy="177840"/>
          </a:xfrm>
          <a:prstGeom prst="line">
            <a:avLst/>
          </a:prstGeom>
          <a:ln w="76320">
            <a:solidFill>
              <a:srgbClr val="6698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Oval 14"/>
          <p:cNvSpPr/>
          <p:nvPr/>
        </p:nvSpPr>
        <p:spPr>
          <a:xfrm>
            <a:off x="900000" y="3983040"/>
            <a:ext cx="1917720" cy="1849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76320">
            <a:solidFill>
              <a:srgbClr val="3365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91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  <a:ea typeface="宋体"/>
              </a:rPr>
              <a:t>These templates are for personal use only and must not be distributed, sold or displayed on the web by anyone other than Presentation Helper. 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98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8cc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6698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8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8cc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6698cc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ppt宝藏</dc:creator>
  <dc:description/>
  <dc:language>en-US</dc:language>
  <cp:lastModifiedBy>a</cp:lastModifiedBy>
  <dcterms:modified xsi:type="dcterms:W3CDTF">2015-07-25T06:49:08Z</dcterms:modified>
  <cp:revision>3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er">
    <vt:lpwstr>www.presentationhelper.co.uk</vt:lpwstr>
  </property>
</Properties>
</file>