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90F-A1C7-4591-93A2-28F7F278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C36-F3BA-4AFB-BB03-F97A7A9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896-BFFE-4263-B37A-36755DAD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225-7ED1-4924-B880-B4E0F6B1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9CE-EE1A-403C-B376-45E948EC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20B-6B16-486F-B363-9B37D65E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76C-6F3C-404A-A7E2-03873DD2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5B9-E6DE-44FC-92F0-1EE01DD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028-8491-4001-96DD-BF4C2018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95D-6909-4F93-B155-748ABBD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262-9146-431B-A0D9-67AED64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0FC-B711-44F1-8258-B64DBDC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3" descr="D:\Documents and Settings\Administrator\桌面\24\商务\28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AF1D-B804-4D57-93ED-D54B919B8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会议背景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2:39:33Z</dcterms:created>
  <dc:creator>ppt宝藏</dc:creator>
  <dc:description/>
  <dc:language>en-US</dc:language>
  <cp:lastModifiedBy>a</cp:lastModifiedBy>
  <dcterms:modified xsi:type="dcterms:W3CDTF">2015-07-25T07:08:33Z</dcterms:modified>
  <cp:revision>28</cp:revision>
  <dc:subject/>
  <dc:title>www.pptbz.com</dc:title>
</cp:coreProperties>
</file>