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D0F-CAC8-4172-B18F-F5BB2BBF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6B9-901F-476E-AAD8-9DA12060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4ED-A626-45DD-B261-AE4DF24B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1E1-768F-4A7E-9316-50C0F4E1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5035-2755-49C1-A5D4-BF93A58D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CAD5-82D8-4A68-9AD0-A29C769B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A4C8-D899-4861-9D0D-B532E1DB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A1EC-51D8-4848-B6B8-4AC970B0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5479-A49B-453A-A751-0C9A0103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46FF-EB07-4FDE-8210-39AD341A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AAA5-17DE-4242-9813-097B43A9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170-5E40-4BDA-966E-8BE2FBEA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4EC3-7E36-4D87-A1C2-502355E6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F3C0-8759-49F9-997C-F45A6C22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5995-8493-4477-9BA3-9F33C8F7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E3DA-BAC9-4988-AA66-8D11762C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C36A-A458-4FF7-93BD-C8B06367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5C7-4946-4C16-AFA1-3A690952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8D72-7F4F-4361-957A-00F926A3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AE4-1E7A-4860-A67E-60393511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679-801D-448E-AB33-3B1FEE7A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AA3-348B-417F-A8DF-CECAABC6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211-0827-46A6-9F13-61EF6FA5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53E-B5A5-4D23-A8C0-B0370619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3E79-A1B4-4492-8718-BC33C9DAB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9C98-C021-438D-AA4C-D525D2341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55600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</a:rPr>
              <a:t>菊花通用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14520"/>
            <a:ext cx="64008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51120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351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2971800" y="280044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王玉清</cp:lastModifiedBy>
  <dcterms:modified xsi:type="dcterms:W3CDTF">2016-02-22T03:01:21Z</dcterms:modified>
  <cp:revision>13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