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43A-C356-4218-8375-0D95D093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56D-855E-4E25-A919-C8E3CDE8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616-53BD-4093-A5AE-9786DB65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CE2-1FDF-4ECF-98A7-39B8E4C4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E9E-430F-4ED2-93EA-13B10BFF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015-8785-4BEF-BEAB-26FDF398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FEF-5E39-455B-A16D-E36B3F9B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96A-FDE0-463A-B877-A48B03A5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4A0-D7A9-49E6-A31B-30627C54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CE9-362C-4478-A22A-256E0C33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5B0-8DBF-475B-8473-C9CCF791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D00-2480-45DF-A07B-E2817C5E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B5EC53-09BF-4256-8EBB-5A9943FCA4F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956160" y="1517760"/>
            <a:ext cx="4200120" cy="331632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8"/>
          <p:cNvSpPr/>
          <p:nvPr/>
        </p:nvSpPr>
        <p:spPr>
          <a:xfrm>
            <a:off x="1459080" y="2944800"/>
            <a:ext cx="8795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简洁绿叶红花通用</a:t>
            </a:r>
            <a:r>
              <a:rPr b="0" lang="en-US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47720" y="2849400"/>
            <a:ext cx="696600" cy="651960"/>
            <a:chOff x="747720" y="2849400"/>
            <a:chExt cx="696600" cy="651960"/>
          </a:xfrm>
        </p:grpSpPr>
        <p:sp>
          <p:nvSpPr>
            <p:cNvPr id="44" name="AutoShape 3"/>
            <p:cNvSpPr/>
            <p:nvPr/>
          </p:nvSpPr>
          <p:spPr>
            <a:xfrm>
              <a:off x="747720" y="284940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992160" y="320832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1162080" y="307512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1104840" y="284940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843120" y="286056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747720" y="312732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Group 12"/>
          <p:cNvGrpSpPr/>
          <p:nvPr/>
        </p:nvGrpSpPr>
        <p:grpSpPr>
          <a:xfrm>
            <a:off x="4265640" y="1746360"/>
            <a:ext cx="372600" cy="398880"/>
            <a:chOff x="4265640" y="1746360"/>
            <a:chExt cx="372600" cy="398880"/>
          </a:xfrm>
        </p:grpSpPr>
        <p:sp>
          <p:nvSpPr>
            <p:cNvPr id="51" name="AutoShape 11"/>
            <p:cNvSpPr/>
            <p:nvPr/>
          </p:nvSpPr>
          <p:spPr>
            <a:xfrm rot="9835800">
              <a:off x="4306320" y="1789560"/>
              <a:ext cx="2707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 rot="9835800">
              <a:off x="4305600" y="1780200"/>
              <a:ext cx="292320" cy="3308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12"/>
          <p:cNvGrpSpPr/>
          <p:nvPr/>
        </p:nvGrpSpPr>
        <p:grpSpPr>
          <a:xfrm>
            <a:off x="8852400" y="3863520"/>
            <a:ext cx="601200" cy="597600"/>
            <a:chOff x="8852400" y="3863520"/>
            <a:chExt cx="601200" cy="597600"/>
          </a:xfrm>
        </p:grpSpPr>
        <p:sp>
          <p:nvSpPr>
            <p:cNvPr id="54" name="AutoShape 11"/>
            <p:cNvSpPr/>
            <p:nvPr/>
          </p:nvSpPr>
          <p:spPr>
            <a:xfrm rot="12460800">
              <a:off x="8929080" y="3942720"/>
              <a:ext cx="415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 rot="12460800">
              <a:off x="8928360" y="3942360"/>
              <a:ext cx="448560" cy="43956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12"/>
          <p:cNvGrpSpPr/>
          <p:nvPr/>
        </p:nvGrpSpPr>
        <p:grpSpPr>
          <a:xfrm>
            <a:off x="4662000" y="3933000"/>
            <a:ext cx="768960" cy="756360"/>
            <a:chOff x="4662000" y="3933000"/>
            <a:chExt cx="768960" cy="756360"/>
          </a:xfrm>
        </p:grpSpPr>
        <p:sp>
          <p:nvSpPr>
            <p:cNvPr id="57" name="AutoShape 11"/>
            <p:cNvSpPr/>
            <p:nvPr/>
          </p:nvSpPr>
          <p:spPr>
            <a:xfrm rot="13959000">
              <a:off x="4795200" y="4016520"/>
              <a:ext cx="4726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 rot="13959000">
              <a:off x="4790880" y="4022280"/>
              <a:ext cx="510840" cy="57744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2"/>
          <p:cNvGrpSpPr/>
          <p:nvPr/>
        </p:nvGrpSpPr>
        <p:grpSpPr>
          <a:xfrm>
            <a:off x="3030840" y="4400640"/>
            <a:ext cx="406800" cy="439920"/>
            <a:chOff x="3030840" y="4400640"/>
            <a:chExt cx="406800" cy="439920"/>
          </a:xfrm>
        </p:grpSpPr>
        <p:sp>
          <p:nvSpPr>
            <p:cNvPr id="60" name="AutoShape 11"/>
            <p:cNvSpPr/>
            <p:nvPr/>
          </p:nvSpPr>
          <p:spPr>
            <a:xfrm rot="747600">
              <a:off x="3092400" y="4437000"/>
              <a:ext cx="308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 rot="747600">
              <a:off x="3067560" y="4431960"/>
              <a:ext cx="333360" cy="3769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2"/>
          <p:cNvGrpSpPr/>
          <p:nvPr/>
        </p:nvGrpSpPr>
        <p:grpSpPr>
          <a:xfrm>
            <a:off x="4142520" y="4987440"/>
            <a:ext cx="598320" cy="580320"/>
            <a:chOff x="4142520" y="4987440"/>
            <a:chExt cx="598320" cy="580320"/>
          </a:xfrm>
        </p:grpSpPr>
        <p:sp>
          <p:nvSpPr>
            <p:cNvPr id="63" name="AutoShape 11"/>
            <p:cNvSpPr/>
            <p:nvPr/>
          </p:nvSpPr>
          <p:spPr>
            <a:xfrm rot="18047400">
              <a:off x="4259880" y="5040000"/>
              <a:ext cx="37332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rot="18047400">
              <a:off x="4239720" y="5049360"/>
              <a:ext cx="403560" cy="45612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"/>
          <p:cNvGrpSpPr/>
          <p:nvPr/>
        </p:nvGrpSpPr>
        <p:grpSpPr>
          <a:xfrm>
            <a:off x="11176560" y="5921280"/>
            <a:ext cx="307080" cy="287640"/>
            <a:chOff x="11176560" y="5921280"/>
            <a:chExt cx="307080" cy="287640"/>
          </a:xfrm>
        </p:grpSpPr>
        <p:sp>
          <p:nvSpPr>
            <p:cNvPr id="66" name="AutoShape 3"/>
            <p:cNvSpPr/>
            <p:nvPr/>
          </p:nvSpPr>
          <p:spPr>
            <a:xfrm>
              <a:off x="11176560" y="5921280"/>
              <a:ext cx="3070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5"/>
            <p:cNvSpPr/>
            <p:nvPr/>
          </p:nvSpPr>
          <p:spPr>
            <a:xfrm>
              <a:off x="11284560" y="6079680"/>
              <a:ext cx="108360" cy="1278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>
              <a:off x="11359440" y="6021000"/>
              <a:ext cx="122760" cy="1076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7"/>
            <p:cNvSpPr/>
            <p:nvPr/>
          </p:nvSpPr>
          <p:spPr>
            <a:xfrm>
              <a:off x="11334240" y="5921280"/>
              <a:ext cx="100440" cy="1004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11218680" y="5926320"/>
              <a:ext cx="93600" cy="107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11176560" y="6044040"/>
              <a:ext cx="127080" cy="957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2"/>
          <p:cNvGrpSpPr/>
          <p:nvPr/>
        </p:nvGrpSpPr>
        <p:grpSpPr>
          <a:xfrm>
            <a:off x="2008080" y="2926440"/>
            <a:ext cx="914400" cy="1033560"/>
            <a:chOff x="2008080" y="2926440"/>
            <a:chExt cx="914400" cy="1033560"/>
          </a:xfrm>
        </p:grpSpPr>
        <p:sp>
          <p:nvSpPr>
            <p:cNvPr id="412" name="AutoShape 11"/>
            <p:cNvSpPr/>
            <p:nvPr/>
          </p:nvSpPr>
          <p:spPr>
            <a:xfrm>
              <a:off x="2076120" y="2932200"/>
              <a:ext cx="846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2008080" y="2926440"/>
              <a:ext cx="914400" cy="10335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Group 12"/>
          <p:cNvGrpSpPr/>
          <p:nvPr/>
        </p:nvGrpSpPr>
        <p:grpSpPr>
          <a:xfrm>
            <a:off x="4154400" y="2613960"/>
            <a:ext cx="1196280" cy="1352160"/>
            <a:chOff x="4154400" y="2613960"/>
            <a:chExt cx="1196280" cy="1352160"/>
          </a:xfrm>
        </p:grpSpPr>
        <p:sp>
          <p:nvSpPr>
            <p:cNvPr id="415" name="AutoShape 11"/>
            <p:cNvSpPr/>
            <p:nvPr/>
          </p:nvSpPr>
          <p:spPr>
            <a:xfrm>
              <a:off x="4243680" y="2621520"/>
              <a:ext cx="1107000" cy="13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4154400" y="2613960"/>
              <a:ext cx="1195920" cy="1352160"/>
            </a:xfrm>
            <a:custGeom>
              <a:avLst/>
              <a:gdLst>
                <a:gd name="textAreaLeft" fmla="*/ 0 w 1195920"/>
                <a:gd name="textAreaRight" fmla="*/ 1196280 w 119592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Group 12"/>
          <p:cNvGrpSpPr/>
          <p:nvPr/>
        </p:nvGrpSpPr>
        <p:grpSpPr>
          <a:xfrm>
            <a:off x="6300720" y="2301840"/>
            <a:ext cx="1477800" cy="1670760"/>
            <a:chOff x="6300720" y="2301840"/>
            <a:chExt cx="1477800" cy="1670760"/>
          </a:xfrm>
        </p:grpSpPr>
        <p:sp>
          <p:nvSpPr>
            <p:cNvPr id="418" name="AutoShape 11"/>
            <p:cNvSpPr/>
            <p:nvPr/>
          </p:nvSpPr>
          <p:spPr>
            <a:xfrm>
              <a:off x="6410880" y="2310840"/>
              <a:ext cx="1367640" cy="16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3"/>
            <p:cNvSpPr/>
            <p:nvPr/>
          </p:nvSpPr>
          <p:spPr>
            <a:xfrm>
              <a:off x="6300720" y="2301840"/>
              <a:ext cx="1477800" cy="1670760"/>
            </a:xfrm>
            <a:custGeom>
              <a:avLst/>
              <a:gdLst>
                <a:gd name="textAreaLeft" fmla="*/ 0 w 1477800"/>
                <a:gd name="textAreaRight" fmla="*/ 1478160 w 1477800"/>
                <a:gd name="textAreaTop" fmla="*/ 0 h 1670760"/>
                <a:gd name="textAreaBottom" fmla="*/ 1671120 h 16707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Group 12"/>
          <p:cNvGrpSpPr/>
          <p:nvPr/>
        </p:nvGrpSpPr>
        <p:grpSpPr>
          <a:xfrm>
            <a:off x="8446680" y="1989360"/>
            <a:ext cx="1759680" cy="1989000"/>
            <a:chOff x="8446680" y="1989360"/>
            <a:chExt cx="1759680" cy="1989000"/>
          </a:xfrm>
        </p:grpSpPr>
        <p:sp>
          <p:nvSpPr>
            <p:cNvPr id="421" name="AutoShape 11"/>
            <p:cNvSpPr/>
            <p:nvPr/>
          </p:nvSpPr>
          <p:spPr>
            <a:xfrm>
              <a:off x="8578080" y="2000160"/>
              <a:ext cx="162828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3"/>
            <p:cNvSpPr/>
            <p:nvPr/>
          </p:nvSpPr>
          <p:spPr>
            <a:xfrm>
              <a:off x="8446680" y="1989360"/>
              <a:ext cx="1759680" cy="1989000"/>
            </a:xfrm>
            <a:custGeom>
              <a:avLst/>
              <a:gdLst>
                <a:gd name="textAreaLeft" fmla="*/ 0 w 1759680"/>
                <a:gd name="textAreaRight" fmla="*/ 1760040 w 1759680"/>
                <a:gd name="textAreaTop" fmla="*/ 0 h 1989000"/>
                <a:gd name="textAreaBottom" fmla="*/ 1989360 h 1989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" name="文本框 16"/>
          <p:cNvSpPr/>
          <p:nvPr/>
        </p:nvSpPr>
        <p:spPr>
          <a:xfrm>
            <a:off x="2153160" y="4082760"/>
            <a:ext cx="692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7"/>
          <p:cNvSpPr/>
          <p:nvPr/>
        </p:nvSpPr>
        <p:spPr>
          <a:xfrm>
            <a:off x="4533480" y="4082760"/>
            <a:ext cx="203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8"/>
          <p:cNvSpPr/>
          <p:nvPr/>
        </p:nvSpPr>
        <p:spPr>
          <a:xfrm>
            <a:off x="6935040" y="4045680"/>
            <a:ext cx="168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9"/>
          <p:cNvSpPr/>
          <p:nvPr/>
        </p:nvSpPr>
        <p:spPr>
          <a:xfrm>
            <a:off x="9230400" y="4082760"/>
            <a:ext cx="97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2"/>
          <p:cNvGrpSpPr/>
          <p:nvPr/>
        </p:nvGrpSpPr>
        <p:grpSpPr>
          <a:xfrm>
            <a:off x="728640" y="554400"/>
            <a:ext cx="925200" cy="864720"/>
            <a:chOff x="728640" y="554400"/>
            <a:chExt cx="925200" cy="864720"/>
          </a:xfrm>
        </p:grpSpPr>
        <p:sp>
          <p:nvSpPr>
            <p:cNvPr id="428" name="AutoShape 11"/>
            <p:cNvSpPr/>
            <p:nvPr/>
          </p:nvSpPr>
          <p:spPr>
            <a:xfrm rot="15225000">
              <a:off x="865440" y="590040"/>
              <a:ext cx="627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3"/>
            <p:cNvSpPr/>
            <p:nvPr/>
          </p:nvSpPr>
          <p:spPr>
            <a:xfrm rot="15225000">
              <a:off x="852480" y="603360"/>
              <a:ext cx="677520" cy="76608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Group 12"/>
          <p:cNvGrpSpPr/>
          <p:nvPr/>
        </p:nvGrpSpPr>
        <p:grpSpPr>
          <a:xfrm>
            <a:off x="514440" y="437040"/>
            <a:ext cx="596880" cy="558000"/>
            <a:chOff x="514440" y="437040"/>
            <a:chExt cx="596880" cy="558000"/>
          </a:xfrm>
        </p:grpSpPr>
        <p:sp>
          <p:nvSpPr>
            <p:cNvPr id="431" name="AutoShape 11"/>
            <p:cNvSpPr/>
            <p:nvPr/>
          </p:nvSpPr>
          <p:spPr>
            <a:xfrm flipV="1" rot="17175000">
              <a:off x="618120" y="460440"/>
              <a:ext cx="404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3"/>
            <p:cNvSpPr/>
            <p:nvPr/>
          </p:nvSpPr>
          <p:spPr>
            <a:xfrm flipV="1" rot="17175000">
              <a:off x="594000" y="468720"/>
              <a:ext cx="437400" cy="494280"/>
            </a:xfrm>
            <a:custGeom>
              <a:avLst/>
              <a:gdLst>
                <a:gd name="textAreaLeft" fmla="*/ 0 w 437400"/>
                <a:gd name="textAreaRight" fmla="*/ 437760 w 437400"/>
                <a:gd name="textAreaTop" fmla="*/ -360 h 494280"/>
                <a:gd name="textAreaBottom" fmla="*/ 494280 h 494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文本框 26"/>
          <p:cNvSpPr/>
          <p:nvPr/>
        </p:nvSpPr>
        <p:spPr>
          <a:xfrm>
            <a:off x="1654200" y="705600"/>
            <a:ext cx="7737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请写下您的文本 请写下您的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12"/>
          <p:cNvGrpSpPr/>
          <p:nvPr/>
        </p:nvGrpSpPr>
        <p:grpSpPr>
          <a:xfrm>
            <a:off x="10186200" y="6314040"/>
            <a:ext cx="654840" cy="640080"/>
            <a:chOff x="10186200" y="6314040"/>
            <a:chExt cx="654840" cy="640080"/>
          </a:xfrm>
        </p:grpSpPr>
        <p:sp>
          <p:nvSpPr>
            <p:cNvPr id="435" name="AutoShape 11"/>
            <p:cNvSpPr/>
            <p:nvPr/>
          </p:nvSpPr>
          <p:spPr>
            <a:xfrm flipV="1" rot="3336000">
              <a:off x="10317240" y="6408000"/>
              <a:ext cx="40464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 flipV="1" rot="3336000">
              <a:off x="10294920" y="6386760"/>
              <a:ext cx="437400" cy="494280"/>
            </a:xfrm>
            <a:custGeom>
              <a:avLst/>
              <a:gdLst>
                <a:gd name="textAreaLeft" fmla="*/ 0 w 437400"/>
                <a:gd name="textAreaRight" fmla="*/ 437760 w 437400"/>
                <a:gd name="textAreaTop" fmla="*/ -360 h 494280"/>
                <a:gd name="textAreaBottom" fmla="*/ 494280 h 494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Group 4"/>
          <p:cNvGrpSpPr/>
          <p:nvPr/>
        </p:nvGrpSpPr>
        <p:grpSpPr>
          <a:xfrm>
            <a:off x="9442440" y="437040"/>
            <a:ext cx="541080" cy="559080"/>
            <a:chOff x="9442440" y="437040"/>
            <a:chExt cx="541080" cy="559080"/>
          </a:xfrm>
        </p:grpSpPr>
        <p:sp>
          <p:nvSpPr>
            <p:cNvPr id="438" name="AutoShape 3"/>
            <p:cNvSpPr/>
            <p:nvPr/>
          </p:nvSpPr>
          <p:spPr>
            <a:xfrm rot="4282200">
              <a:off x="9488520" y="506520"/>
              <a:ext cx="44856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5"/>
            <p:cNvSpPr/>
            <p:nvPr/>
          </p:nvSpPr>
          <p:spPr>
            <a:xfrm rot="4282200">
              <a:off x="9529200" y="671400"/>
              <a:ext cx="158040" cy="1868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6"/>
            <p:cNvSpPr/>
            <p:nvPr/>
          </p:nvSpPr>
          <p:spPr>
            <a:xfrm rot="4282200">
              <a:off x="9652320" y="768240"/>
              <a:ext cx="179640" cy="1569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7"/>
            <p:cNvSpPr/>
            <p:nvPr/>
          </p:nvSpPr>
          <p:spPr>
            <a:xfrm rot="4282200">
              <a:off x="9793800" y="674640"/>
              <a:ext cx="146880" cy="146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8"/>
            <p:cNvSpPr/>
            <p:nvPr/>
          </p:nvSpPr>
          <p:spPr>
            <a:xfrm rot="4282200">
              <a:off x="9732240" y="508680"/>
              <a:ext cx="136800" cy="156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 rot="4282200">
              <a:off x="9541080" y="534600"/>
              <a:ext cx="185760" cy="1396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Group 4"/>
          <p:cNvGrpSpPr/>
          <p:nvPr/>
        </p:nvGrpSpPr>
        <p:grpSpPr>
          <a:xfrm>
            <a:off x="813240" y="5313240"/>
            <a:ext cx="352080" cy="363960"/>
            <a:chOff x="813240" y="5313240"/>
            <a:chExt cx="352080" cy="363960"/>
          </a:xfrm>
        </p:grpSpPr>
        <p:sp>
          <p:nvSpPr>
            <p:cNvPr id="445" name="AutoShape 3"/>
            <p:cNvSpPr/>
            <p:nvPr/>
          </p:nvSpPr>
          <p:spPr>
            <a:xfrm rot="4282200">
              <a:off x="843120" y="5358240"/>
              <a:ext cx="291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5"/>
            <p:cNvSpPr/>
            <p:nvPr/>
          </p:nvSpPr>
          <p:spPr>
            <a:xfrm rot="4282200">
              <a:off x="869400" y="5465880"/>
              <a:ext cx="102960" cy="1216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 rot="4282200">
              <a:off x="949320" y="5528880"/>
              <a:ext cx="117000" cy="10224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 rot="4282200">
              <a:off x="1042200" y="5468040"/>
              <a:ext cx="95400" cy="954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 rot="4282200">
              <a:off x="1001520" y="5360040"/>
              <a:ext cx="88920" cy="1022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 rot="4282200">
              <a:off x="877320" y="5376960"/>
              <a:ext cx="120960" cy="907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4"/>
          <p:cNvGrpSpPr/>
          <p:nvPr/>
        </p:nvGrpSpPr>
        <p:grpSpPr>
          <a:xfrm>
            <a:off x="7929360" y="6049800"/>
            <a:ext cx="516960" cy="528480"/>
            <a:chOff x="7929360" y="6049800"/>
            <a:chExt cx="516960" cy="528480"/>
          </a:xfrm>
        </p:grpSpPr>
        <p:sp>
          <p:nvSpPr>
            <p:cNvPr id="452" name="AutoShape 3"/>
            <p:cNvSpPr/>
            <p:nvPr/>
          </p:nvSpPr>
          <p:spPr>
            <a:xfrm flipV="1" rot="7009200">
              <a:off x="7986960" y="6125760"/>
              <a:ext cx="4017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 flipV="1" rot="7009200">
              <a:off x="8203680" y="6285960"/>
              <a:ext cx="141480" cy="1674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flipV="1" rot="7009200">
              <a:off x="8064720" y="6355080"/>
              <a:ext cx="160920" cy="1407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-36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7"/>
            <p:cNvSpPr/>
            <p:nvPr/>
          </p:nvSpPr>
          <p:spPr>
            <a:xfrm flipV="1" rot="7009200">
              <a:off x="7980840" y="6256800"/>
              <a:ext cx="131400" cy="1314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-360 h 131400"/>
                <a:gd name="textAreaBottom" fmla="*/ 131400 h 1314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 flipV="1" rot="7009200">
              <a:off x="8065800" y="6117480"/>
              <a:ext cx="122040" cy="1407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-36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 flipV="1" rot="7009200">
              <a:off x="8188560" y="6161760"/>
              <a:ext cx="166320" cy="12492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-36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12"/>
          <p:cNvGrpSpPr/>
          <p:nvPr/>
        </p:nvGrpSpPr>
        <p:grpSpPr>
          <a:xfrm>
            <a:off x="518400" y="779040"/>
            <a:ext cx="2499480" cy="2337480"/>
            <a:chOff x="518400" y="779040"/>
            <a:chExt cx="2499480" cy="2337480"/>
          </a:xfrm>
        </p:grpSpPr>
        <p:sp>
          <p:nvSpPr>
            <p:cNvPr id="459" name="AutoShape 11"/>
            <p:cNvSpPr/>
            <p:nvPr/>
          </p:nvSpPr>
          <p:spPr>
            <a:xfrm rot="15225000">
              <a:off x="887760" y="876600"/>
              <a:ext cx="1694520" cy="20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 rot="15225000">
              <a:off x="852120" y="912600"/>
              <a:ext cx="1831320" cy="207000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2070000"/>
                <a:gd name="textAreaBottom" fmla="*/ 2070360 h 2070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Group 4"/>
          <p:cNvGrpSpPr/>
          <p:nvPr/>
        </p:nvGrpSpPr>
        <p:grpSpPr>
          <a:xfrm>
            <a:off x="9323280" y="3889440"/>
            <a:ext cx="2218680" cy="2267280"/>
            <a:chOff x="9323280" y="3889440"/>
            <a:chExt cx="2218680" cy="2267280"/>
          </a:xfrm>
        </p:grpSpPr>
        <p:sp>
          <p:nvSpPr>
            <p:cNvPr id="462" name="AutoShape 3"/>
            <p:cNvSpPr/>
            <p:nvPr/>
          </p:nvSpPr>
          <p:spPr>
            <a:xfrm rot="7009200">
              <a:off x="9570240" y="4215600"/>
              <a:ext cx="1724400" cy="16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 rot="7009200">
              <a:off x="9714600" y="4506840"/>
              <a:ext cx="608400" cy="718560"/>
            </a:xfrm>
            <a:custGeom>
              <a:avLst/>
              <a:gdLst>
                <a:gd name="textAreaLeft" fmla="*/ 0 w 608400"/>
                <a:gd name="textAreaRight" fmla="*/ 608760 w 60840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7009200">
              <a:off x="9810000" y="5150520"/>
              <a:ext cx="691200" cy="604800"/>
            </a:xfrm>
            <a:custGeom>
              <a:avLst/>
              <a:gdLst>
                <a:gd name="textAreaLeft" fmla="*/ 0 w 691200"/>
                <a:gd name="textAreaRight" fmla="*/ 691560 w 6912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 rot="7009200">
              <a:off x="10480680" y="524844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 rot="7009200">
              <a:off x="10759320" y="4611240"/>
              <a:ext cx="525960" cy="60480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9"/>
            <p:cNvSpPr/>
            <p:nvPr/>
          </p:nvSpPr>
          <p:spPr>
            <a:xfrm rot="7009200">
              <a:off x="10169640" y="4235760"/>
              <a:ext cx="714600" cy="5378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8" name="图片 11" descr=""/>
          <p:cNvPicPr/>
          <p:nvPr/>
        </p:nvPicPr>
        <p:blipFill>
          <a:blip r:embed="rId1"/>
          <a:stretch/>
        </p:blipFill>
        <p:spPr>
          <a:xfrm>
            <a:off x="2099880" y="3413880"/>
            <a:ext cx="7992360" cy="30240"/>
          </a:xfrm>
          <a:prstGeom prst="rect">
            <a:avLst/>
          </a:prstGeom>
          <a:ln w="0">
            <a:noFill/>
          </a:ln>
        </p:spPr>
      </p:pic>
      <p:sp>
        <p:nvSpPr>
          <p:cNvPr id="469" name="文本框 12"/>
          <p:cNvSpPr/>
          <p:nvPr/>
        </p:nvSpPr>
        <p:spPr>
          <a:xfrm>
            <a:off x="3202920" y="986400"/>
            <a:ext cx="6815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262626"/>
                </a:solidFill>
                <a:latin typeface="方正苏新诗柳楷简体"/>
                <a:ea typeface="方正苏新诗柳楷简体"/>
              </a:rPr>
              <a:t>写下您的文本 写下您的文本 写下您的文本 写下您的文本写下您的文本 写下您的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13"/>
          <p:cNvSpPr/>
          <p:nvPr/>
        </p:nvSpPr>
        <p:spPr>
          <a:xfrm>
            <a:off x="3115800" y="4064760"/>
            <a:ext cx="6815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3b3838"/>
                </a:solidFill>
                <a:latin typeface="方正苏新诗柳楷简体"/>
                <a:ea typeface="方正苏新诗柳楷简体"/>
              </a:rPr>
              <a:t>写下您的文本 写下您的文本 写下您的文本 写下您的文本写下您的文本 写下您的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12"/>
          <p:cNvGrpSpPr/>
          <p:nvPr/>
        </p:nvGrpSpPr>
        <p:grpSpPr>
          <a:xfrm>
            <a:off x="2378160" y="2617920"/>
            <a:ext cx="846720" cy="791640"/>
            <a:chOff x="2378160" y="2617920"/>
            <a:chExt cx="846720" cy="791640"/>
          </a:xfrm>
        </p:grpSpPr>
        <p:sp>
          <p:nvSpPr>
            <p:cNvPr id="472" name="AutoShape 11"/>
            <p:cNvSpPr/>
            <p:nvPr/>
          </p:nvSpPr>
          <p:spPr>
            <a:xfrm flipV="1" rot="17175000">
              <a:off x="2525760" y="2651040"/>
              <a:ext cx="57384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 flipV="1" rot="17175000">
              <a:off x="2491200" y="2662560"/>
              <a:ext cx="620280" cy="7012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360 h 701280"/>
                <a:gd name="textAreaBottom" fmla="*/ 702000 h 701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Group 4"/>
          <p:cNvGrpSpPr/>
          <p:nvPr/>
        </p:nvGrpSpPr>
        <p:grpSpPr>
          <a:xfrm>
            <a:off x="2023560" y="3661920"/>
            <a:ext cx="708840" cy="732600"/>
            <a:chOff x="2023560" y="3661920"/>
            <a:chExt cx="708840" cy="732600"/>
          </a:xfrm>
        </p:grpSpPr>
        <p:sp>
          <p:nvSpPr>
            <p:cNvPr id="475" name="AutoShape 3"/>
            <p:cNvSpPr/>
            <p:nvPr/>
          </p:nvSpPr>
          <p:spPr>
            <a:xfrm rot="4282200">
              <a:off x="2084040" y="3753000"/>
              <a:ext cx="58752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5"/>
            <p:cNvSpPr/>
            <p:nvPr/>
          </p:nvSpPr>
          <p:spPr>
            <a:xfrm rot="4282200">
              <a:off x="2137320" y="3969000"/>
              <a:ext cx="207000" cy="2448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rot="4282200">
              <a:off x="2298240" y="4095360"/>
              <a:ext cx="235440" cy="2059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7"/>
            <p:cNvSpPr/>
            <p:nvPr/>
          </p:nvSpPr>
          <p:spPr>
            <a:xfrm rot="4282200">
              <a:off x="2484000" y="3972960"/>
              <a:ext cx="192600" cy="1926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8"/>
            <p:cNvSpPr/>
            <p:nvPr/>
          </p:nvSpPr>
          <p:spPr>
            <a:xfrm rot="4282200">
              <a:off x="2402640" y="3755520"/>
              <a:ext cx="178920" cy="20592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9"/>
            <p:cNvSpPr/>
            <p:nvPr/>
          </p:nvSpPr>
          <p:spPr>
            <a:xfrm rot="4282200">
              <a:off x="2152800" y="3789720"/>
              <a:ext cx="243360" cy="1832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Group 4"/>
          <p:cNvGrpSpPr/>
          <p:nvPr/>
        </p:nvGrpSpPr>
        <p:grpSpPr>
          <a:xfrm>
            <a:off x="9985680" y="413280"/>
            <a:ext cx="541080" cy="559080"/>
            <a:chOff x="9985680" y="413280"/>
            <a:chExt cx="541080" cy="559080"/>
          </a:xfrm>
        </p:grpSpPr>
        <p:sp>
          <p:nvSpPr>
            <p:cNvPr id="482" name="AutoShape 3"/>
            <p:cNvSpPr/>
            <p:nvPr/>
          </p:nvSpPr>
          <p:spPr>
            <a:xfrm rot="4282200">
              <a:off x="10031760" y="482760"/>
              <a:ext cx="44856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5"/>
            <p:cNvSpPr/>
            <p:nvPr/>
          </p:nvSpPr>
          <p:spPr>
            <a:xfrm rot="4282200">
              <a:off x="10072080" y="647640"/>
              <a:ext cx="158040" cy="1868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"/>
            <p:cNvSpPr/>
            <p:nvPr/>
          </p:nvSpPr>
          <p:spPr>
            <a:xfrm rot="4282200">
              <a:off x="10195560" y="744480"/>
              <a:ext cx="179640" cy="1569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7"/>
            <p:cNvSpPr/>
            <p:nvPr/>
          </p:nvSpPr>
          <p:spPr>
            <a:xfrm rot="4282200">
              <a:off x="10337040" y="650880"/>
              <a:ext cx="146880" cy="146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8"/>
            <p:cNvSpPr/>
            <p:nvPr/>
          </p:nvSpPr>
          <p:spPr>
            <a:xfrm rot="4282200">
              <a:off x="10275480" y="484920"/>
              <a:ext cx="136800" cy="156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9"/>
            <p:cNvSpPr/>
            <p:nvPr/>
          </p:nvSpPr>
          <p:spPr>
            <a:xfrm rot="4282200">
              <a:off x="10084320" y="510840"/>
              <a:ext cx="185760" cy="1396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8" name="Group 4"/>
          <p:cNvGrpSpPr/>
          <p:nvPr/>
        </p:nvGrpSpPr>
        <p:grpSpPr>
          <a:xfrm>
            <a:off x="10517040" y="902520"/>
            <a:ext cx="362160" cy="383040"/>
            <a:chOff x="10517040" y="902520"/>
            <a:chExt cx="362160" cy="383040"/>
          </a:xfrm>
        </p:grpSpPr>
        <p:sp>
          <p:nvSpPr>
            <p:cNvPr id="489" name="AutoShape 3"/>
            <p:cNvSpPr/>
            <p:nvPr/>
          </p:nvSpPr>
          <p:spPr>
            <a:xfrm rot="5678400">
              <a:off x="10519200" y="926640"/>
              <a:ext cx="3571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5"/>
            <p:cNvSpPr/>
            <p:nvPr/>
          </p:nvSpPr>
          <p:spPr>
            <a:xfrm rot="5678400">
              <a:off x="10543320" y="1022040"/>
              <a:ext cx="126000" cy="1486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 rot="5678400">
              <a:off x="10607040" y="1135800"/>
              <a:ext cx="142920" cy="1249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 rot="5678400">
              <a:off x="10742760" y="1107360"/>
              <a:ext cx="117000" cy="1170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 rot="5678400">
              <a:off x="10748160" y="964080"/>
              <a:ext cx="108720" cy="1249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 rot="5678400">
              <a:off x="10601280" y="931320"/>
              <a:ext cx="147960" cy="11124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12"/>
          <p:cNvGrpSpPr/>
          <p:nvPr/>
        </p:nvGrpSpPr>
        <p:grpSpPr>
          <a:xfrm>
            <a:off x="1064160" y="6167520"/>
            <a:ext cx="695880" cy="668880"/>
            <a:chOff x="1064160" y="6167520"/>
            <a:chExt cx="695880" cy="668880"/>
          </a:xfrm>
        </p:grpSpPr>
        <p:sp>
          <p:nvSpPr>
            <p:cNvPr id="496" name="AutoShape 11"/>
            <p:cNvSpPr/>
            <p:nvPr/>
          </p:nvSpPr>
          <p:spPr>
            <a:xfrm rot="17841600">
              <a:off x="1197000" y="6221880"/>
              <a:ext cx="4399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13"/>
            <p:cNvSpPr/>
            <p:nvPr/>
          </p:nvSpPr>
          <p:spPr>
            <a:xfrm rot="17841600">
              <a:off x="1174320" y="6233040"/>
              <a:ext cx="475200" cy="537480"/>
            </a:xfrm>
            <a:custGeom>
              <a:avLst/>
              <a:gdLst>
                <a:gd name="textAreaLeft" fmla="*/ 0 w 475200"/>
                <a:gd name="textAreaRight" fmla="*/ 475560 w 475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1" descr=""/>
          <p:cNvPicPr/>
          <p:nvPr/>
        </p:nvPicPr>
        <p:blipFill>
          <a:blip r:embed="rId1"/>
          <a:stretch/>
        </p:blipFill>
        <p:spPr>
          <a:xfrm>
            <a:off x="4782240" y="2170080"/>
            <a:ext cx="2627280" cy="251748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2"/>
          <p:cNvSpPr/>
          <p:nvPr/>
        </p:nvSpPr>
        <p:spPr>
          <a:xfrm>
            <a:off x="4228560" y="1300680"/>
            <a:ext cx="9270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4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3"/>
          <p:cNvSpPr/>
          <p:nvPr/>
        </p:nvSpPr>
        <p:spPr>
          <a:xfrm>
            <a:off x="2833560" y="3259440"/>
            <a:ext cx="6950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写下您的目录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1237320" y="2052360"/>
            <a:ext cx="594720" cy="582840"/>
            <a:chOff x="1237320" y="2052360"/>
            <a:chExt cx="594720" cy="582840"/>
          </a:xfrm>
        </p:grpSpPr>
        <p:sp>
          <p:nvSpPr>
            <p:cNvPr id="502" name="AutoShape 3"/>
            <p:cNvSpPr/>
            <p:nvPr/>
          </p:nvSpPr>
          <p:spPr>
            <a:xfrm rot="1672200">
              <a:off x="1309680" y="2133000"/>
              <a:ext cx="45000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5"/>
            <p:cNvSpPr/>
            <p:nvPr/>
          </p:nvSpPr>
          <p:spPr>
            <a:xfrm rot="1672200">
              <a:off x="1412280" y="2356920"/>
              <a:ext cx="158760" cy="18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6"/>
            <p:cNvSpPr/>
            <p:nvPr/>
          </p:nvSpPr>
          <p:spPr>
            <a:xfrm rot="1672200">
              <a:off x="1555560" y="2338920"/>
              <a:ext cx="180360" cy="15768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 rot="1672200">
              <a:off x="1595160" y="2185920"/>
              <a:ext cx="147240" cy="1472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 rot="1672200">
              <a:off x="1440360" y="2110320"/>
              <a:ext cx="137160" cy="1576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9"/>
            <p:cNvSpPr/>
            <p:nvPr/>
          </p:nvSpPr>
          <p:spPr>
            <a:xfrm rot="1672200">
              <a:off x="1306800" y="2246400"/>
              <a:ext cx="186480" cy="14004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Group 4"/>
          <p:cNvGrpSpPr/>
          <p:nvPr/>
        </p:nvGrpSpPr>
        <p:grpSpPr>
          <a:xfrm>
            <a:off x="1706760" y="1244880"/>
            <a:ext cx="840240" cy="868320"/>
            <a:chOff x="1706760" y="1244880"/>
            <a:chExt cx="840240" cy="868320"/>
          </a:xfrm>
        </p:grpSpPr>
        <p:sp>
          <p:nvSpPr>
            <p:cNvPr id="509" name="AutoShape 3"/>
            <p:cNvSpPr/>
            <p:nvPr/>
          </p:nvSpPr>
          <p:spPr>
            <a:xfrm rot="4282200">
              <a:off x="1778400" y="135288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"/>
            <p:cNvSpPr/>
            <p:nvPr/>
          </p:nvSpPr>
          <p:spPr>
            <a:xfrm rot="4282200">
              <a:off x="1841400" y="160884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"/>
            <p:cNvSpPr/>
            <p:nvPr/>
          </p:nvSpPr>
          <p:spPr>
            <a:xfrm rot="4282200">
              <a:off x="2032560" y="175860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7"/>
            <p:cNvSpPr/>
            <p:nvPr/>
          </p:nvSpPr>
          <p:spPr>
            <a:xfrm rot="4282200">
              <a:off x="2252520" y="161352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8"/>
            <p:cNvSpPr/>
            <p:nvPr/>
          </p:nvSpPr>
          <p:spPr>
            <a:xfrm rot="4282200">
              <a:off x="2156400" y="135576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9"/>
            <p:cNvSpPr/>
            <p:nvPr/>
          </p:nvSpPr>
          <p:spPr>
            <a:xfrm rot="4282200">
              <a:off x="1860120" y="139608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5" name="Group 4"/>
          <p:cNvGrpSpPr/>
          <p:nvPr/>
        </p:nvGrpSpPr>
        <p:grpSpPr>
          <a:xfrm>
            <a:off x="8875080" y="4181400"/>
            <a:ext cx="470520" cy="600480"/>
            <a:chOff x="8875080" y="4181400"/>
            <a:chExt cx="470520" cy="600480"/>
          </a:xfrm>
        </p:grpSpPr>
        <p:sp>
          <p:nvSpPr>
            <p:cNvPr id="516" name="AutoShape 3"/>
            <p:cNvSpPr/>
            <p:nvPr/>
          </p:nvSpPr>
          <p:spPr>
            <a:xfrm rot="11043600">
              <a:off x="8903520" y="4237920"/>
              <a:ext cx="427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"/>
            <p:cNvSpPr/>
            <p:nvPr/>
          </p:nvSpPr>
          <p:spPr>
            <a:xfrm rot="11043600">
              <a:off x="9136440" y="4204440"/>
              <a:ext cx="203760" cy="15408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9" h="82">
                  <a:moveTo>
                    <a:pt x="0" y="20"/>
                  </a:moveTo>
                  <a:cubicBezTo>
                    <a:pt x="0" y="20"/>
                    <a:pt x="38" y="82"/>
                    <a:pt x="109" y="54"/>
                  </a:cubicBezTo>
                  <a:cubicBezTo>
                    <a:pt x="109" y="54"/>
                    <a:pt x="74" y="0"/>
                    <a:pt x="0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6"/>
            <p:cNvSpPr/>
            <p:nvPr/>
          </p:nvSpPr>
          <p:spPr>
            <a:xfrm rot="11043600">
              <a:off x="9129960" y="4329720"/>
              <a:ext cx="114120" cy="93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1" h="50">
                  <a:moveTo>
                    <a:pt x="0" y="0"/>
                  </a:moveTo>
                  <a:cubicBezTo>
                    <a:pt x="0" y="0"/>
                    <a:pt x="7" y="50"/>
                    <a:pt x="61" y="50"/>
                  </a:cubicBezTo>
                  <a:cubicBezTo>
                    <a:pt x="61" y="50"/>
                    <a:pt x="53" y="7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7"/>
            <p:cNvSpPr/>
            <p:nvPr/>
          </p:nvSpPr>
          <p:spPr>
            <a:xfrm rot="11043600">
              <a:off x="9002160" y="4320360"/>
              <a:ext cx="114120" cy="93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1" h="50">
                  <a:moveTo>
                    <a:pt x="61" y="0"/>
                  </a:moveTo>
                  <a:cubicBezTo>
                    <a:pt x="61" y="0"/>
                    <a:pt x="54" y="50"/>
                    <a:pt x="0" y="50"/>
                  </a:cubicBezTo>
                  <a:cubicBezTo>
                    <a:pt x="0" y="50"/>
                    <a:pt x="8" y="7"/>
                    <a:pt x="61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8"/>
            <p:cNvSpPr/>
            <p:nvPr/>
          </p:nvSpPr>
          <p:spPr>
            <a:xfrm rot="11043600">
              <a:off x="8910360" y="4188240"/>
              <a:ext cx="203760" cy="15408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9" h="82">
                  <a:moveTo>
                    <a:pt x="109" y="20"/>
                  </a:moveTo>
                  <a:cubicBezTo>
                    <a:pt x="109" y="20"/>
                    <a:pt x="71" y="82"/>
                    <a:pt x="0" y="54"/>
                  </a:cubicBezTo>
                  <a:cubicBezTo>
                    <a:pt x="0" y="54"/>
                    <a:pt x="35" y="0"/>
                    <a:pt x="109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9"/>
            <p:cNvSpPr/>
            <p:nvPr/>
          </p:nvSpPr>
          <p:spPr>
            <a:xfrm rot="11640000">
              <a:off x="9049320" y="4393080"/>
              <a:ext cx="110160" cy="1526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9"/>
            <p:cNvSpPr/>
            <p:nvPr/>
          </p:nvSpPr>
          <p:spPr>
            <a:xfrm rot="12900000">
              <a:off x="8908920" y="4611240"/>
              <a:ext cx="110160" cy="1526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Group 4"/>
          <p:cNvGrpSpPr/>
          <p:nvPr/>
        </p:nvGrpSpPr>
        <p:grpSpPr>
          <a:xfrm>
            <a:off x="10533240" y="5636880"/>
            <a:ext cx="492840" cy="467280"/>
            <a:chOff x="10533240" y="5636880"/>
            <a:chExt cx="492840" cy="467280"/>
          </a:xfrm>
        </p:grpSpPr>
        <p:sp>
          <p:nvSpPr>
            <p:cNvPr id="524" name="AutoShape 3"/>
            <p:cNvSpPr/>
            <p:nvPr/>
          </p:nvSpPr>
          <p:spPr>
            <a:xfrm rot="371400">
              <a:off x="10554480" y="5659560"/>
              <a:ext cx="45000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5"/>
            <p:cNvSpPr/>
            <p:nvPr/>
          </p:nvSpPr>
          <p:spPr>
            <a:xfrm rot="371400">
              <a:off x="10699920" y="5892120"/>
              <a:ext cx="158760" cy="18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 rot="371400">
              <a:off x="10819800" y="5819400"/>
              <a:ext cx="180360" cy="15768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 rot="371400">
              <a:off x="10799280" y="5668920"/>
              <a:ext cx="147240" cy="1472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 rot="371400">
              <a:off x="10630080" y="5657400"/>
              <a:ext cx="137160" cy="1576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 rot="371400">
              <a:off x="10550880" y="5824440"/>
              <a:ext cx="186480" cy="14004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4"/>
          <p:cNvGrpSpPr/>
          <p:nvPr/>
        </p:nvGrpSpPr>
        <p:grpSpPr>
          <a:xfrm>
            <a:off x="6256440" y="2437920"/>
            <a:ext cx="1733760" cy="1791720"/>
            <a:chOff x="6256440" y="2437920"/>
            <a:chExt cx="1733760" cy="1791720"/>
          </a:xfrm>
        </p:grpSpPr>
        <p:sp>
          <p:nvSpPr>
            <p:cNvPr id="531" name="AutoShape 3"/>
            <p:cNvSpPr/>
            <p:nvPr/>
          </p:nvSpPr>
          <p:spPr>
            <a:xfrm rot="4282200">
              <a:off x="6404760" y="2660760"/>
              <a:ext cx="1437120" cy="13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5"/>
            <p:cNvSpPr/>
            <p:nvPr/>
          </p:nvSpPr>
          <p:spPr>
            <a:xfrm rot="4282200">
              <a:off x="6534360" y="3188520"/>
              <a:ext cx="507240" cy="598680"/>
            </a:xfrm>
            <a:custGeom>
              <a:avLst/>
              <a:gdLst>
                <a:gd name="textAreaLeft" fmla="*/ 0 w 507240"/>
                <a:gd name="textAreaRight" fmla="*/ 507600 w 50724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rot="4282200">
              <a:off x="6928560" y="3497400"/>
              <a:ext cx="576000" cy="50400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7"/>
            <p:cNvSpPr/>
            <p:nvPr/>
          </p:nvSpPr>
          <p:spPr>
            <a:xfrm rot="4282200">
              <a:off x="7382520" y="3198600"/>
              <a:ext cx="471240" cy="47124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8"/>
            <p:cNvSpPr/>
            <p:nvPr/>
          </p:nvSpPr>
          <p:spPr>
            <a:xfrm rot="4282200">
              <a:off x="7184160" y="2667600"/>
              <a:ext cx="438480" cy="50400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9"/>
            <p:cNvSpPr/>
            <p:nvPr/>
          </p:nvSpPr>
          <p:spPr>
            <a:xfrm rot="4282200">
              <a:off x="6572880" y="2750760"/>
              <a:ext cx="595440" cy="44820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Group 4"/>
          <p:cNvGrpSpPr/>
          <p:nvPr/>
        </p:nvGrpSpPr>
        <p:grpSpPr>
          <a:xfrm>
            <a:off x="2065320" y="2955240"/>
            <a:ext cx="1195560" cy="1235520"/>
            <a:chOff x="2065320" y="2955240"/>
            <a:chExt cx="1195560" cy="1235520"/>
          </a:xfrm>
        </p:grpSpPr>
        <p:sp>
          <p:nvSpPr>
            <p:cNvPr id="538" name="AutoShape 3"/>
            <p:cNvSpPr/>
            <p:nvPr/>
          </p:nvSpPr>
          <p:spPr>
            <a:xfrm rot="4282200">
              <a:off x="2167560" y="3108960"/>
              <a:ext cx="991080" cy="9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5"/>
            <p:cNvSpPr/>
            <p:nvPr/>
          </p:nvSpPr>
          <p:spPr>
            <a:xfrm rot="4282200">
              <a:off x="2257560" y="3472920"/>
              <a:ext cx="349560" cy="41292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6"/>
            <p:cNvSpPr/>
            <p:nvPr/>
          </p:nvSpPr>
          <p:spPr>
            <a:xfrm rot="4282200">
              <a:off x="2529000" y="36860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7"/>
            <p:cNvSpPr/>
            <p:nvPr/>
          </p:nvSpPr>
          <p:spPr>
            <a:xfrm rot="4282200">
              <a:off x="2842200" y="3480120"/>
              <a:ext cx="324720" cy="3247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8"/>
            <p:cNvSpPr/>
            <p:nvPr/>
          </p:nvSpPr>
          <p:spPr>
            <a:xfrm rot="4282200">
              <a:off x="2705040" y="3113640"/>
              <a:ext cx="302400" cy="3474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9"/>
            <p:cNvSpPr/>
            <p:nvPr/>
          </p:nvSpPr>
          <p:spPr>
            <a:xfrm rot="4282200">
              <a:off x="2283840" y="3170880"/>
              <a:ext cx="410760" cy="3088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Group 4"/>
          <p:cNvGrpSpPr/>
          <p:nvPr/>
        </p:nvGrpSpPr>
        <p:grpSpPr>
          <a:xfrm>
            <a:off x="3560040" y="2955240"/>
            <a:ext cx="1195560" cy="1235520"/>
            <a:chOff x="3560040" y="2955240"/>
            <a:chExt cx="1195560" cy="1235520"/>
          </a:xfrm>
        </p:grpSpPr>
        <p:sp>
          <p:nvSpPr>
            <p:cNvPr id="545" name="AutoShape 3"/>
            <p:cNvSpPr/>
            <p:nvPr/>
          </p:nvSpPr>
          <p:spPr>
            <a:xfrm rot="4282200">
              <a:off x="3662280" y="3108960"/>
              <a:ext cx="991080" cy="9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 rot="4282200">
              <a:off x="3752280" y="3472920"/>
              <a:ext cx="349560" cy="41292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 rot="4282200">
              <a:off x="4023720" y="36860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 rot="4282200">
              <a:off x="4336920" y="3480120"/>
              <a:ext cx="324720" cy="3247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 rot="4282200">
              <a:off x="4199760" y="3113640"/>
              <a:ext cx="302400" cy="3474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 rot="4282200">
              <a:off x="3778560" y="3170880"/>
              <a:ext cx="410760" cy="3088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1" name="Group 4"/>
          <p:cNvGrpSpPr/>
          <p:nvPr/>
        </p:nvGrpSpPr>
        <p:grpSpPr>
          <a:xfrm>
            <a:off x="4932720" y="2955240"/>
            <a:ext cx="1195560" cy="1235520"/>
            <a:chOff x="4932720" y="2955240"/>
            <a:chExt cx="1195560" cy="1235520"/>
          </a:xfrm>
        </p:grpSpPr>
        <p:sp>
          <p:nvSpPr>
            <p:cNvPr id="552" name="AutoShape 3"/>
            <p:cNvSpPr/>
            <p:nvPr/>
          </p:nvSpPr>
          <p:spPr>
            <a:xfrm rot="4282200">
              <a:off x="5034960" y="3108960"/>
              <a:ext cx="991080" cy="9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 rot="4282200">
              <a:off x="5124960" y="3472920"/>
              <a:ext cx="349560" cy="41292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 rot="4282200">
              <a:off x="5396400" y="36860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 rot="4282200">
              <a:off x="5709600" y="3480120"/>
              <a:ext cx="324720" cy="3247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 rot="4282200">
              <a:off x="5572440" y="3113640"/>
              <a:ext cx="302400" cy="3474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 rot="4282200">
              <a:off x="5151240" y="3170880"/>
              <a:ext cx="410760" cy="3088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8" name="Group 4"/>
          <p:cNvGrpSpPr/>
          <p:nvPr/>
        </p:nvGrpSpPr>
        <p:grpSpPr>
          <a:xfrm>
            <a:off x="8366040" y="2955240"/>
            <a:ext cx="1195560" cy="1235520"/>
            <a:chOff x="8366040" y="2955240"/>
            <a:chExt cx="1195560" cy="1235520"/>
          </a:xfrm>
        </p:grpSpPr>
        <p:sp>
          <p:nvSpPr>
            <p:cNvPr id="559" name="AutoShape 3"/>
            <p:cNvSpPr/>
            <p:nvPr/>
          </p:nvSpPr>
          <p:spPr>
            <a:xfrm rot="4282200">
              <a:off x="8468280" y="3108960"/>
              <a:ext cx="991080" cy="9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"/>
            <p:cNvSpPr/>
            <p:nvPr/>
          </p:nvSpPr>
          <p:spPr>
            <a:xfrm rot="4282200">
              <a:off x="8558280" y="3472920"/>
              <a:ext cx="349560" cy="41292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6"/>
            <p:cNvSpPr/>
            <p:nvPr/>
          </p:nvSpPr>
          <p:spPr>
            <a:xfrm rot="4282200">
              <a:off x="8829720" y="36860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7"/>
            <p:cNvSpPr/>
            <p:nvPr/>
          </p:nvSpPr>
          <p:spPr>
            <a:xfrm rot="4282200">
              <a:off x="9142920" y="3480120"/>
              <a:ext cx="324720" cy="3247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8"/>
            <p:cNvSpPr/>
            <p:nvPr/>
          </p:nvSpPr>
          <p:spPr>
            <a:xfrm rot="4282200">
              <a:off x="9005760" y="3113640"/>
              <a:ext cx="302400" cy="3474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9"/>
            <p:cNvSpPr/>
            <p:nvPr/>
          </p:nvSpPr>
          <p:spPr>
            <a:xfrm rot="4282200">
              <a:off x="8584560" y="3170880"/>
              <a:ext cx="410760" cy="3088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文本框 36"/>
          <p:cNvSpPr/>
          <p:nvPr/>
        </p:nvSpPr>
        <p:spPr>
          <a:xfrm>
            <a:off x="2277000" y="4103280"/>
            <a:ext cx="113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38"/>
          <p:cNvSpPr/>
          <p:nvPr/>
        </p:nvSpPr>
        <p:spPr>
          <a:xfrm>
            <a:off x="3804840" y="4102920"/>
            <a:ext cx="113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39"/>
          <p:cNvSpPr/>
          <p:nvPr/>
        </p:nvSpPr>
        <p:spPr>
          <a:xfrm>
            <a:off x="5216760" y="4132800"/>
            <a:ext cx="113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40"/>
          <p:cNvSpPr/>
          <p:nvPr/>
        </p:nvSpPr>
        <p:spPr>
          <a:xfrm>
            <a:off x="8686800" y="4146480"/>
            <a:ext cx="113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41"/>
          <p:cNvSpPr/>
          <p:nvPr/>
        </p:nvSpPr>
        <p:spPr>
          <a:xfrm>
            <a:off x="6770160" y="4132800"/>
            <a:ext cx="121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4"/>
          <p:cNvGrpSpPr/>
          <p:nvPr/>
        </p:nvGrpSpPr>
        <p:grpSpPr>
          <a:xfrm>
            <a:off x="499320" y="459360"/>
            <a:ext cx="811440" cy="1034640"/>
            <a:chOff x="499320" y="459360"/>
            <a:chExt cx="811440" cy="1034640"/>
          </a:xfrm>
        </p:grpSpPr>
        <p:sp>
          <p:nvSpPr>
            <p:cNvPr id="571" name="AutoShape 3"/>
            <p:cNvSpPr/>
            <p:nvPr/>
          </p:nvSpPr>
          <p:spPr>
            <a:xfrm rot="11043600">
              <a:off x="549000" y="556560"/>
              <a:ext cx="7362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"/>
            <p:cNvSpPr/>
            <p:nvPr/>
          </p:nvSpPr>
          <p:spPr>
            <a:xfrm rot="11043600">
              <a:off x="950760" y="498960"/>
              <a:ext cx="351000" cy="26604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9" h="82">
                  <a:moveTo>
                    <a:pt x="0" y="20"/>
                  </a:moveTo>
                  <a:cubicBezTo>
                    <a:pt x="0" y="20"/>
                    <a:pt x="38" y="82"/>
                    <a:pt x="109" y="54"/>
                  </a:cubicBezTo>
                  <a:cubicBezTo>
                    <a:pt x="109" y="54"/>
                    <a:pt x="74" y="0"/>
                    <a:pt x="0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6"/>
            <p:cNvSpPr/>
            <p:nvPr/>
          </p:nvSpPr>
          <p:spPr>
            <a:xfrm rot="11043600">
              <a:off x="938880" y="714600"/>
              <a:ext cx="196920" cy="1620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61" h="50">
                  <a:moveTo>
                    <a:pt x="0" y="0"/>
                  </a:moveTo>
                  <a:cubicBezTo>
                    <a:pt x="0" y="0"/>
                    <a:pt x="7" y="50"/>
                    <a:pt x="61" y="50"/>
                  </a:cubicBezTo>
                  <a:cubicBezTo>
                    <a:pt x="61" y="50"/>
                    <a:pt x="53" y="7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7"/>
            <p:cNvSpPr/>
            <p:nvPr/>
          </p:nvSpPr>
          <p:spPr>
            <a:xfrm rot="11043600">
              <a:off x="718920" y="699120"/>
              <a:ext cx="196920" cy="1620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61" h="50">
                  <a:moveTo>
                    <a:pt x="61" y="0"/>
                  </a:moveTo>
                  <a:cubicBezTo>
                    <a:pt x="61" y="0"/>
                    <a:pt x="54" y="50"/>
                    <a:pt x="0" y="50"/>
                  </a:cubicBezTo>
                  <a:cubicBezTo>
                    <a:pt x="0" y="50"/>
                    <a:pt x="8" y="7"/>
                    <a:pt x="61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8"/>
            <p:cNvSpPr/>
            <p:nvPr/>
          </p:nvSpPr>
          <p:spPr>
            <a:xfrm rot="11043600">
              <a:off x="560880" y="471240"/>
              <a:ext cx="351000" cy="26604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9" h="82">
                  <a:moveTo>
                    <a:pt x="109" y="20"/>
                  </a:moveTo>
                  <a:cubicBezTo>
                    <a:pt x="109" y="20"/>
                    <a:pt x="71" y="82"/>
                    <a:pt x="0" y="54"/>
                  </a:cubicBezTo>
                  <a:cubicBezTo>
                    <a:pt x="0" y="54"/>
                    <a:pt x="35" y="0"/>
                    <a:pt x="109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 rot="11640000">
              <a:off x="800280" y="824040"/>
              <a:ext cx="190080" cy="2631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9"/>
            <p:cNvSpPr/>
            <p:nvPr/>
          </p:nvSpPr>
          <p:spPr>
            <a:xfrm rot="12900000">
              <a:off x="557640" y="1199880"/>
              <a:ext cx="190080" cy="2631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50"/>
          <p:cNvSpPr/>
          <p:nvPr/>
        </p:nvSpPr>
        <p:spPr>
          <a:xfrm>
            <a:off x="1417680" y="522720"/>
            <a:ext cx="7737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请写下您的文本 请写下您的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4"/>
          <p:cNvGrpSpPr/>
          <p:nvPr/>
        </p:nvGrpSpPr>
        <p:grpSpPr>
          <a:xfrm>
            <a:off x="3794760" y="1633320"/>
            <a:ext cx="721080" cy="744840"/>
            <a:chOff x="3794760" y="1633320"/>
            <a:chExt cx="721080" cy="744840"/>
          </a:xfrm>
        </p:grpSpPr>
        <p:sp>
          <p:nvSpPr>
            <p:cNvPr id="580" name="AutoShape 3"/>
            <p:cNvSpPr/>
            <p:nvPr/>
          </p:nvSpPr>
          <p:spPr>
            <a:xfrm rot="4282200">
              <a:off x="3856320" y="1725840"/>
              <a:ext cx="5976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"/>
            <p:cNvSpPr/>
            <p:nvPr/>
          </p:nvSpPr>
          <p:spPr>
            <a:xfrm rot="4282200">
              <a:off x="3910680" y="1945440"/>
              <a:ext cx="210600" cy="248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6"/>
            <p:cNvSpPr/>
            <p:nvPr/>
          </p:nvSpPr>
          <p:spPr>
            <a:xfrm rot="4282200">
              <a:off x="4074480" y="2073960"/>
              <a:ext cx="239400" cy="209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7"/>
            <p:cNvSpPr/>
            <p:nvPr/>
          </p:nvSpPr>
          <p:spPr>
            <a:xfrm rot="4282200">
              <a:off x="4263480" y="1949400"/>
              <a:ext cx="195840" cy="1958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8"/>
            <p:cNvSpPr/>
            <p:nvPr/>
          </p:nvSpPr>
          <p:spPr>
            <a:xfrm rot="4282200">
              <a:off x="4181040" y="1728360"/>
              <a:ext cx="182160" cy="209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9"/>
            <p:cNvSpPr/>
            <p:nvPr/>
          </p:nvSpPr>
          <p:spPr>
            <a:xfrm rot="4282200">
              <a:off x="3926520" y="1763280"/>
              <a:ext cx="247680" cy="186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6" name="Group 4"/>
          <p:cNvGrpSpPr/>
          <p:nvPr/>
        </p:nvGrpSpPr>
        <p:grpSpPr>
          <a:xfrm>
            <a:off x="4836240" y="1962000"/>
            <a:ext cx="520200" cy="537480"/>
            <a:chOff x="4836240" y="1962000"/>
            <a:chExt cx="520200" cy="537480"/>
          </a:xfrm>
        </p:grpSpPr>
        <p:sp>
          <p:nvSpPr>
            <p:cNvPr id="587" name="AutoShape 3"/>
            <p:cNvSpPr/>
            <p:nvPr/>
          </p:nvSpPr>
          <p:spPr>
            <a:xfrm rot="4282200">
              <a:off x="4880520" y="2028960"/>
              <a:ext cx="43128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"/>
            <p:cNvSpPr/>
            <p:nvPr/>
          </p:nvSpPr>
          <p:spPr>
            <a:xfrm rot="4282200">
              <a:off x="4919400" y="2187000"/>
              <a:ext cx="151920" cy="1796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6"/>
            <p:cNvSpPr/>
            <p:nvPr/>
          </p:nvSpPr>
          <p:spPr>
            <a:xfrm rot="4282200">
              <a:off x="5037840" y="2279880"/>
              <a:ext cx="172800" cy="1512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7"/>
            <p:cNvSpPr/>
            <p:nvPr/>
          </p:nvSpPr>
          <p:spPr>
            <a:xfrm rot="4282200">
              <a:off x="5174280" y="2190240"/>
              <a:ext cx="141120" cy="1411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8"/>
            <p:cNvSpPr/>
            <p:nvPr/>
          </p:nvSpPr>
          <p:spPr>
            <a:xfrm rot="4282200">
              <a:off x="5114520" y="2030760"/>
              <a:ext cx="131400" cy="1512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9"/>
            <p:cNvSpPr/>
            <p:nvPr/>
          </p:nvSpPr>
          <p:spPr>
            <a:xfrm rot="4282200">
              <a:off x="4931280" y="2055600"/>
              <a:ext cx="178560" cy="1342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3" name="Group 4"/>
          <p:cNvGrpSpPr/>
          <p:nvPr/>
        </p:nvGrpSpPr>
        <p:grpSpPr>
          <a:xfrm>
            <a:off x="8326080" y="4922280"/>
            <a:ext cx="721080" cy="744840"/>
            <a:chOff x="8326080" y="4922280"/>
            <a:chExt cx="721080" cy="744840"/>
          </a:xfrm>
        </p:grpSpPr>
        <p:sp>
          <p:nvSpPr>
            <p:cNvPr id="594" name="AutoShape 3"/>
            <p:cNvSpPr/>
            <p:nvPr/>
          </p:nvSpPr>
          <p:spPr>
            <a:xfrm rot="4282200">
              <a:off x="8387640" y="5014800"/>
              <a:ext cx="5976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"/>
            <p:cNvSpPr/>
            <p:nvPr/>
          </p:nvSpPr>
          <p:spPr>
            <a:xfrm rot="4282200">
              <a:off x="8442000" y="5234400"/>
              <a:ext cx="210600" cy="248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4282200">
              <a:off x="8605440" y="5362920"/>
              <a:ext cx="239400" cy="209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 rot="4282200">
              <a:off x="8794800" y="5238720"/>
              <a:ext cx="195840" cy="1958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 rot="4282200">
              <a:off x="8712000" y="5017680"/>
              <a:ext cx="182160" cy="209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 rot="4282200">
              <a:off x="8457840" y="5052600"/>
              <a:ext cx="247680" cy="186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0" name="Group 4"/>
          <p:cNvGrpSpPr/>
          <p:nvPr/>
        </p:nvGrpSpPr>
        <p:grpSpPr>
          <a:xfrm>
            <a:off x="8204400" y="5907960"/>
            <a:ext cx="383400" cy="396000"/>
            <a:chOff x="8204400" y="5907960"/>
            <a:chExt cx="383400" cy="396000"/>
          </a:xfrm>
        </p:grpSpPr>
        <p:sp>
          <p:nvSpPr>
            <p:cNvPr id="601" name="AutoShape 3"/>
            <p:cNvSpPr/>
            <p:nvPr/>
          </p:nvSpPr>
          <p:spPr>
            <a:xfrm rot="4282200">
              <a:off x="8237160" y="5956920"/>
              <a:ext cx="31752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5"/>
            <p:cNvSpPr/>
            <p:nvPr/>
          </p:nvSpPr>
          <p:spPr>
            <a:xfrm rot="4282200">
              <a:off x="8265960" y="6073920"/>
              <a:ext cx="111960" cy="1321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6"/>
            <p:cNvSpPr/>
            <p:nvPr/>
          </p:nvSpPr>
          <p:spPr>
            <a:xfrm rot="4282200">
              <a:off x="8353080" y="6142320"/>
              <a:ext cx="127080" cy="1112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7"/>
            <p:cNvSpPr/>
            <p:nvPr/>
          </p:nvSpPr>
          <p:spPr>
            <a:xfrm rot="4282200">
              <a:off x="8453520" y="6076080"/>
              <a:ext cx="104040" cy="104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8"/>
            <p:cNvSpPr/>
            <p:nvPr/>
          </p:nvSpPr>
          <p:spPr>
            <a:xfrm rot="4282200">
              <a:off x="8409600" y="5958360"/>
              <a:ext cx="96480" cy="1112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9"/>
            <p:cNvSpPr/>
            <p:nvPr/>
          </p:nvSpPr>
          <p:spPr>
            <a:xfrm rot="4282200">
              <a:off x="8274600" y="5977080"/>
              <a:ext cx="131400" cy="990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8395200" y="810720"/>
            <a:ext cx="3142440" cy="4260240"/>
            <a:chOff x="8395200" y="810720"/>
            <a:chExt cx="3142440" cy="4260240"/>
          </a:xfrm>
        </p:grpSpPr>
        <p:sp>
          <p:nvSpPr>
            <p:cNvPr id="608" name="AutoShape 3"/>
            <p:cNvSpPr/>
            <p:nvPr/>
          </p:nvSpPr>
          <p:spPr>
            <a:xfrm rot="11043600">
              <a:off x="8466480" y="1201680"/>
              <a:ext cx="2968200" cy="21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"/>
            <p:cNvSpPr/>
            <p:nvPr/>
          </p:nvSpPr>
          <p:spPr>
            <a:xfrm rot="11043600">
              <a:off x="10085400" y="970920"/>
              <a:ext cx="1415880" cy="1072800"/>
            </a:xfrm>
            <a:custGeom>
              <a:avLst/>
              <a:gdLst>
                <a:gd name="textAreaLeft" fmla="*/ 0 w 1415880"/>
                <a:gd name="textAreaRight" fmla="*/ 1416240 w 1415880"/>
                <a:gd name="textAreaTop" fmla="*/ 0 h 1072800"/>
                <a:gd name="textAreaBottom" fmla="*/ 1073160 h 1072800"/>
              </a:gdLst>
              <a:ahLst/>
              <a:rect l="textAreaLeft" t="textAreaTop" r="textAreaRight" b="textAreaBottom"/>
              <a:pathLst>
                <a:path w="109" h="82">
                  <a:moveTo>
                    <a:pt x="0" y="20"/>
                  </a:moveTo>
                  <a:cubicBezTo>
                    <a:pt x="0" y="20"/>
                    <a:pt x="38" y="82"/>
                    <a:pt x="109" y="54"/>
                  </a:cubicBezTo>
                  <a:cubicBezTo>
                    <a:pt x="109" y="54"/>
                    <a:pt x="74" y="0"/>
                    <a:pt x="0" y="2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6"/>
            <p:cNvSpPr/>
            <p:nvPr/>
          </p:nvSpPr>
          <p:spPr>
            <a:xfrm rot="11043600">
              <a:off x="10037880" y="1840320"/>
              <a:ext cx="794880" cy="65340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653400"/>
                <a:gd name="textAreaBottom" fmla="*/ 653760 h 653400"/>
              </a:gdLst>
              <a:ahLst/>
              <a:rect l="textAreaLeft" t="textAreaTop" r="textAreaRight" b="textAreaBottom"/>
              <a:pathLst>
                <a:path w="61" h="50">
                  <a:moveTo>
                    <a:pt x="0" y="0"/>
                  </a:moveTo>
                  <a:cubicBezTo>
                    <a:pt x="0" y="0"/>
                    <a:pt x="7" y="50"/>
                    <a:pt x="61" y="50"/>
                  </a:cubicBezTo>
                  <a:cubicBezTo>
                    <a:pt x="61" y="50"/>
                    <a:pt x="53" y="7"/>
                    <a:pt x="0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7"/>
            <p:cNvSpPr/>
            <p:nvPr/>
          </p:nvSpPr>
          <p:spPr>
            <a:xfrm rot="11043600">
              <a:off x="9152280" y="1777680"/>
              <a:ext cx="794880" cy="65340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653400"/>
                <a:gd name="textAreaBottom" fmla="*/ 653760 h 653400"/>
              </a:gdLst>
              <a:ahLst/>
              <a:rect l="textAreaLeft" t="textAreaTop" r="textAreaRight" b="textAreaBottom"/>
              <a:pathLst>
                <a:path w="61" h="50">
                  <a:moveTo>
                    <a:pt x="61" y="0"/>
                  </a:moveTo>
                  <a:cubicBezTo>
                    <a:pt x="61" y="0"/>
                    <a:pt x="54" y="50"/>
                    <a:pt x="0" y="50"/>
                  </a:cubicBezTo>
                  <a:cubicBezTo>
                    <a:pt x="0" y="50"/>
                    <a:pt x="8" y="7"/>
                    <a:pt x="61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8"/>
            <p:cNvSpPr/>
            <p:nvPr/>
          </p:nvSpPr>
          <p:spPr>
            <a:xfrm rot="11043600">
              <a:off x="8515080" y="859320"/>
              <a:ext cx="1415880" cy="1072800"/>
            </a:xfrm>
            <a:custGeom>
              <a:avLst/>
              <a:gdLst>
                <a:gd name="textAreaLeft" fmla="*/ 0 w 1415880"/>
                <a:gd name="textAreaRight" fmla="*/ 1416240 w 1415880"/>
                <a:gd name="textAreaTop" fmla="*/ 0 h 1072800"/>
                <a:gd name="textAreaBottom" fmla="*/ 1073160 h 1072800"/>
              </a:gdLst>
              <a:ahLst/>
              <a:rect l="textAreaLeft" t="textAreaTop" r="textAreaRight" b="textAreaBottom"/>
              <a:pathLst>
                <a:path w="109" h="82">
                  <a:moveTo>
                    <a:pt x="109" y="20"/>
                  </a:moveTo>
                  <a:cubicBezTo>
                    <a:pt x="109" y="20"/>
                    <a:pt x="71" y="82"/>
                    <a:pt x="0" y="54"/>
                  </a:cubicBezTo>
                  <a:cubicBezTo>
                    <a:pt x="0" y="54"/>
                    <a:pt x="35" y="0"/>
                    <a:pt x="109" y="2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 rot="11640000">
              <a:off x="9478800" y="2280600"/>
              <a:ext cx="767520" cy="1062000"/>
            </a:xfrm>
            <a:custGeom>
              <a:avLst/>
              <a:gdLst>
                <a:gd name="textAreaLeft" fmla="*/ 0 w 767520"/>
                <a:gd name="textAreaRight" fmla="*/ 767880 w 76752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9"/>
            <p:cNvSpPr/>
            <p:nvPr/>
          </p:nvSpPr>
          <p:spPr>
            <a:xfrm rot="13379400">
              <a:off x="8834760" y="3889800"/>
              <a:ext cx="767520" cy="1062000"/>
            </a:xfrm>
            <a:custGeom>
              <a:avLst/>
              <a:gdLst>
                <a:gd name="textAreaLeft" fmla="*/ 0 w 767520"/>
                <a:gd name="textAreaRight" fmla="*/ 767880 w 76752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12"/>
          <p:cNvSpPr/>
          <p:nvPr/>
        </p:nvSpPr>
        <p:spPr>
          <a:xfrm>
            <a:off x="747000" y="255960"/>
            <a:ext cx="2130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总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4"/>
          <p:cNvGrpSpPr/>
          <p:nvPr/>
        </p:nvGrpSpPr>
        <p:grpSpPr>
          <a:xfrm>
            <a:off x="2666160" y="208440"/>
            <a:ext cx="626400" cy="647280"/>
            <a:chOff x="2666160" y="208440"/>
            <a:chExt cx="626400" cy="647280"/>
          </a:xfrm>
        </p:grpSpPr>
        <p:sp>
          <p:nvSpPr>
            <p:cNvPr id="617" name="AutoShape 3"/>
            <p:cNvSpPr/>
            <p:nvPr/>
          </p:nvSpPr>
          <p:spPr>
            <a:xfrm rot="4282200">
              <a:off x="2719440" y="288720"/>
              <a:ext cx="5191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 rot="4282200">
              <a:off x="2766600" y="479520"/>
              <a:ext cx="183240" cy="2163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 rot="4282200">
              <a:off x="2909160" y="591480"/>
              <a:ext cx="208080" cy="181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 rot="4282200">
              <a:off x="3072960" y="483480"/>
              <a:ext cx="169920" cy="169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 rot="4282200">
              <a:off x="3001320" y="291240"/>
              <a:ext cx="158400" cy="1818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 rot="4282200">
              <a:off x="2780640" y="321120"/>
              <a:ext cx="214920" cy="16164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文本框 21"/>
          <p:cNvSpPr/>
          <p:nvPr/>
        </p:nvSpPr>
        <p:spPr>
          <a:xfrm>
            <a:off x="1743840" y="1497600"/>
            <a:ext cx="6722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本模板采用字体为方正苏新诗柳楷简体仅用来交流使用 请勿商用 如果使用该字体请购买正版 请勿商用 谢谢合作  如有侵权请告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图片 22" descr=""/>
          <p:cNvPicPr/>
          <p:nvPr/>
        </p:nvPicPr>
        <p:blipFill>
          <a:blip r:embed="rId1"/>
          <a:stretch/>
        </p:blipFill>
        <p:spPr>
          <a:xfrm rot="1674000">
            <a:off x="9007920" y="6251040"/>
            <a:ext cx="620640" cy="6512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23" descr=""/>
          <p:cNvPicPr/>
          <p:nvPr/>
        </p:nvPicPr>
        <p:blipFill>
          <a:blip r:embed="rId2"/>
          <a:stretch/>
        </p:blipFill>
        <p:spPr>
          <a:xfrm flipH="1" rot="19926000">
            <a:off x="9693000" y="6499800"/>
            <a:ext cx="417240" cy="438120"/>
          </a:xfrm>
          <a:prstGeom prst="rect">
            <a:avLst/>
          </a:prstGeom>
          <a:ln w="0">
            <a:noFill/>
          </a:ln>
        </p:spPr>
      </p:pic>
      <p:grpSp>
        <p:nvGrpSpPr>
          <p:cNvPr id="626" name="Group 4"/>
          <p:cNvGrpSpPr/>
          <p:nvPr/>
        </p:nvGrpSpPr>
        <p:grpSpPr>
          <a:xfrm>
            <a:off x="724320" y="5853600"/>
            <a:ext cx="561960" cy="580320"/>
            <a:chOff x="724320" y="5853600"/>
            <a:chExt cx="561960" cy="580320"/>
          </a:xfrm>
        </p:grpSpPr>
        <p:sp>
          <p:nvSpPr>
            <p:cNvPr id="627" name="AutoShape 3"/>
            <p:cNvSpPr/>
            <p:nvPr/>
          </p:nvSpPr>
          <p:spPr>
            <a:xfrm rot="4282200">
              <a:off x="772560" y="5925600"/>
              <a:ext cx="4654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5"/>
            <p:cNvSpPr/>
            <p:nvPr/>
          </p:nvSpPr>
          <p:spPr>
            <a:xfrm rot="4282200">
              <a:off x="814680" y="6096600"/>
              <a:ext cx="164160" cy="1936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6"/>
            <p:cNvSpPr/>
            <p:nvPr/>
          </p:nvSpPr>
          <p:spPr>
            <a:xfrm rot="4282200">
              <a:off x="942480" y="6196680"/>
              <a:ext cx="186480" cy="1630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7"/>
            <p:cNvSpPr/>
            <p:nvPr/>
          </p:nvSpPr>
          <p:spPr>
            <a:xfrm rot="4282200">
              <a:off x="1089720" y="60998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8"/>
            <p:cNvSpPr/>
            <p:nvPr/>
          </p:nvSpPr>
          <p:spPr>
            <a:xfrm rot="4282200">
              <a:off x="1025280" y="5927760"/>
              <a:ext cx="141840" cy="16308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9"/>
            <p:cNvSpPr/>
            <p:nvPr/>
          </p:nvSpPr>
          <p:spPr>
            <a:xfrm rot="4282200">
              <a:off x="827280" y="5954760"/>
              <a:ext cx="192600" cy="145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"/>
          <p:cNvGrpSpPr/>
          <p:nvPr/>
        </p:nvGrpSpPr>
        <p:grpSpPr>
          <a:xfrm>
            <a:off x="2099520" y="1265760"/>
            <a:ext cx="408240" cy="421920"/>
            <a:chOff x="2099520" y="1265760"/>
            <a:chExt cx="408240" cy="421920"/>
          </a:xfrm>
        </p:grpSpPr>
        <p:sp>
          <p:nvSpPr>
            <p:cNvPr id="634" name="AutoShape 3"/>
            <p:cNvSpPr/>
            <p:nvPr/>
          </p:nvSpPr>
          <p:spPr>
            <a:xfrm rot="4282200">
              <a:off x="2134440" y="1317960"/>
              <a:ext cx="33840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"/>
            <p:cNvSpPr/>
            <p:nvPr/>
          </p:nvSpPr>
          <p:spPr>
            <a:xfrm rot="4282200">
              <a:off x="2165040" y="1442160"/>
              <a:ext cx="119160" cy="140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"/>
            <p:cNvSpPr/>
            <p:nvPr/>
          </p:nvSpPr>
          <p:spPr>
            <a:xfrm rot="4282200">
              <a:off x="2257920" y="1515240"/>
              <a:ext cx="135360" cy="11844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7"/>
            <p:cNvSpPr/>
            <p:nvPr/>
          </p:nvSpPr>
          <p:spPr>
            <a:xfrm rot="4282200">
              <a:off x="2364840" y="144504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 rot="4282200">
              <a:off x="2317680" y="1319400"/>
              <a:ext cx="102960" cy="1184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 rot="4282200">
              <a:off x="2173680" y="1338840"/>
              <a:ext cx="140040" cy="10548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Group 4"/>
          <p:cNvGrpSpPr/>
          <p:nvPr/>
        </p:nvGrpSpPr>
        <p:grpSpPr>
          <a:xfrm>
            <a:off x="11256840" y="5070960"/>
            <a:ext cx="561960" cy="589320"/>
            <a:chOff x="11256840" y="5070960"/>
            <a:chExt cx="561960" cy="589320"/>
          </a:xfrm>
        </p:grpSpPr>
        <p:sp>
          <p:nvSpPr>
            <p:cNvPr id="641" name="AutoShape 3"/>
            <p:cNvSpPr/>
            <p:nvPr/>
          </p:nvSpPr>
          <p:spPr>
            <a:xfrm rot="5944800">
              <a:off x="11278080" y="5122440"/>
              <a:ext cx="5191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5"/>
            <p:cNvSpPr/>
            <p:nvPr/>
          </p:nvSpPr>
          <p:spPr>
            <a:xfrm rot="5944800">
              <a:off x="11312640" y="5250600"/>
              <a:ext cx="183240" cy="2163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"/>
            <p:cNvSpPr/>
            <p:nvPr/>
          </p:nvSpPr>
          <p:spPr>
            <a:xfrm rot="5944800">
              <a:off x="11394000" y="5423760"/>
              <a:ext cx="208080" cy="181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7"/>
            <p:cNvSpPr/>
            <p:nvPr/>
          </p:nvSpPr>
          <p:spPr>
            <a:xfrm rot="5944800">
              <a:off x="11594160" y="5396040"/>
              <a:ext cx="169920" cy="169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8"/>
            <p:cNvSpPr/>
            <p:nvPr/>
          </p:nvSpPr>
          <p:spPr>
            <a:xfrm rot="5944800">
              <a:off x="11617560" y="5189040"/>
              <a:ext cx="158400" cy="1818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9"/>
            <p:cNvSpPr/>
            <p:nvPr/>
          </p:nvSpPr>
          <p:spPr>
            <a:xfrm rot="5944800">
              <a:off x="11409840" y="5127120"/>
              <a:ext cx="214920" cy="16164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4"/>
          <p:cNvGrpSpPr/>
          <p:nvPr/>
        </p:nvGrpSpPr>
        <p:grpSpPr>
          <a:xfrm>
            <a:off x="1075320" y="829440"/>
            <a:ext cx="1618200" cy="1671840"/>
            <a:chOff x="1075320" y="829440"/>
            <a:chExt cx="1618200" cy="1671840"/>
          </a:xfrm>
        </p:grpSpPr>
        <p:sp>
          <p:nvSpPr>
            <p:cNvPr id="648" name="AutoShape 3"/>
            <p:cNvSpPr/>
            <p:nvPr/>
          </p:nvSpPr>
          <p:spPr>
            <a:xfrm rot="4282200">
              <a:off x="1213560" y="1037520"/>
              <a:ext cx="134100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 rot="4282200">
              <a:off x="1335240" y="1529640"/>
              <a:ext cx="473400" cy="5587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 rot="4282200">
              <a:off x="1703160" y="1818000"/>
              <a:ext cx="537480" cy="470160"/>
            </a:xfrm>
            <a:custGeom>
              <a:avLst/>
              <a:gdLst>
                <a:gd name="textAreaLeft" fmla="*/ 0 w 537480"/>
                <a:gd name="textAreaRight" fmla="*/ 537840 w 53748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 rot="4282200">
              <a:off x="2126880" y="1539360"/>
              <a:ext cx="439560" cy="43956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 rot="4282200">
              <a:off x="1941480" y="1043280"/>
              <a:ext cx="408960" cy="47016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9"/>
            <p:cNvSpPr/>
            <p:nvPr/>
          </p:nvSpPr>
          <p:spPr>
            <a:xfrm rot="4282200">
              <a:off x="1371240" y="1121040"/>
              <a:ext cx="555840" cy="41832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Group 4"/>
          <p:cNvGrpSpPr/>
          <p:nvPr/>
        </p:nvGrpSpPr>
        <p:grpSpPr>
          <a:xfrm>
            <a:off x="9604080" y="4170960"/>
            <a:ext cx="1766520" cy="1805400"/>
            <a:chOff x="9604080" y="4170960"/>
            <a:chExt cx="1766520" cy="1805400"/>
          </a:xfrm>
        </p:grpSpPr>
        <p:sp>
          <p:nvSpPr>
            <p:cNvPr id="655" name="AutoShape 3"/>
            <p:cNvSpPr/>
            <p:nvPr/>
          </p:nvSpPr>
          <p:spPr>
            <a:xfrm rot="7009200">
              <a:off x="9800640" y="4430880"/>
              <a:ext cx="1373040" cy="12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5"/>
            <p:cNvSpPr/>
            <p:nvPr/>
          </p:nvSpPr>
          <p:spPr>
            <a:xfrm rot="7009200">
              <a:off x="9915120" y="4662720"/>
              <a:ext cx="484560" cy="5720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rot="7009200">
              <a:off x="9991440" y="5175000"/>
              <a:ext cx="550080" cy="48132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rot="7009200">
              <a:off x="10525680" y="5253120"/>
              <a:ext cx="450000" cy="45000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rot="7009200">
              <a:off x="10747440" y="4745880"/>
              <a:ext cx="418680" cy="4813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rot="7009200">
              <a:off x="10278360" y="4447080"/>
              <a:ext cx="568800" cy="4280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1" name="Group 4"/>
          <p:cNvGrpSpPr/>
          <p:nvPr/>
        </p:nvGrpSpPr>
        <p:grpSpPr>
          <a:xfrm>
            <a:off x="2376360" y="788040"/>
            <a:ext cx="894600" cy="914040"/>
            <a:chOff x="2376360" y="788040"/>
            <a:chExt cx="894600" cy="914040"/>
          </a:xfrm>
        </p:grpSpPr>
        <p:sp>
          <p:nvSpPr>
            <p:cNvPr id="662" name="AutoShape 3"/>
            <p:cNvSpPr/>
            <p:nvPr/>
          </p:nvSpPr>
          <p:spPr>
            <a:xfrm rot="7009200">
              <a:off x="2476080" y="919440"/>
              <a:ext cx="6951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 rot="7009200">
              <a:off x="2534040" y="1037160"/>
              <a:ext cx="245160" cy="28944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 rot="7009200">
              <a:off x="2572560" y="1296720"/>
              <a:ext cx="278640" cy="243720"/>
            </a:xfrm>
            <a:custGeom>
              <a:avLst/>
              <a:gdLst>
                <a:gd name="textAreaLeft" fmla="*/ 0 w 278640"/>
                <a:gd name="textAreaRight" fmla="*/ 279000 w 2786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 rot="7009200">
              <a:off x="2842920" y="1336320"/>
              <a:ext cx="227880" cy="2278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 rot="7009200">
              <a:off x="2955240" y="1079280"/>
              <a:ext cx="212040" cy="24372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9"/>
            <p:cNvSpPr/>
            <p:nvPr/>
          </p:nvSpPr>
          <p:spPr>
            <a:xfrm rot="7009200">
              <a:off x="2717640" y="928080"/>
              <a:ext cx="288000" cy="21672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8" name="Group 4"/>
          <p:cNvGrpSpPr/>
          <p:nvPr/>
        </p:nvGrpSpPr>
        <p:grpSpPr>
          <a:xfrm>
            <a:off x="8456400" y="5237640"/>
            <a:ext cx="1126440" cy="1150920"/>
            <a:chOff x="8456400" y="5237640"/>
            <a:chExt cx="1126440" cy="1150920"/>
          </a:xfrm>
        </p:grpSpPr>
        <p:sp>
          <p:nvSpPr>
            <p:cNvPr id="669" name="AutoShape 3"/>
            <p:cNvSpPr/>
            <p:nvPr/>
          </p:nvSpPr>
          <p:spPr>
            <a:xfrm rot="7009200">
              <a:off x="8581680" y="5403240"/>
              <a:ext cx="87552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5"/>
            <p:cNvSpPr/>
            <p:nvPr/>
          </p:nvSpPr>
          <p:spPr>
            <a:xfrm rot="7009200">
              <a:off x="8654760" y="5551200"/>
              <a:ext cx="308880" cy="36468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6"/>
            <p:cNvSpPr/>
            <p:nvPr/>
          </p:nvSpPr>
          <p:spPr>
            <a:xfrm rot="7009200">
              <a:off x="8703000" y="5878440"/>
              <a:ext cx="351000" cy="30708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7"/>
            <p:cNvSpPr/>
            <p:nvPr/>
          </p:nvSpPr>
          <p:spPr>
            <a:xfrm rot="7009200">
              <a:off x="9043920" y="5928120"/>
              <a:ext cx="286920" cy="28692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8"/>
            <p:cNvSpPr/>
            <p:nvPr/>
          </p:nvSpPr>
          <p:spPr>
            <a:xfrm rot="7009200">
              <a:off x="9185040" y="5604480"/>
              <a:ext cx="267120" cy="30708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9"/>
            <p:cNvSpPr/>
            <p:nvPr/>
          </p:nvSpPr>
          <p:spPr>
            <a:xfrm rot="7009200">
              <a:off x="8885880" y="5413680"/>
              <a:ext cx="362880" cy="27288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5" name="文本框 30"/>
          <p:cNvSpPr/>
          <p:nvPr/>
        </p:nvSpPr>
        <p:spPr>
          <a:xfrm>
            <a:off x="2591280" y="1814040"/>
            <a:ext cx="80323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谢谢观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2"/>
          <p:cNvGrpSpPr/>
          <p:nvPr/>
        </p:nvGrpSpPr>
        <p:grpSpPr>
          <a:xfrm>
            <a:off x="2372760" y="4169880"/>
            <a:ext cx="864000" cy="813600"/>
            <a:chOff x="2372760" y="4169880"/>
            <a:chExt cx="864000" cy="813600"/>
          </a:xfrm>
        </p:grpSpPr>
        <p:sp>
          <p:nvSpPr>
            <p:cNvPr id="677" name="AutoShape 11"/>
            <p:cNvSpPr/>
            <p:nvPr/>
          </p:nvSpPr>
          <p:spPr>
            <a:xfrm flipV="1" rot="15069000">
              <a:off x="2514600" y="4210560"/>
              <a:ext cx="57384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3"/>
            <p:cNvSpPr/>
            <p:nvPr/>
          </p:nvSpPr>
          <p:spPr>
            <a:xfrm flipV="1" rot="15069000">
              <a:off x="2494440" y="4226040"/>
              <a:ext cx="620280" cy="7012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360 h 701280"/>
                <a:gd name="textAreaBottom" fmla="*/ 702000 h 701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9349560" y="1273320"/>
            <a:ext cx="916200" cy="933120"/>
            <a:chOff x="9349560" y="1273320"/>
            <a:chExt cx="916200" cy="933120"/>
          </a:xfrm>
        </p:grpSpPr>
        <p:sp>
          <p:nvSpPr>
            <p:cNvPr id="680" name="AutoShape 11"/>
            <p:cNvSpPr/>
            <p:nvPr/>
          </p:nvSpPr>
          <p:spPr>
            <a:xfrm flipV="1" rot="2191800">
              <a:off x="9536040" y="1415520"/>
              <a:ext cx="57384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 flipV="1" rot="2191800">
              <a:off x="9497160" y="1388880"/>
              <a:ext cx="620640" cy="7012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360 h 701280"/>
                <a:gd name="textAreaBottom" fmla="*/ 702000 h 701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 Box 3"/>
          <p:cNvSpPr/>
          <p:nvPr/>
        </p:nvSpPr>
        <p:spPr>
          <a:xfrm>
            <a:off x="34200" y="6439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4"/>
          <p:cNvGrpSpPr/>
          <p:nvPr/>
        </p:nvGrpSpPr>
        <p:grpSpPr>
          <a:xfrm>
            <a:off x="630000" y="6183360"/>
            <a:ext cx="512280" cy="509760"/>
            <a:chOff x="630000" y="6183360"/>
            <a:chExt cx="512280" cy="509760"/>
          </a:xfrm>
        </p:grpSpPr>
        <p:sp>
          <p:nvSpPr>
            <p:cNvPr id="74" name="AutoShape 3"/>
            <p:cNvSpPr/>
            <p:nvPr/>
          </p:nvSpPr>
          <p:spPr>
            <a:xfrm rot="2420400">
              <a:off x="698760" y="6262560"/>
              <a:ext cx="374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5"/>
            <p:cNvSpPr/>
            <p:nvPr/>
          </p:nvSpPr>
          <p:spPr>
            <a:xfrm rot="2420400">
              <a:off x="765720" y="6439680"/>
              <a:ext cx="132120" cy="1558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6"/>
            <p:cNvSpPr/>
            <p:nvPr/>
          </p:nvSpPr>
          <p:spPr>
            <a:xfrm rot="2420400">
              <a:off x="887400" y="6452640"/>
              <a:ext cx="149760" cy="13104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7"/>
            <p:cNvSpPr/>
            <p:nvPr/>
          </p:nvSpPr>
          <p:spPr>
            <a:xfrm rot="2420400">
              <a:off x="948600" y="6332760"/>
              <a:ext cx="122400" cy="1224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8"/>
            <p:cNvSpPr/>
            <p:nvPr/>
          </p:nvSpPr>
          <p:spPr>
            <a:xfrm rot="2420400">
              <a:off x="835560" y="6242400"/>
              <a:ext cx="114120" cy="131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9"/>
            <p:cNvSpPr/>
            <p:nvPr/>
          </p:nvSpPr>
          <p:spPr>
            <a:xfrm rot="2420400">
              <a:off x="703440" y="6333480"/>
              <a:ext cx="155160" cy="1166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12"/>
          <p:cNvGrpSpPr/>
          <p:nvPr/>
        </p:nvGrpSpPr>
        <p:grpSpPr>
          <a:xfrm>
            <a:off x="11477880" y="209520"/>
            <a:ext cx="768960" cy="756360"/>
            <a:chOff x="11477880" y="209520"/>
            <a:chExt cx="768960" cy="756360"/>
          </a:xfrm>
        </p:grpSpPr>
        <p:sp>
          <p:nvSpPr>
            <p:cNvPr id="81" name="AutoShape 11"/>
            <p:cNvSpPr/>
            <p:nvPr/>
          </p:nvSpPr>
          <p:spPr>
            <a:xfrm rot="13959000">
              <a:off x="11611080" y="293040"/>
              <a:ext cx="4726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 rot="13959000">
              <a:off x="11606760" y="298800"/>
              <a:ext cx="510840" cy="57744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Group 12"/>
          <p:cNvGrpSpPr/>
          <p:nvPr/>
        </p:nvGrpSpPr>
        <p:grpSpPr>
          <a:xfrm>
            <a:off x="11362320" y="1799640"/>
            <a:ext cx="852120" cy="860040"/>
            <a:chOff x="11362320" y="1799640"/>
            <a:chExt cx="852120" cy="860040"/>
          </a:xfrm>
        </p:grpSpPr>
        <p:sp>
          <p:nvSpPr>
            <p:cNvPr id="84" name="AutoShape 11"/>
            <p:cNvSpPr/>
            <p:nvPr/>
          </p:nvSpPr>
          <p:spPr>
            <a:xfrm rot="13252200">
              <a:off x="11505600" y="1904760"/>
              <a:ext cx="527400" cy="6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rot="13252200">
              <a:off x="11503440" y="1907640"/>
              <a:ext cx="569880" cy="64404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0287720" y="3637080"/>
            <a:ext cx="868680" cy="815400"/>
            <a:chOff x="10287720" y="3637080"/>
            <a:chExt cx="868680" cy="815400"/>
          </a:xfrm>
        </p:grpSpPr>
        <p:sp>
          <p:nvSpPr>
            <p:cNvPr id="87" name="AutoShape 11"/>
            <p:cNvSpPr/>
            <p:nvPr/>
          </p:nvSpPr>
          <p:spPr>
            <a:xfrm rot="15136200">
              <a:off x="10419480" y="3677400"/>
              <a:ext cx="58176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3"/>
            <p:cNvSpPr/>
            <p:nvPr/>
          </p:nvSpPr>
          <p:spPr>
            <a:xfrm rot="15136200">
              <a:off x="10407600" y="3688920"/>
              <a:ext cx="628920" cy="71100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0771920" y="1779480"/>
            <a:ext cx="558000" cy="549000"/>
            <a:chOff x="10771920" y="1779480"/>
            <a:chExt cx="558000" cy="549000"/>
          </a:xfrm>
        </p:grpSpPr>
        <p:sp>
          <p:nvSpPr>
            <p:cNvPr id="90" name="AutoShape 11"/>
            <p:cNvSpPr/>
            <p:nvPr/>
          </p:nvSpPr>
          <p:spPr>
            <a:xfrm rot="13959000">
              <a:off x="10868760" y="1839960"/>
              <a:ext cx="343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 rot="13959000">
              <a:off x="10865520" y="1844280"/>
              <a:ext cx="370800" cy="4190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1662560" y="1327680"/>
            <a:ext cx="398160" cy="359280"/>
            <a:chOff x="11662560" y="1327680"/>
            <a:chExt cx="398160" cy="359280"/>
          </a:xfrm>
        </p:grpSpPr>
        <p:sp>
          <p:nvSpPr>
            <p:cNvPr id="93" name="AutoShape 11"/>
            <p:cNvSpPr/>
            <p:nvPr/>
          </p:nvSpPr>
          <p:spPr>
            <a:xfrm rot="15889200">
              <a:off x="11706120" y="1314720"/>
              <a:ext cx="30276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 rot="15889200">
              <a:off x="11697840" y="1321920"/>
              <a:ext cx="327240" cy="37008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12"/>
          <p:cNvGrpSpPr/>
          <p:nvPr/>
        </p:nvGrpSpPr>
        <p:grpSpPr>
          <a:xfrm>
            <a:off x="11257200" y="2994480"/>
            <a:ext cx="631800" cy="596160"/>
            <a:chOff x="11257200" y="2994480"/>
            <a:chExt cx="631800" cy="596160"/>
          </a:xfrm>
        </p:grpSpPr>
        <p:sp>
          <p:nvSpPr>
            <p:cNvPr id="96" name="AutoShape 11"/>
            <p:cNvSpPr/>
            <p:nvPr/>
          </p:nvSpPr>
          <p:spPr>
            <a:xfrm rot="15018000">
              <a:off x="11355480" y="3029400"/>
              <a:ext cx="4172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 rot="15018000">
              <a:off x="11347560" y="3037320"/>
              <a:ext cx="450720" cy="5097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2"/>
          <p:cNvGrpSpPr/>
          <p:nvPr/>
        </p:nvGrpSpPr>
        <p:grpSpPr>
          <a:xfrm>
            <a:off x="10753920" y="2280240"/>
            <a:ext cx="765000" cy="714600"/>
            <a:chOff x="10753920" y="2280240"/>
            <a:chExt cx="765000" cy="714600"/>
          </a:xfrm>
        </p:grpSpPr>
        <p:sp>
          <p:nvSpPr>
            <p:cNvPr id="99" name="AutoShape 11"/>
            <p:cNvSpPr/>
            <p:nvPr/>
          </p:nvSpPr>
          <p:spPr>
            <a:xfrm rot="17154600">
              <a:off x="10877760" y="2305800"/>
              <a:ext cx="519840" cy="6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 rot="17154600">
              <a:off x="10855440" y="2319480"/>
              <a:ext cx="561960" cy="6354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2"/>
          <p:cNvGrpSpPr/>
          <p:nvPr/>
        </p:nvGrpSpPr>
        <p:grpSpPr>
          <a:xfrm>
            <a:off x="11346480" y="6119640"/>
            <a:ext cx="527400" cy="493920"/>
            <a:chOff x="11346480" y="6119640"/>
            <a:chExt cx="527400" cy="493920"/>
          </a:xfrm>
        </p:grpSpPr>
        <p:sp>
          <p:nvSpPr>
            <p:cNvPr id="102" name="AutoShape 11"/>
            <p:cNvSpPr/>
            <p:nvPr/>
          </p:nvSpPr>
          <p:spPr>
            <a:xfrm rot="15192000">
              <a:off x="11424960" y="6141240"/>
              <a:ext cx="356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rot="15192000">
              <a:off x="11417760" y="6149160"/>
              <a:ext cx="384480" cy="43488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2"/>
          <p:cNvGrpSpPr/>
          <p:nvPr/>
        </p:nvGrpSpPr>
        <p:grpSpPr>
          <a:xfrm>
            <a:off x="8580600" y="2274480"/>
            <a:ext cx="1341720" cy="1254240"/>
            <a:chOff x="8580600" y="2274480"/>
            <a:chExt cx="1341720" cy="1254240"/>
          </a:xfrm>
        </p:grpSpPr>
        <p:sp>
          <p:nvSpPr>
            <p:cNvPr id="105" name="AutoShape 11"/>
            <p:cNvSpPr/>
            <p:nvPr/>
          </p:nvSpPr>
          <p:spPr>
            <a:xfrm rot="15225000">
              <a:off x="8778960" y="2326320"/>
              <a:ext cx="90936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3"/>
            <p:cNvSpPr/>
            <p:nvPr/>
          </p:nvSpPr>
          <p:spPr>
            <a:xfrm rot="15225000">
              <a:off x="8759880" y="2345760"/>
              <a:ext cx="982800" cy="111096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1110960"/>
                <a:gd name="textAreaBottom" fmla="*/ 1111320 h 11109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2"/>
          <p:cNvGrpSpPr/>
          <p:nvPr/>
        </p:nvGrpSpPr>
        <p:grpSpPr>
          <a:xfrm>
            <a:off x="2233080" y="1864080"/>
            <a:ext cx="3030120" cy="2680200"/>
            <a:chOff x="2233080" y="1864080"/>
            <a:chExt cx="3030120" cy="2680200"/>
          </a:xfrm>
        </p:grpSpPr>
        <p:sp>
          <p:nvSpPr>
            <p:cNvPr id="108" name="AutoShape 11"/>
            <p:cNvSpPr/>
            <p:nvPr/>
          </p:nvSpPr>
          <p:spPr>
            <a:xfrm rot="5400000">
              <a:off x="2528640" y="1826280"/>
              <a:ext cx="2480400" cy="29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 rot="5400000">
              <a:off x="2407680" y="1688760"/>
              <a:ext cx="2680200" cy="3030120"/>
            </a:xfrm>
            <a:custGeom>
              <a:avLst/>
              <a:gdLst>
                <a:gd name="textAreaLeft" fmla="*/ 0 w 2680200"/>
                <a:gd name="textAreaRight" fmla="*/ 2680560 w 2680200"/>
                <a:gd name="textAreaTop" fmla="*/ 0 h 3030120"/>
                <a:gd name="textAreaBottom" fmla="*/ 3030480 h 303012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4274280" y="2739960"/>
            <a:ext cx="2838600" cy="2822760"/>
            <a:chOff x="4274280" y="2739960"/>
            <a:chExt cx="2838600" cy="2822760"/>
          </a:xfrm>
        </p:grpSpPr>
        <p:sp>
          <p:nvSpPr>
            <p:cNvPr id="111" name="AutoShape 11"/>
            <p:cNvSpPr/>
            <p:nvPr/>
          </p:nvSpPr>
          <p:spPr>
            <a:xfrm rot="13659600">
              <a:off x="4764960" y="3072240"/>
              <a:ext cx="174096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 rot="13659600">
              <a:off x="4753080" y="3088080"/>
              <a:ext cx="1881000" cy="2126520"/>
            </a:xfrm>
            <a:custGeom>
              <a:avLst/>
              <a:gdLst>
                <a:gd name="textAreaLeft" fmla="*/ 0 w 1881000"/>
                <a:gd name="textAreaRight" fmla="*/ 1881360 w 1881000"/>
                <a:gd name="textAreaTop" fmla="*/ 0 h 2126520"/>
                <a:gd name="textAreaBottom" fmla="*/ 2126880 h 212652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2"/>
          <p:cNvGrpSpPr/>
          <p:nvPr/>
        </p:nvGrpSpPr>
        <p:grpSpPr>
          <a:xfrm>
            <a:off x="7202520" y="3196440"/>
            <a:ext cx="2175480" cy="2251800"/>
            <a:chOff x="7202520" y="3196440"/>
            <a:chExt cx="2175480" cy="2251800"/>
          </a:xfrm>
        </p:grpSpPr>
        <p:sp>
          <p:nvSpPr>
            <p:cNvPr id="114" name="AutoShape 11"/>
            <p:cNvSpPr/>
            <p:nvPr/>
          </p:nvSpPr>
          <p:spPr>
            <a:xfrm rot="19845000">
              <a:off x="7627680" y="3442320"/>
              <a:ext cx="1413000" cy="16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 rot="19845000">
              <a:off x="7526520" y="3459240"/>
              <a:ext cx="1526760" cy="1725840"/>
            </a:xfrm>
            <a:custGeom>
              <a:avLst/>
              <a:gdLst>
                <a:gd name="textAreaLeft" fmla="*/ 0 w 1526760"/>
                <a:gd name="textAreaRight" fmla="*/ 1527120 w 1526760"/>
                <a:gd name="textAreaTop" fmla="*/ 0 h 1725840"/>
                <a:gd name="textAreaBottom" fmla="*/ 1726200 h 17258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2"/>
          <p:cNvGrpSpPr/>
          <p:nvPr/>
        </p:nvGrpSpPr>
        <p:grpSpPr>
          <a:xfrm>
            <a:off x="11769480" y="2554560"/>
            <a:ext cx="451440" cy="458280"/>
            <a:chOff x="11769480" y="2554560"/>
            <a:chExt cx="451440" cy="458280"/>
          </a:xfrm>
        </p:grpSpPr>
        <p:sp>
          <p:nvSpPr>
            <p:cNvPr id="117" name="AutoShape 11"/>
            <p:cNvSpPr/>
            <p:nvPr/>
          </p:nvSpPr>
          <p:spPr>
            <a:xfrm rot="19317600">
              <a:off x="11862000" y="2606760"/>
              <a:ext cx="281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 rot="19317600">
              <a:off x="11842920" y="2611800"/>
              <a:ext cx="304200" cy="34380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2"/>
          <p:cNvGrpSpPr/>
          <p:nvPr/>
        </p:nvGrpSpPr>
        <p:grpSpPr>
          <a:xfrm>
            <a:off x="11430720" y="955440"/>
            <a:ext cx="451440" cy="458280"/>
            <a:chOff x="11430720" y="955440"/>
            <a:chExt cx="451440" cy="458280"/>
          </a:xfrm>
        </p:grpSpPr>
        <p:sp>
          <p:nvSpPr>
            <p:cNvPr id="120" name="AutoShape 11"/>
            <p:cNvSpPr/>
            <p:nvPr/>
          </p:nvSpPr>
          <p:spPr>
            <a:xfrm rot="19317600">
              <a:off x="11523240" y="1007640"/>
              <a:ext cx="281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 rot="19317600">
              <a:off x="11504160" y="1012680"/>
              <a:ext cx="304200" cy="34380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12"/>
          <p:cNvGrpSpPr/>
          <p:nvPr/>
        </p:nvGrpSpPr>
        <p:grpSpPr>
          <a:xfrm>
            <a:off x="11252160" y="3997800"/>
            <a:ext cx="920520" cy="942120"/>
            <a:chOff x="11252160" y="3997800"/>
            <a:chExt cx="920520" cy="942120"/>
          </a:xfrm>
        </p:grpSpPr>
        <p:sp>
          <p:nvSpPr>
            <p:cNvPr id="123" name="AutoShape 11"/>
            <p:cNvSpPr/>
            <p:nvPr/>
          </p:nvSpPr>
          <p:spPr>
            <a:xfrm rot="12864600">
              <a:off x="11399400" y="4112640"/>
              <a:ext cx="58176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12864600">
              <a:off x="11397600" y="4113360"/>
              <a:ext cx="628920" cy="71100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10886760" y="4983120"/>
            <a:ext cx="680760" cy="756360"/>
            <a:chOff x="10886760" y="4983120"/>
            <a:chExt cx="680760" cy="756360"/>
          </a:xfrm>
        </p:grpSpPr>
        <p:sp>
          <p:nvSpPr>
            <p:cNvPr id="126" name="AutoShape 11"/>
            <p:cNvSpPr/>
            <p:nvPr/>
          </p:nvSpPr>
          <p:spPr>
            <a:xfrm rot="11059800">
              <a:off x="10912680" y="5017320"/>
              <a:ext cx="58176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 rot="11059800">
              <a:off x="10912680" y="5005440"/>
              <a:ext cx="628920" cy="71100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4"/>
          <p:cNvGrpSpPr/>
          <p:nvPr/>
        </p:nvGrpSpPr>
        <p:grpSpPr>
          <a:xfrm>
            <a:off x="150840" y="5981040"/>
            <a:ext cx="696600" cy="651960"/>
            <a:chOff x="150840" y="5981040"/>
            <a:chExt cx="696600" cy="651960"/>
          </a:xfrm>
        </p:grpSpPr>
        <p:sp>
          <p:nvSpPr>
            <p:cNvPr id="129" name="AutoShape 3"/>
            <p:cNvSpPr/>
            <p:nvPr/>
          </p:nvSpPr>
          <p:spPr>
            <a:xfrm>
              <a:off x="150840" y="598104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395280" y="633960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565200" y="620640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507960" y="598104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246240" y="599220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150840" y="625896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10097640" y="5981400"/>
            <a:ext cx="555480" cy="531000"/>
            <a:chOff x="10097640" y="5981400"/>
            <a:chExt cx="555480" cy="531000"/>
          </a:xfrm>
        </p:grpSpPr>
        <p:sp>
          <p:nvSpPr>
            <p:cNvPr id="136" name="AutoShape 11"/>
            <p:cNvSpPr/>
            <p:nvPr/>
          </p:nvSpPr>
          <p:spPr>
            <a:xfrm rot="17679600">
              <a:off x="10200600" y="6020280"/>
              <a:ext cx="356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3"/>
            <p:cNvSpPr/>
            <p:nvPr/>
          </p:nvSpPr>
          <p:spPr>
            <a:xfrm rot="17679600">
              <a:off x="10182960" y="6029280"/>
              <a:ext cx="384480" cy="43488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Group 12"/>
          <p:cNvGrpSpPr/>
          <p:nvPr/>
        </p:nvGrpSpPr>
        <p:grpSpPr>
          <a:xfrm>
            <a:off x="10516680" y="6528960"/>
            <a:ext cx="389880" cy="353160"/>
            <a:chOff x="10516680" y="6528960"/>
            <a:chExt cx="389880" cy="353160"/>
          </a:xfrm>
        </p:grpSpPr>
        <p:sp>
          <p:nvSpPr>
            <p:cNvPr id="139" name="AutoShape 11"/>
            <p:cNvSpPr/>
            <p:nvPr/>
          </p:nvSpPr>
          <p:spPr>
            <a:xfrm rot="16575000">
              <a:off x="10563480" y="6519240"/>
              <a:ext cx="2926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 rot="16575000">
              <a:off x="10553400" y="6526800"/>
              <a:ext cx="316080" cy="3574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文本框 69"/>
          <p:cNvSpPr/>
          <p:nvPr/>
        </p:nvSpPr>
        <p:spPr>
          <a:xfrm>
            <a:off x="403920" y="327960"/>
            <a:ext cx="1828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70" descr=""/>
          <p:cNvPicPr/>
          <p:nvPr/>
        </p:nvPicPr>
        <p:blipFill>
          <a:blip r:embed="rId1"/>
          <a:stretch/>
        </p:blipFill>
        <p:spPr>
          <a:xfrm>
            <a:off x="1058760" y="3542760"/>
            <a:ext cx="2194560" cy="25722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1" descr=""/>
          <p:cNvPicPr/>
          <p:nvPr/>
        </p:nvPicPr>
        <p:blipFill>
          <a:blip r:embed="rId2"/>
          <a:stretch/>
        </p:blipFill>
        <p:spPr>
          <a:xfrm>
            <a:off x="4867560" y="1481400"/>
            <a:ext cx="1834560" cy="21456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72" descr=""/>
          <p:cNvPicPr/>
          <p:nvPr/>
        </p:nvPicPr>
        <p:blipFill>
          <a:blip r:embed="rId3"/>
          <a:stretch/>
        </p:blipFill>
        <p:spPr>
          <a:xfrm>
            <a:off x="8910720" y="1394640"/>
            <a:ext cx="1237320" cy="14504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73" descr=""/>
          <p:cNvPicPr/>
          <p:nvPr/>
        </p:nvPicPr>
        <p:blipFill>
          <a:blip r:embed="rId4"/>
          <a:stretch/>
        </p:blipFill>
        <p:spPr>
          <a:xfrm>
            <a:off x="8713080" y="4063680"/>
            <a:ext cx="1682280" cy="17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1755720" y="1989720"/>
            <a:ext cx="2627280" cy="25174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4"/>
          <p:cNvGrpSpPr/>
          <p:nvPr/>
        </p:nvGrpSpPr>
        <p:grpSpPr>
          <a:xfrm>
            <a:off x="3594600" y="4329000"/>
            <a:ext cx="840240" cy="868320"/>
            <a:chOff x="3594600" y="4329000"/>
            <a:chExt cx="840240" cy="868320"/>
          </a:xfrm>
        </p:grpSpPr>
        <p:sp>
          <p:nvSpPr>
            <p:cNvPr id="148" name="AutoShape 3"/>
            <p:cNvSpPr/>
            <p:nvPr/>
          </p:nvSpPr>
          <p:spPr>
            <a:xfrm rot="4282200">
              <a:off x="3666240" y="443700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"/>
            <p:cNvSpPr/>
            <p:nvPr/>
          </p:nvSpPr>
          <p:spPr>
            <a:xfrm rot="4282200">
              <a:off x="3729240" y="469296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 rot="4282200">
              <a:off x="3920760" y="484236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 rot="4282200">
              <a:off x="4140360" y="469764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 rot="4282200">
              <a:off x="4044600" y="443988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 rot="4282200">
              <a:off x="3747960" y="448020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文本框 9"/>
          <p:cNvSpPr/>
          <p:nvPr/>
        </p:nvSpPr>
        <p:spPr>
          <a:xfrm>
            <a:off x="2228040" y="2897640"/>
            <a:ext cx="12103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1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0"/>
          <p:cNvSpPr/>
          <p:nvPr/>
        </p:nvSpPr>
        <p:spPr>
          <a:xfrm>
            <a:off x="3594240" y="2897640"/>
            <a:ext cx="6950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写下您的目录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9652320" y="3641760"/>
            <a:ext cx="595800" cy="615600"/>
            <a:chOff x="9652320" y="3641760"/>
            <a:chExt cx="595800" cy="615600"/>
          </a:xfrm>
        </p:grpSpPr>
        <p:sp>
          <p:nvSpPr>
            <p:cNvPr id="157" name="AutoShape 3"/>
            <p:cNvSpPr/>
            <p:nvPr/>
          </p:nvSpPr>
          <p:spPr>
            <a:xfrm rot="4282200">
              <a:off x="9703080" y="3718440"/>
              <a:ext cx="4939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5"/>
            <p:cNvSpPr/>
            <p:nvPr/>
          </p:nvSpPr>
          <p:spPr>
            <a:xfrm rot="4282200">
              <a:off x="9747720" y="3899880"/>
              <a:ext cx="174240" cy="2055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 rot="4282200">
              <a:off x="9883080" y="4005720"/>
              <a:ext cx="197640" cy="1731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"/>
            <p:cNvSpPr/>
            <p:nvPr/>
          </p:nvSpPr>
          <p:spPr>
            <a:xfrm rot="4282200">
              <a:off x="10039320" y="3903120"/>
              <a:ext cx="161640" cy="1616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 rot="4282200">
              <a:off x="9970920" y="3720600"/>
              <a:ext cx="150480" cy="1731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 rot="4282200">
              <a:off x="9761040" y="3749040"/>
              <a:ext cx="204480" cy="153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10810800" y="1302840"/>
            <a:ext cx="558000" cy="549000"/>
            <a:chOff x="10810800" y="1302840"/>
            <a:chExt cx="558000" cy="549000"/>
          </a:xfrm>
        </p:grpSpPr>
        <p:sp>
          <p:nvSpPr>
            <p:cNvPr id="164" name="AutoShape 11"/>
            <p:cNvSpPr/>
            <p:nvPr/>
          </p:nvSpPr>
          <p:spPr>
            <a:xfrm rot="13959000">
              <a:off x="10907280" y="1363320"/>
              <a:ext cx="343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 rot="13959000">
              <a:off x="10904400" y="1367640"/>
              <a:ext cx="370800" cy="4190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2"/>
          <p:cNvGrpSpPr/>
          <p:nvPr/>
        </p:nvGrpSpPr>
        <p:grpSpPr>
          <a:xfrm>
            <a:off x="9833040" y="6160320"/>
            <a:ext cx="397080" cy="351360"/>
            <a:chOff x="9833040" y="6160320"/>
            <a:chExt cx="397080" cy="351360"/>
          </a:xfrm>
        </p:grpSpPr>
        <p:sp>
          <p:nvSpPr>
            <p:cNvPr id="167" name="AutoShape 11"/>
            <p:cNvSpPr/>
            <p:nvPr/>
          </p:nvSpPr>
          <p:spPr>
            <a:xfrm rot="16200000">
              <a:off x="9866160" y="6129000"/>
              <a:ext cx="325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"/>
            <p:cNvSpPr/>
            <p:nvPr/>
          </p:nvSpPr>
          <p:spPr>
            <a:xfrm rot="16200000">
              <a:off x="9855720" y="6137280"/>
              <a:ext cx="351360" cy="39708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4"/>
          <p:cNvGrpSpPr/>
          <p:nvPr/>
        </p:nvGrpSpPr>
        <p:grpSpPr>
          <a:xfrm>
            <a:off x="9388440" y="4087080"/>
            <a:ext cx="264600" cy="273240"/>
            <a:chOff x="9388440" y="4087080"/>
            <a:chExt cx="264600" cy="273240"/>
          </a:xfrm>
        </p:grpSpPr>
        <p:sp>
          <p:nvSpPr>
            <p:cNvPr id="170" name="AutoShape 3"/>
            <p:cNvSpPr/>
            <p:nvPr/>
          </p:nvSpPr>
          <p:spPr>
            <a:xfrm rot="4282200">
              <a:off x="9410760" y="4120920"/>
              <a:ext cx="2192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 rot="4282200">
              <a:off x="9430920" y="4201920"/>
              <a:ext cx="77040" cy="91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 rot="4282200">
              <a:off x="9491040" y="4249080"/>
              <a:ext cx="87840" cy="766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520" bIns="38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rot="4282200">
              <a:off x="9560160" y="4203360"/>
              <a:ext cx="71640" cy="71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 rot="4282200">
              <a:off x="9530280" y="4122360"/>
              <a:ext cx="66600" cy="76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520" bIns="38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9"/>
            <p:cNvSpPr/>
            <p:nvPr/>
          </p:nvSpPr>
          <p:spPr>
            <a:xfrm rot="4282200">
              <a:off x="9436680" y="4134960"/>
              <a:ext cx="90720" cy="680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" descr=""/>
          <p:cNvPicPr/>
          <p:nvPr/>
        </p:nvPicPr>
        <p:blipFill>
          <a:blip r:embed="rId1"/>
          <a:stretch/>
        </p:blipFill>
        <p:spPr>
          <a:xfrm flipH="1" rot="10800000">
            <a:off x="5626080" y="1069560"/>
            <a:ext cx="4999320" cy="394704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2"/>
          <p:cNvGrpSpPr/>
          <p:nvPr/>
        </p:nvGrpSpPr>
        <p:grpSpPr>
          <a:xfrm>
            <a:off x="9870480" y="1766520"/>
            <a:ext cx="558000" cy="549000"/>
            <a:chOff x="9870480" y="1766520"/>
            <a:chExt cx="558000" cy="549000"/>
          </a:xfrm>
        </p:grpSpPr>
        <p:sp>
          <p:nvSpPr>
            <p:cNvPr id="178" name="AutoShape 11"/>
            <p:cNvSpPr/>
            <p:nvPr/>
          </p:nvSpPr>
          <p:spPr>
            <a:xfrm rot="13959000">
              <a:off x="9967320" y="1827000"/>
              <a:ext cx="343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"/>
            <p:cNvSpPr/>
            <p:nvPr/>
          </p:nvSpPr>
          <p:spPr>
            <a:xfrm rot="13959000">
              <a:off x="9964080" y="1831320"/>
              <a:ext cx="370800" cy="4190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文本框 5"/>
          <p:cNvSpPr/>
          <p:nvPr/>
        </p:nvSpPr>
        <p:spPr>
          <a:xfrm>
            <a:off x="2525040" y="1488240"/>
            <a:ext cx="6722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本模板采用字体为方正苏新诗柳楷简体仅用来交流使用 请勿商用 如果使用该字体请购买正版 请勿商用 谢谢合作  如有侵权请告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6582600" y="4119120"/>
            <a:ext cx="840240" cy="868320"/>
            <a:chOff x="6582600" y="4119120"/>
            <a:chExt cx="840240" cy="868320"/>
          </a:xfrm>
        </p:grpSpPr>
        <p:sp>
          <p:nvSpPr>
            <p:cNvPr id="182" name="AutoShape 3"/>
            <p:cNvSpPr/>
            <p:nvPr/>
          </p:nvSpPr>
          <p:spPr>
            <a:xfrm rot="4282200">
              <a:off x="6654240" y="422712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 rot="4282200">
              <a:off x="6717240" y="448272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 rot="4282200">
              <a:off x="6908400" y="463248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 rot="4282200">
              <a:off x="7128360" y="448776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 rot="4282200">
              <a:off x="7032240" y="423000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 rot="4282200">
              <a:off x="6735960" y="427032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4"/>
          <p:cNvGrpSpPr/>
          <p:nvPr/>
        </p:nvGrpSpPr>
        <p:grpSpPr>
          <a:xfrm>
            <a:off x="2334240" y="4266360"/>
            <a:ext cx="470880" cy="600480"/>
            <a:chOff x="2334240" y="4266360"/>
            <a:chExt cx="470880" cy="600480"/>
          </a:xfrm>
        </p:grpSpPr>
        <p:sp>
          <p:nvSpPr>
            <p:cNvPr id="189" name="AutoShape 3"/>
            <p:cNvSpPr/>
            <p:nvPr/>
          </p:nvSpPr>
          <p:spPr>
            <a:xfrm rot="11043600">
              <a:off x="2362680" y="4322520"/>
              <a:ext cx="427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 rot="11043600">
              <a:off x="2595960" y="4289040"/>
              <a:ext cx="203760" cy="15408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9" h="82">
                  <a:moveTo>
                    <a:pt x="0" y="20"/>
                  </a:moveTo>
                  <a:cubicBezTo>
                    <a:pt x="0" y="20"/>
                    <a:pt x="38" y="82"/>
                    <a:pt x="109" y="54"/>
                  </a:cubicBezTo>
                  <a:cubicBezTo>
                    <a:pt x="109" y="54"/>
                    <a:pt x="74" y="0"/>
                    <a:pt x="0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 rot="11043600">
              <a:off x="2589120" y="4414320"/>
              <a:ext cx="114120" cy="93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1" h="50">
                  <a:moveTo>
                    <a:pt x="0" y="0"/>
                  </a:moveTo>
                  <a:cubicBezTo>
                    <a:pt x="0" y="0"/>
                    <a:pt x="7" y="50"/>
                    <a:pt x="61" y="50"/>
                  </a:cubicBezTo>
                  <a:cubicBezTo>
                    <a:pt x="61" y="50"/>
                    <a:pt x="53" y="7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 rot="11043600">
              <a:off x="2461680" y="4405320"/>
              <a:ext cx="114120" cy="93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1" h="50">
                  <a:moveTo>
                    <a:pt x="61" y="0"/>
                  </a:moveTo>
                  <a:cubicBezTo>
                    <a:pt x="61" y="0"/>
                    <a:pt x="54" y="50"/>
                    <a:pt x="0" y="50"/>
                  </a:cubicBezTo>
                  <a:cubicBezTo>
                    <a:pt x="0" y="50"/>
                    <a:pt x="8" y="7"/>
                    <a:pt x="61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 rot="11043600">
              <a:off x="2369520" y="4273200"/>
              <a:ext cx="203760" cy="15408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9" h="82">
                  <a:moveTo>
                    <a:pt x="109" y="20"/>
                  </a:moveTo>
                  <a:cubicBezTo>
                    <a:pt x="109" y="20"/>
                    <a:pt x="71" y="82"/>
                    <a:pt x="0" y="54"/>
                  </a:cubicBezTo>
                  <a:cubicBezTo>
                    <a:pt x="0" y="54"/>
                    <a:pt x="35" y="0"/>
                    <a:pt x="109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 rot="11640000">
              <a:off x="2508480" y="4478040"/>
              <a:ext cx="110160" cy="1526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 rot="12900000">
              <a:off x="2368080" y="4696200"/>
              <a:ext cx="110160" cy="1526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2"/>
          <p:cNvGrpSpPr/>
          <p:nvPr/>
        </p:nvGrpSpPr>
        <p:grpSpPr>
          <a:xfrm>
            <a:off x="259200" y="5759640"/>
            <a:ext cx="801000" cy="724320"/>
            <a:chOff x="259200" y="5759640"/>
            <a:chExt cx="801000" cy="724320"/>
          </a:xfrm>
        </p:grpSpPr>
        <p:sp>
          <p:nvSpPr>
            <p:cNvPr id="197" name="AutoShape 11"/>
            <p:cNvSpPr/>
            <p:nvPr/>
          </p:nvSpPr>
          <p:spPr>
            <a:xfrm flipV="1" rot="16539600">
              <a:off x="363960" y="5736240"/>
              <a:ext cx="60588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 flipV="1" rot="16539600">
              <a:off x="332280" y="5751720"/>
              <a:ext cx="654840" cy="74016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360 h 740160"/>
                <a:gd name="textAreaBottom" fmla="*/ 740880 h 7401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1073160" y="6248520"/>
            <a:ext cx="443160" cy="401040"/>
            <a:chOff x="1073160" y="6248520"/>
            <a:chExt cx="443160" cy="401040"/>
          </a:xfrm>
        </p:grpSpPr>
        <p:sp>
          <p:nvSpPr>
            <p:cNvPr id="200" name="AutoShape 11"/>
            <p:cNvSpPr/>
            <p:nvPr/>
          </p:nvSpPr>
          <p:spPr>
            <a:xfrm rot="15860400">
              <a:off x="1122840" y="6235920"/>
              <a:ext cx="3355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 rot="15860400">
              <a:off x="1113480" y="6243840"/>
              <a:ext cx="362520" cy="40968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4"/>
          <p:cNvGrpSpPr/>
          <p:nvPr/>
        </p:nvGrpSpPr>
        <p:grpSpPr>
          <a:xfrm>
            <a:off x="4364280" y="1612800"/>
            <a:ext cx="404280" cy="427680"/>
            <a:chOff x="4364280" y="1612800"/>
            <a:chExt cx="404280" cy="427680"/>
          </a:xfrm>
        </p:grpSpPr>
        <p:sp>
          <p:nvSpPr>
            <p:cNvPr id="203" name="AutoShape 3"/>
            <p:cNvSpPr/>
            <p:nvPr/>
          </p:nvSpPr>
          <p:spPr>
            <a:xfrm rot="5692800">
              <a:off x="4367520" y="1640520"/>
              <a:ext cx="39744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 rot="5692800">
              <a:off x="4394160" y="1746000"/>
              <a:ext cx="140040" cy="1652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 rot="5692800">
              <a:off x="4464360" y="1872720"/>
              <a:ext cx="159120" cy="1393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 rot="5692800">
              <a:off x="4615920" y="1841400"/>
              <a:ext cx="129960" cy="1299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 rot="5692800">
              <a:off x="4622040" y="1682640"/>
              <a:ext cx="120960" cy="1393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 rot="5692800">
              <a:off x="4459320" y="1645920"/>
              <a:ext cx="164520" cy="1238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35"/>
          <p:cNvSpPr/>
          <p:nvPr/>
        </p:nvSpPr>
        <p:spPr>
          <a:xfrm>
            <a:off x="1091880" y="590040"/>
            <a:ext cx="7737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请写下您的文本 请写下您的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"/>
          <p:cNvGrpSpPr/>
          <p:nvPr/>
        </p:nvGrpSpPr>
        <p:grpSpPr>
          <a:xfrm>
            <a:off x="1548720" y="1608840"/>
            <a:ext cx="840240" cy="868320"/>
            <a:chOff x="1548720" y="1608840"/>
            <a:chExt cx="840240" cy="868320"/>
          </a:xfrm>
        </p:grpSpPr>
        <p:sp>
          <p:nvSpPr>
            <p:cNvPr id="211" name="AutoShape 3"/>
            <p:cNvSpPr/>
            <p:nvPr/>
          </p:nvSpPr>
          <p:spPr>
            <a:xfrm rot="4282200">
              <a:off x="1620360" y="171684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 rot="4282200">
              <a:off x="1683360" y="197280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 rot="4282200">
              <a:off x="1874880" y="212256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 rot="4282200">
              <a:off x="2094480" y="197748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 rot="4282200">
              <a:off x="1998720" y="172008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4282200">
              <a:off x="1702080" y="176040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4"/>
          <p:cNvGrpSpPr/>
          <p:nvPr/>
        </p:nvGrpSpPr>
        <p:grpSpPr>
          <a:xfrm>
            <a:off x="1416600" y="3159360"/>
            <a:ext cx="757800" cy="783360"/>
            <a:chOff x="1416600" y="3159360"/>
            <a:chExt cx="757800" cy="783360"/>
          </a:xfrm>
        </p:grpSpPr>
        <p:sp>
          <p:nvSpPr>
            <p:cNvPr id="218" name="AutoShape 3"/>
            <p:cNvSpPr/>
            <p:nvPr/>
          </p:nvSpPr>
          <p:spPr>
            <a:xfrm rot="4282200">
              <a:off x="1481400" y="3256560"/>
              <a:ext cx="628200" cy="5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 rot="4282200">
              <a:off x="1538280" y="3487320"/>
              <a:ext cx="221400" cy="26172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 rot="4282200">
              <a:off x="1710360" y="3622320"/>
              <a:ext cx="251640" cy="22032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 rot="4282200">
              <a:off x="1909080" y="3492000"/>
              <a:ext cx="205920" cy="20592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8"/>
            <p:cNvSpPr/>
            <p:nvPr/>
          </p:nvSpPr>
          <p:spPr>
            <a:xfrm rot="4282200">
              <a:off x="1822320" y="3259440"/>
              <a:ext cx="191520" cy="2203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 rot="4282200">
              <a:off x="1554840" y="3295800"/>
              <a:ext cx="260280" cy="1958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4"/>
          <p:cNvGrpSpPr/>
          <p:nvPr/>
        </p:nvGrpSpPr>
        <p:grpSpPr>
          <a:xfrm>
            <a:off x="2526840" y="2616840"/>
            <a:ext cx="407880" cy="430920"/>
            <a:chOff x="2526840" y="2616840"/>
            <a:chExt cx="407880" cy="430920"/>
          </a:xfrm>
        </p:grpSpPr>
        <p:sp>
          <p:nvSpPr>
            <p:cNvPr id="225" name="AutoShape 3"/>
            <p:cNvSpPr/>
            <p:nvPr/>
          </p:nvSpPr>
          <p:spPr>
            <a:xfrm rot="5691600">
              <a:off x="2530440" y="2644560"/>
              <a:ext cx="40068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5"/>
            <p:cNvSpPr/>
            <p:nvPr/>
          </p:nvSpPr>
          <p:spPr>
            <a:xfrm rot="5691600">
              <a:off x="2557440" y="2750760"/>
              <a:ext cx="141120" cy="166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 rot="5691600">
              <a:off x="2628360" y="2878560"/>
              <a:ext cx="160200" cy="1404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 rot="5691600">
              <a:off x="2781000" y="2846880"/>
              <a:ext cx="131040" cy="13104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5691600">
              <a:off x="2787120" y="2687040"/>
              <a:ext cx="122040" cy="140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9"/>
            <p:cNvSpPr/>
            <p:nvPr/>
          </p:nvSpPr>
          <p:spPr>
            <a:xfrm rot="5691600">
              <a:off x="2623320" y="2649600"/>
              <a:ext cx="165960" cy="1249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文本框 22"/>
          <p:cNvSpPr/>
          <p:nvPr/>
        </p:nvSpPr>
        <p:spPr>
          <a:xfrm>
            <a:off x="3451680" y="2123640"/>
            <a:ext cx="4713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您的文本 您的文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3"/>
          <p:cNvSpPr/>
          <p:nvPr/>
        </p:nvSpPr>
        <p:spPr>
          <a:xfrm>
            <a:off x="4146840" y="3047760"/>
            <a:ext cx="4507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您的文本 您的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24"/>
          <p:cNvSpPr/>
          <p:nvPr/>
        </p:nvSpPr>
        <p:spPr>
          <a:xfrm>
            <a:off x="4891680" y="3926520"/>
            <a:ext cx="4507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您的文本 您的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2"/>
          <p:cNvGrpSpPr/>
          <p:nvPr/>
        </p:nvGrpSpPr>
        <p:grpSpPr>
          <a:xfrm>
            <a:off x="9237240" y="4033080"/>
            <a:ext cx="1341720" cy="1254240"/>
            <a:chOff x="9237240" y="4033080"/>
            <a:chExt cx="1341720" cy="1254240"/>
          </a:xfrm>
        </p:grpSpPr>
        <p:sp>
          <p:nvSpPr>
            <p:cNvPr id="235" name="AutoShape 11"/>
            <p:cNvSpPr/>
            <p:nvPr/>
          </p:nvSpPr>
          <p:spPr>
            <a:xfrm rot="15225000">
              <a:off x="9435960" y="4085280"/>
              <a:ext cx="90936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 rot="15225000">
              <a:off x="9416520" y="4104360"/>
              <a:ext cx="982800" cy="111096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1110960"/>
                <a:gd name="textAreaBottom" fmla="*/ 1111320 h 11109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Group 12"/>
          <p:cNvGrpSpPr/>
          <p:nvPr/>
        </p:nvGrpSpPr>
        <p:grpSpPr>
          <a:xfrm>
            <a:off x="9624960" y="5608800"/>
            <a:ext cx="497160" cy="549720"/>
            <a:chOff x="9624960" y="5608800"/>
            <a:chExt cx="497160" cy="549720"/>
          </a:xfrm>
        </p:grpSpPr>
        <p:sp>
          <p:nvSpPr>
            <p:cNvPr id="238" name="AutoShape 11"/>
            <p:cNvSpPr/>
            <p:nvPr/>
          </p:nvSpPr>
          <p:spPr>
            <a:xfrm flipV="1" rot="21274800">
              <a:off x="9682200" y="5636520"/>
              <a:ext cx="4172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 flipV="1" rot="21274800">
              <a:off x="9648000" y="5628240"/>
              <a:ext cx="450720" cy="50940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-36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36000" y="4813920"/>
            <a:ext cx="1103040" cy="1072080"/>
            <a:chOff x="8136000" y="4813920"/>
            <a:chExt cx="1103040" cy="1072080"/>
          </a:xfrm>
        </p:grpSpPr>
        <p:sp>
          <p:nvSpPr>
            <p:cNvPr id="241" name="AutoShape 11"/>
            <p:cNvSpPr/>
            <p:nvPr/>
          </p:nvSpPr>
          <p:spPr>
            <a:xfrm rot="18112200">
              <a:off x="8354160" y="4914360"/>
              <a:ext cx="686160" cy="8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 rot="18112200">
              <a:off x="8316720" y="4930920"/>
              <a:ext cx="741240" cy="83808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文本框 34"/>
          <p:cNvSpPr/>
          <p:nvPr/>
        </p:nvSpPr>
        <p:spPr>
          <a:xfrm>
            <a:off x="1254960" y="577080"/>
            <a:ext cx="7737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请写下您的文本 请写下您的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1"/>
          <a:stretch/>
        </p:blipFill>
        <p:spPr>
          <a:xfrm>
            <a:off x="8272440" y="2092680"/>
            <a:ext cx="2627280" cy="251748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2"/>
          <p:cNvSpPr/>
          <p:nvPr/>
        </p:nvSpPr>
        <p:spPr>
          <a:xfrm>
            <a:off x="8755920" y="846720"/>
            <a:ext cx="15066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"/>
          <p:cNvSpPr/>
          <p:nvPr/>
        </p:nvSpPr>
        <p:spPr>
          <a:xfrm>
            <a:off x="2409480" y="2936520"/>
            <a:ext cx="6950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写下您的目录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2088000" y="1659240"/>
            <a:ext cx="840240" cy="868320"/>
            <a:chOff x="2088000" y="1659240"/>
            <a:chExt cx="840240" cy="868320"/>
          </a:xfrm>
        </p:grpSpPr>
        <p:sp>
          <p:nvSpPr>
            <p:cNvPr id="248" name="AutoShape 3"/>
            <p:cNvSpPr/>
            <p:nvPr/>
          </p:nvSpPr>
          <p:spPr>
            <a:xfrm rot="4282200">
              <a:off x="2159640" y="176724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 rot="4282200">
              <a:off x="2222280" y="202320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 rot="4282200">
              <a:off x="2413800" y="217260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 rot="4282200">
              <a:off x="2633760" y="202788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 rot="4282200">
              <a:off x="2537640" y="177012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 rot="4282200">
              <a:off x="2241000" y="181044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4"/>
          <p:cNvGrpSpPr/>
          <p:nvPr/>
        </p:nvGrpSpPr>
        <p:grpSpPr>
          <a:xfrm>
            <a:off x="7854120" y="3870360"/>
            <a:ext cx="642600" cy="664200"/>
            <a:chOff x="7854120" y="3870360"/>
            <a:chExt cx="642600" cy="664200"/>
          </a:xfrm>
        </p:grpSpPr>
        <p:sp>
          <p:nvSpPr>
            <p:cNvPr id="255" name="AutoShape 3"/>
            <p:cNvSpPr/>
            <p:nvPr/>
          </p:nvSpPr>
          <p:spPr>
            <a:xfrm rot="4282200">
              <a:off x="7908840" y="3952800"/>
              <a:ext cx="5328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5"/>
            <p:cNvSpPr/>
            <p:nvPr/>
          </p:nvSpPr>
          <p:spPr>
            <a:xfrm rot="4282200">
              <a:off x="7957080" y="4148640"/>
              <a:ext cx="187920" cy="22176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4282200">
              <a:off x="8103240" y="4263120"/>
              <a:ext cx="213480" cy="18648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7"/>
            <p:cNvSpPr/>
            <p:nvPr/>
          </p:nvSpPr>
          <p:spPr>
            <a:xfrm rot="4282200">
              <a:off x="8271720" y="4152240"/>
              <a:ext cx="174600" cy="174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8"/>
            <p:cNvSpPr/>
            <p:nvPr/>
          </p:nvSpPr>
          <p:spPr>
            <a:xfrm rot="4282200">
              <a:off x="8198280" y="3955320"/>
              <a:ext cx="162360" cy="1864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9"/>
            <p:cNvSpPr/>
            <p:nvPr/>
          </p:nvSpPr>
          <p:spPr>
            <a:xfrm rot="4282200">
              <a:off x="7971120" y="3986280"/>
              <a:ext cx="220680" cy="1659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2"/>
          <p:cNvGrpSpPr/>
          <p:nvPr/>
        </p:nvGrpSpPr>
        <p:grpSpPr>
          <a:xfrm>
            <a:off x="2176560" y="3952800"/>
            <a:ext cx="478800" cy="434880"/>
            <a:chOff x="2176560" y="3952800"/>
            <a:chExt cx="478800" cy="434880"/>
          </a:xfrm>
        </p:grpSpPr>
        <p:sp>
          <p:nvSpPr>
            <p:cNvPr id="262" name="AutoShape 11"/>
            <p:cNvSpPr/>
            <p:nvPr/>
          </p:nvSpPr>
          <p:spPr>
            <a:xfrm rot="15778800">
              <a:off x="2233080" y="3944160"/>
              <a:ext cx="356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13"/>
            <p:cNvSpPr/>
            <p:nvPr/>
          </p:nvSpPr>
          <p:spPr>
            <a:xfrm rot="15778800">
              <a:off x="2223720" y="3952800"/>
              <a:ext cx="384480" cy="43488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2628360" y="4287240"/>
            <a:ext cx="167760" cy="152280"/>
            <a:chOff x="2628360" y="4287240"/>
            <a:chExt cx="167760" cy="152280"/>
          </a:xfrm>
        </p:grpSpPr>
        <p:sp>
          <p:nvSpPr>
            <p:cNvPr id="265" name="AutoShape 11"/>
            <p:cNvSpPr/>
            <p:nvPr/>
          </p:nvSpPr>
          <p:spPr>
            <a:xfrm flipV="1" rot="16621200">
              <a:off x="2651400" y="4284360"/>
              <a:ext cx="12456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3"/>
            <p:cNvSpPr/>
            <p:nvPr/>
          </p:nvSpPr>
          <p:spPr>
            <a:xfrm flipV="1" rot="16621200">
              <a:off x="2644920" y="4286880"/>
              <a:ext cx="134640" cy="1522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4"/>
          <p:cNvGrpSpPr/>
          <p:nvPr/>
        </p:nvGrpSpPr>
        <p:grpSpPr>
          <a:xfrm>
            <a:off x="4396320" y="1523160"/>
            <a:ext cx="3141360" cy="3241800"/>
            <a:chOff x="4396320" y="1523160"/>
            <a:chExt cx="3141360" cy="3241800"/>
          </a:xfrm>
        </p:grpSpPr>
        <p:sp>
          <p:nvSpPr>
            <p:cNvPr id="268" name="AutoShape 3"/>
            <p:cNvSpPr/>
            <p:nvPr/>
          </p:nvSpPr>
          <p:spPr>
            <a:xfrm rot="6572400">
              <a:off x="4675680" y="1935360"/>
              <a:ext cx="2581920" cy="24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 rot="6572400">
              <a:off x="4866840" y="2452320"/>
              <a:ext cx="911160" cy="1076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6"/>
            <p:cNvSpPr/>
            <p:nvPr/>
          </p:nvSpPr>
          <p:spPr>
            <a:xfrm rot="6572400">
              <a:off x="5119560" y="3382560"/>
              <a:ext cx="1035000" cy="90540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905400"/>
                <a:gd name="textAreaBottom" fmla="*/ 905760 h 905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efa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7"/>
            <p:cNvSpPr/>
            <p:nvPr/>
          </p:nvSpPr>
          <p:spPr>
            <a:xfrm rot="6572400">
              <a:off x="6131160" y="3412800"/>
              <a:ext cx="846720" cy="846720"/>
            </a:xfrm>
            <a:custGeom>
              <a:avLst/>
              <a:gdLst>
                <a:gd name="textAreaLeft" fmla="*/ 0 w 846720"/>
                <a:gd name="textAreaRight" fmla="*/ 847080 w 846720"/>
                <a:gd name="textAreaTop" fmla="*/ 0 h 846720"/>
                <a:gd name="textAreaBottom" fmla="*/ 847080 h 8467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a7e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"/>
            <p:cNvSpPr/>
            <p:nvPr/>
          </p:nvSpPr>
          <p:spPr>
            <a:xfrm rot="6572400">
              <a:off x="6428520" y="2417400"/>
              <a:ext cx="787680" cy="9054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905400"/>
                <a:gd name="textAreaBottom" fmla="*/ 905760 h 905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d3b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9"/>
            <p:cNvSpPr/>
            <p:nvPr/>
          </p:nvSpPr>
          <p:spPr>
            <a:xfrm rot="6572400">
              <a:off x="5473800" y="1954440"/>
              <a:ext cx="1070280" cy="805320"/>
            </a:xfrm>
            <a:custGeom>
              <a:avLst/>
              <a:gdLst>
                <a:gd name="textAreaLeft" fmla="*/ 0 w 1070280"/>
                <a:gd name="textAreaRight" fmla="*/ 1070640 w 107028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文本框 13"/>
          <p:cNvSpPr/>
          <p:nvPr/>
        </p:nvSpPr>
        <p:spPr>
          <a:xfrm>
            <a:off x="4085640" y="2621160"/>
            <a:ext cx="64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4"/>
          <p:cNvSpPr/>
          <p:nvPr/>
        </p:nvSpPr>
        <p:spPr>
          <a:xfrm>
            <a:off x="4714560" y="4214160"/>
            <a:ext cx="64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5"/>
          <p:cNvSpPr/>
          <p:nvPr/>
        </p:nvSpPr>
        <p:spPr>
          <a:xfrm>
            <a:off x="6878520" y="4225680"/>
            <a:ext cx="64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"/>
          <p:cNvSpPr/>
          <p:nvPr/>
        </p:nvSpPr>
        <p:spPr>
          <a:xfrm>
            <a:off x="7264800" y="2605680"/>
            <a:ext cx="64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7"/>
          <p:cNvSpPr/>
          <p:nvPr/>
        </p:nvSpPr>
        <p:spPr>
          <a:xfrm>
            <a:off x="5655960" y="1490400"/>
            <a:ext cx="64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1665720" y="5861160"/>
            <a:ext cx="399600" cy="412920"/>
            <a:chOff x="1665720" y="5861160"/>
            <a:chExt cx="399600" cy="412920"/>
          </a:xfrm>
        </p:grpSpPr>
        <p:sp>
          <p:nvSpPr>
            <p:cNvPr id="280" name="AutoShape 3"/>
            <p:cNvSpPr/>
            <p:nvPr/>
          </p:nvSpPr>
          <p:spPr>
            <a:xfrm rot="4282200">
              <a:off x="1699920" y="5912280"/>
              <a:ext cx="33120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 rot="4282200">
              <a:off x="1729800" y="6033960"/>
              <a:ext cx="116640" cy="13788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 rot="4282200">
              <a:off x="1820880" y="6105240"/>
              <a:ext cx="132480" cy="11592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 rot="4282200">
              <a:off x="1925280" y="6036480"/>
              <a:ext cx="108360" cy="10836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 rot="4282200">
              <a:off x="1879560" y="5914080"/>
              <a:ext cx="100800" cy="1159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"/>
            <p:cNvSpPr/>
            <p:nvPr/>
          </p:nvSpPr>
          <p:spPr>
            <a:xfrm rot="4282200">
              <a:off x="1738440" y="5933160"/>
              <a:ext cx="137160" cy="1029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4"/>
          <p:cNvGrpSpPr/>
          <p:nvPr/>
        </p:nvGrpSpPr>
        <p:grpSpPr>
          <a:xfrm>
            <a:off x="10418400" y="613800"/>
            <a:ext cx="840240" cy="868320"/>
            <a:chOff x="10418400" y="613800"/>
            <a:chExt cx="840240" cy="868320"/>
          </a:xfrm>
        </p:grpSpPr>
        <p:sp>
          <p:nvSpPr>
            <p:cNvPr id="287" name="AutoShape 3"/>
            <p:cNvSpPr/>
            <p:nvPr/>
          </p:nvSpPr>
          <p:spPr>
            <a:xfrm rot="4282200">
              <a:off x="10490040" y="72180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5"/>
            <p:cNvSpPr/>
            <p:nvPr/>
          </p:nvSpPr>
          <p:spPr>
            <a:xfrm rot="4282200">
              <a:off x="10553040" y="97776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 rot="4282200">
              <a:off x="10744200" y="112752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 rot="4282200">
              <a:off x="10964160" y="98244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 rot="4282200">
              <a:off x="10868040" y="72504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 rot="4282200">
              <a:off x="10571760" y="76500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4"/>
          <p:cNvGrpSpPr/>
          <p:nvPr/>
        </p:nvGrpSpPr>
        <p:grpSpPr>
          <a:xfrm>
            <a:off x="3690360" y="5344560"/>
            <a:ext cx="485280" cy="518400"/>
            <a:chOff x="3690360" y="5344560"/>
            <a:chExt cx="485280" cy="518400"/>
          </a:xfrm>
        </p:grpSpPr>
        <p:sp>
          <p:nvSpPr>
            <p:cNvPr id="294" name="AutoShape 3"/>
            <p:cNvSpPr/>
            <p:nvPr/>
          </p:nvSpPr>
          <p:spPr>
            <a:xfrm rot="5400000">
              <a:off x="3673800" y="5361120"/>
              <a:ext cx="51840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5"/>
            <p:cNvSpPr/>
            <p:nvPr/>
          </p:nvSpPr>
          <p:spPr>
            <a:xfrm rot="5400000">
              <a:off x="3709080" y="5510160"/>
              <a:ext cx="182880" cy="2160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5400000">
              <a:off x="3813120" y="5666040"/>
              <a:ext cx="207720" cy="18144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 rot="5400000">
              <a:off x="4005720" y="5610600"/>
              <a:ext cx="169920" cy="169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"/>
            <p:cNvSpPr/>
            <p:nvPr/>
          </p:nvSpPr>
          <p:spPr>
            <a:xfrm rot="5400000">
              <a:off x="3997440" y="5403600"/>
              <a:ext cx="158040" cy="1814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 rot="5400000">
              <a:off x="3780720" y="5370840"/>
              <a:ext cx="214560" cy="161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oup 4"/>
          <p:cNvGrpSpPr/>
          <p:nvPr/>
        </p:nvGrpSpPr>
        <p:grpSpPr>
          <a:xfrm>
            <a:off x="659880" y="5730480"/>
            <a:ext cx="386280" cy="399240"/>
            <a:chOff x="659880" y="5730480"/>
            <a:chExt cx="386280" cy="399240"/>
          </a:xfrm>
        </p:grpSpPr>
        <p:sp>
          <p:nvSpPr>
            <p:cNvPr id="301" name="AutoShape 3"/>
            <p:cNvSpPr/>
            <p:nvPr/>
          </p:nvSpPr>
          <p:spPr>
            <a:xfrm rot="4282200">
              <a:off x="692640" y="5779800"/>
              <a:ext cx="3200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5"/>
            <p:cNvSpPr/>
            <p:nvPr/>
          </p:nvSpPr>
          <p:spPr>
            <a:xfrm rot="4282200">
              <a:off x="722160" y="589752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4282200">
              <a:off x="809640" y="5966280"/>
              <a:ext cx="128160" cy="1119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7"/>
            <p:cNvSpPr/>
            <p:nvPr/>
          </p:nvSpPr>
          <p:spPr>
            <a:xfrm rot="4282200">
              <a:off x="911160" y="589968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8"/>
            <p:cNvSpPr/>
            <p:nvPr/>
          </p:nvSpPr>
          <p:spPr>
            <a:xfrm rot="4282200">
              <a:off x="866880" y="5781600"/>
              <a:ext cx="97560" cy="1119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 rot="4282200">
              <a:off x="730440" y="5799960"/>
              <a:ext cx="132480" cy="9972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Group 4"/>
          <p:cNvGrpSpPr/>
          <p:nvPr/>
        </p:nvGrpSpPr>
        <p:grpSpPr>
          <a:xfrm>
            <a:off x="2867760" y="3754800"/>
            <a:ext cx="605520" cy="615240"/>
            <a:chOff x="2867760" y="3754800"/>
            <a:chExt cx="605520" cy="615240"/>
          </a:xfrm>
        </p:grpSpPr>
        <p:sp>
          <p:nvSpPr>
            <p:cNvPr id="308" name="AutoShape 3"/>
            <p:cNvSpPr/>
            <p:nvPr/>
          </p:nvSpPr>
          <p:spPr>
            <a:xfrm rot="7267200">
              <a:off x="2940840" y="3847320"/>
              <a:ext cx="45936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 rot="7267200">
              <a:off x="2982600" y="3916800"/>
              <a:ext cx="162000" cy="191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rot="7267200">
              <a:off x="2996280" y="4090680"/>
              <a:ext cx="183960" cy="1609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rot="7267200">
              <a:off x="3173040" y="4128480"/>
              <a:ext cx="150480" cy="1504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rot="7267200">
              <a:off x="3259440" y="3964680"/>
              <a:ext cx="140040" cy="1609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rot="7267200">
              <a:off x="3111120" y="3854880"/>
              <a:ext cx="190080" cy="142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Group 4"/>
          <p:cNvGrpSpPr/>
          <p:nvPr/>
        </p:nvGrpSpPr>
        <p:grpSpPr>
          <a:xfrm>
            <a:off x="9016560" y="1569960"/>
            <a:ext cx="742680" cy="739080"/>
            <a:chOff x="9016560" y="1569960"/>
            <a:chExt cx="742680" cy="739080"/>
          </a:xfrm>
        </p:grpSpPr>
        <p:sp>
          <p:nvSpPr>
            <p:cNvPr id="315" name="AutoShape 3"/>
            <p:cNvSpPr/>
            <p:nvPr/>
          </p:nvSpPr>
          <p:spPr>
            <a:xfrm rot="2427600">
              <a:off x="9116280" y="1685160"/>
              <a:ext cx="54288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 rot="2427600">
              <a:off x="9213480" y="1941480"/>
              <a:ext cx="191520" cy="2260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 rot="2427600">
              <a:off x="9390240" y="1960920"/>
              <a:ext cx="217440" cy="1900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7"/>
            <p:cNvSpPr/>
            <p:nvPr/>
          </p:nvSpPr>
          <p:spPr>
            <a:xfrm rot="2427600">
              <a:off x="9479160" y="1787040"/>
              <a:ext cx="177840" cy="1778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 rot="2427600">
              <a:off x="9315360" y="1655640"/>
              <a:ext cx="165600" cy="1900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 rot="2427600">
              <a:off x="9123840" y="1787400"/>
              <a:ext cx="225000" cy="1692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Group 4"/>
          <p:cNvGrpSpPr/>
          <p:nvPr/>
        </p:nvGrpSpPr>
        <p:grpSpPr>
          <a:xfrm>
            <a:off x="10226160" y="3018960"/>
            <a:ext cx="675000" cy="681120"/>
            <a:chOff x="10226160" y="3018960"/>
            <a:chExt cx="675000" cy="681120"/>
          </a:xfrm>
        </p:grpSpPr>
        <p:sp>
          <p:nvSpPr>
            <p:cNvPr id="322" name="AutoShape 3"/>
            <p:cNvSpPr/>
            <p:nvPr/>
          </p:nvSpPr>
          <p:spPr>
            <a:xfrm rot="3155400">
              <a:off x="10313640" y="3125520"/>
              <a:ext cx="499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5"/>
            <p:cNvSpPr/>
            <p:nvPr/>
          </p:nvSpPr>
          <p:spPr>
            <a:xfrm rot="3155400">
              <a:off x="10382400" y="3343320"/>
              <a:ext cx="176040" cy="2080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6"/>
            <p:cNvSpPr/>
            <p:nvPr/>
          </p:nvSpPr>
          <p:spPr>
            <a:xfrm rot="3155400">
              <a:off x="10540800" y="3398400"/>
              <a:ext cx="200160" cy="1749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7"/>
            <p:cNvSpPr/>
            <p:nvPr/>
          </p:nvSpPr>
          <p:spPr>
            <a:xfrm rot="3155400">
              <a:off x="10656000" y="3255120"/>
              <a:ext cx="163800" cy="163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8"/>
            <p:cNvSpPr/>
            <p:nvPr/>
          </p:nvSpPr>
          <p:spPr>
            <a:xfrm rot="3155400">
              <a:off x="10532880" y="3103920"/>
              <a:ext cx="152280" cy="1749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 rot="3155400">
              <a:off x="10336680" y="3191400"/>
              <a:ext cx="207000" cy="15552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Group 4"/>
          <p:cNvGrpSpPr/>
          <p:nvPr/>
        </p:nvGrpSpPr>
        <p:grpSpPr>
          <a:xfrm>
            <a:off x="8167680" y="4377240"/>
            <a:ext cx="520920" cy="538200"/>
            <a:chOff x="8167680" y="4377240"/>
            <a:chExt cx="520920" cy="538200"/>
          </a:xfrm>
        </p:grpSpPr>
        <p:sp>
          <p:nvSpPr>
            <p:cNvPr id="329" name="AutoShape 3"/>
            <p:cNvSpPr/>
            <p:nvPr/>
          </p:nvSpPr>
          <p:spPr>
            <a:xfrm rot="4282200">
              <a:off x="8211960" y="4443840"/>
              <a:ext cx="43164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5"/>
            <p:cNvSpPr/>
            <p:nvPr/>
          </p:nvSpPr>
          <p:spPr>
            <a:xfrm rot="4282200">
              <a:off x="8251200" y="4602600"/>
              <a:ext cx="152280" cy="179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6"/>
            <p:cNvSpPr/>
            <p:nvPr/>
          </p:nvSpPr>
          <p:spPr>
            <a:xfrm rot="4282200">
              <a:off x="8369640" y="4695480"/>
              <a:ext cx="172800" cy="1512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7"/>
            <p:cNvSpPr/>
            <p:nvPr/>
          </p:nvSpPr>
          <p:spPr>
            <a:xfrm rot="4282200">
              <a:off x="8506080" y="4605840"/>
              <a:ext cx="141480" cy="1414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8"/>
            <p:cNvSpPr/>
            <p:nvPr/>
          </p:nvSpPr>
          <p:spPr>
            <a:xfrm rot="4282200">
              <a:off x="8446320" y="4446360"/>
              <a:ext cx="131400" cy="1512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9"/>
            <p:cNvSpPr/>
            <p:nvPr/>
          </p:nvSpPr>
          <p:spPr>
            <a:xfrm rot="4282200">
              <a:off x="8262360" y="4471200"/>
              <a:ext cx="178920" cy="13464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Group 4"/>
          <p:cNvGrpSpPr/>
          <p:nvPr/>
        </p:nvGrpSpPr>
        <p:grpSpPr>
          <a:xfrm>
            <a:off x="9162360" y="2952360"/>
            <a:ext cx="840240" cy="868320"/>
            <a:chOff x="9162360" y="2952360"/>
            <a:chExt cx="840240" cy="868320"/>
          </a:xfrm>
        </p:grpSpPr>
        <p:sp>
          <p:nvSpPr>
            <p:cNvPr id="336" name="AutoShape 3"/>
            <p:cNvSpPr/>
            <p:nvPr/>
          </p:nvSpPr>
          <p:spPr>
            <a:xfrm rot="4282200">
              <a:off x="9234000" y="306036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5"/>
            <p:cNvSpPr/>
            <p:nvPr/>
          </p:nvSpPr>
          <p:spPr>
            <a:xfrm rot="4282200">
              <a:off x="9296640" y="331632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6"/>
            <p:cNvSpPr/>
            <p:nvPr/>
          </p:nvSpPr>
          <p:spPr>
            <a:xfrm rot="4282200">
              <a:off x="9488160" y="346572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7"/>
            <p:cNvSpPr/>
            <p:nvPr/>
          </p:nvSpPr>
          <p:spPr>
            <a:xfrm rot="4282200">
              <a:off x="9707760" y="332100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8"/>
            <p:cNvSpPr/>
            <p:nvPr/>
          </p:nvSpPr>
          <p:spPr>
            <a:xfrm rot="4282200">
              <a:off x="9612000" y="306324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9"/>
            <p:cNvSpPr/>
            <p:nvPr/>
          </p:nvSpPr>
          <p:spPr>
            <a:xfrm rot="4282200">
              <a:off x="9315360" y="310356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文本框 81"/>
          <p:cNvSpPr/>
          <p:nvPr/>
        </p:nvSpPr>
        <p:spPr>
          <a:xfrm>
            <a:off x="1046520" y="524880"/>
            <a:ext cx="7737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请写下您的文本 请写下您的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4200" y="6439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图片 3" descr=""/>
          <p:cNvPicPr/>
          <p:nvPr/>
        </p:nvPicPr>
        <p:blipFill>
          <a:blip r:embed="rId1"/>
          <a:stretch/>
        </p:blipFill>
        <p:spPr>
          <a:xfrm>
            <a:off x="1726200" y="1520640"/>
            <a:ext cx="7992360" cy="30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4" descr=""/>
          <p:cNvPicPr/>
          <p:nvPr/>
        </p:nvPicPr>
        <p:blipFill>
          <a:blip r:embed="rId2"/>
          <a:stretch/>
        </p:blipFill>
        <p:spPr>
          <a:xfrm rot="5400000">
            <a:off x="-907560" y="3555000"/>
            <a:ext cx="7992360" cy="3024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4"/>
          <p:cNvGrpSpPr/>
          <p:nvPr/>
        </p:nvGrpSpPr>
        <p:grpSpPr>
          <a:xfrm>
            <a:off x="9319320" y="451080"/>
            <a:ext cx="840240" cy="868320"/>
            <a:chOff x="9319320" y="451080"/>
            <a:chExt cx="840240" cy="868320"/>
          </a:xfrm>
        </p:grpSpPr>
        <p:sp>
          <p:nvSpPr>
            <p:cNvPr id="347" name="AutoShape 3"/>
            <p:cNvSpPr/>
            <p:nvPr/>
          </p:nvSpPr>
          <p:spPr>
            <a:xfrm rot="4282200">
              <a:off x="9390960" y="55908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5"/>
            <p:cNvSpPr/>
            <p:nvPr/>
          </p:nvSpPr>
          <p:spPr>
            <a:xfrm rot="4282200">
              <a:off x="9453960" y="81504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 rot="4282200">
              <a:off x="9645480" y="96444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 rot="4282200">
              <a:off x="9865080" y="81972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 rot="4282200">
              <a:off x="9768960" y="56196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 rot="4282200">
              <a:off x="9472680" y="60228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4"/>
          <p:cNvGrpSpPr/>
          <p:nvPr/>
        </p:nvGrpSpPr>
        <p:grpSpPr>
          <a:xfrm>
            <a:off x="3432240" y="5929920"/>
            <a:ext cx="461160" cy="459720"/>
            <a:chOff x="3432240" y="5929920"/>
            <a:chExt cx="461160" cy="459720"/>
          </a:xfrm>
        </p:grpSpPr>
        <p:sp>
          <p:nvSpPr>
            <p:cNvPr id="354" name="AutoShape 3"/>
            <p:cNvSpPr/>
            <p:nvPr/>
          </p:nvSpPr>
          <p:spPr>
            <a:xfrm rot="2553000">
              <a:off x="3494520" y="6001920"/>
              <a:ext cx="3366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5"/>
            <p:cNvSpPr/>
            <p:nvPr/>
          </p:nvSpPr>
          <p:spPr>
            <a:xfrm rot="2553000">
              <a:off x="3552120" y="6159240"/>
              <a:ext cx="118440" cy="1400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6"/>
            <p:cNvSpPr/>
            <p:nvPr/>
          </p:nvSpPr>
          <p:spPr>
            <a:xfrm rot="2553000">
              <a:off x="3661560" y="6175440"/>
              <a:ext cx="134640" cy="1177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 rot="2553000">
              <a:off x="3720600" y="6069240"/>
              <a:ext cx="110160" cy="110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 rot="2553000">
              <a:off x="3621960" y="5983920"/>
              <a:ext cx="102600" cy="117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 rot="2553000">
              <a:off x="3500640" y="6062040"/>
              <a:ext cx="139320" cy="1047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oup 12"/>
          <p:cNvGrpSpPr/>
          <p:nvPr/>
        </p:nvGrpSpPr>
        <p:grpSpPr>
          <a:xfrm>
            <a:off x="965880" y="5882760"/>
            <a:ext cx="981360" cy="908640"/>
            <a:chOff x="965880" y="5882760"/>
            <a:chExt cx="981360" cy="908640"/>
          </a:xfrm>
        </p:grpSpPr>
        <p:sp>
          <p:nvSpPr>
            <p:cNvPr id="361" name="AutoShape 11"/>
            <p:cNvSpPr/>
            <p:nvPr/>
          </p:nvSpPr>
          <p:spPr>
            <a:xfrm rot="15432000">
              <a:off x="1101600" y="5902920"/>
              <a:ext cx="686160" cy="8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 rot="15432000">
              <a:off x="1085760" y="5918040"/>
              <a:ext cx="741240" cy="83808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Group 12"/>
          <p:cNvGrpSpPr/>
          <p:nvPr/>
        </p:nvGrpSpPr>
        <p:grpSpPr>
          <a:xfrm>
            <a:off x="456480" y="5619600"/>
            <a:ext cx="477720" cy="540000"/>
            <a:chOff x="456480" y="5619600"/>
            <a:chExt cx="477720" cy="540000"/>
          </a:xfrm>
        </p:grpSpPr>
        <p:sp>
          <p:nvSpPr>
            <p:cNvPr id="364" name="AutoShape 11"/>
            <p:cNvSpPr/>
            <p:nvPr/>
          </p:nvSpPr>
          <p:spPr>
            <a:xfrm>
              <a:off x="492120" y="5622480"/>
              <a:ext cx="4420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3"/>
            <p:cNvSpPr/>
            <p:nvPr/>
          </p:nvSpPr>
          <p:spPr>
            <a:xfrm>
              <a:off x="456480" y="5619600"/>
              <a:ext cx="477720" cy="5400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Group 12"/>
          <p:cNvGrpSpPr/>
          <p:nvPr/>
        </p:nvGrpSpPr>
        <p:grpSpPr>
          <a:xfrm>
            <a:off x="1541880" y="5068800"/>
            <a:ext cx="497160" cy="549720"/>
            <a:chOff x="1541880" y="5068800"/>
            <a:chExt cx="497160" cy="549720"/>
          </a:xfrm>
        </p:grpSpPr>
        <p:sp>
          <p:nvSpPr>
            <p:cNvPr id="367" name="AutoShape 11"/>
            <p:cNvSpPr/>
            <p:nvPr/>
          </p:nvSpPr>
          <p:spPr>
            <a:xfrm flipV="1" rot="21274800">
              <a:off x="1599120" y="5096520"/>
              <a:ext cx="4172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 flipV="1" rot="21274800">
              <a:off x="1564920" y="5088240"/>
              <a:ext cx="450720" cy="50940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-36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Group 12"/>
          <p:cNvGrpSpPr/>
          <p:nvPr/>
        </p:nvGrpSpPr>
        <p:grpSpPr>
          <a:xfrm>
            <a:off x="11353320" y="6298560"/>
            <a:ext cx="497520" cy="465840"/>
            <a:chOff x="11353320" y="6298560"/>
            <a:chExt cx="497520" cy="465840"/>
          </a:xfrm>
        </p:grpSpPr>
        <p:sp>
          <p:nvSpPr>
            <p:cNvPr id="370" name="AutoShape 11"/>
            <p:cNvSpPr/>
            <p:nvPr/>
          </p:nvSpPr>
          <p:spPr>
            <a:xfrm rot="17215200">
              <a:off x="11435400" y="6317640"/>
              <a:ext cx="3355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3"/>
            <p:cNvSpPr/>
            <p:nvPr/>
          </p:nvSpPr>
          <p:spPr>
            <a:xfrm rot="17215200">
              <a:off x="11420640" y="6326280"/>
              <a:ext cx="362520" cy="40968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文本框 31"/>
          <p:cNvSpPr/>
          <p:nvPr/>
        </p:nvSpPr>
        <p:spPr>
          <a:xfrm>
            <a:off x="3253320" y="1597680"/>
            <a:ext cx="6757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本模板采用字体为方正苏新诗柳楷简体仅用来交流使用 请勿商用 如果使用该字体请购买正版 谢谢合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32"/>
          <p:cNvSpPr/>
          <p:nvPr/>
        </p:nvSpPr>
        <p:spPr>
          <a:xfrm>
            <a:off x="4158000" y="539640"/>
            <a:ext cx="4829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写下您的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9680760" y="1611720"/>
            <a:ext cx="595800" cy="615600"/>
            <a:chOff x="9680760" y="1611720"/>
            <a:chExt cx="595800" cy="615600"/>
          </a:xfrm>
        </p:grpSpPr>
        <p:sp>
          <p:nvSpPr>
            <p:cNvPr id="375" name="AutoShape 3"/>
            <p:cNvSpPr/>
            <p:nvPr/>
          </p:nvSpPr>
          <p:spPr>
            <a:xfrm rot="4282200">
              <a:off x="9731520" y="1688400"/>
              <a:ext cx="4939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5"/>
            <p:cNvSpPr/>
            <p:nvPr/>
          </p:nvSpPr>
          <p:spPr>
            <a:xfrm rot="4282200">
              <a:off x="9776160" y="1869840"/>
              <a:ext cx="174240" cy="2055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6"/>
            <p:cNvSpPr/>
            <p:nvPr/>
          </p:nvSpPr>
          <p:spPr>
            <a:xfrm rot="4282200">
              <a:off x="9911880" y="1975680"/>
              <a:ext cx="197640" cy="1731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7"/>
            <p:cNvSpPr/>
            <p:nvPr/>
          </p:nvSpPr>
          <p:spPr>
            <a:xfrm rot="4282200">
              <a:off x="10068120" y="1873080"/>
              <a:ext cx="161640" cy="1616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 rot="4282200">
              <a:off x="9999360" y="1690560"/>
              <a:ext cx="150480" cy="1731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9"/>
            <p:cNvSpPr/>
            <p:nvPr/>
          </p:nvSpPr>
          <p:spPr>
            <a:xfrm rot="4282200">
              <a:off x="9789480" y="1719000"/>
              <a:ext cx="204480" cy="153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4795200" y="2170080"/>
            <a:ext cx="2627280" cy="2517480"/>
          </a:xfrm>
          <a:prstGeom prst="rect">
            <a:avLst/>
          </a:prstGeom>
          <a:ln w="0">
            <a:noFill/>
          </a:ln>
        </p:spPr>
      </p:pic>
      <p:sp>
        <p:nvSpPr>
          <p:cNvPr id="382" name="文本框 2"/>
          <p:cNvSpPr/>
          <p:nvPr/>
        </p:nvSpPr>
        <p:spPr>
          <a:xfrm>
            <a:off x="5336280" y="3039480"/>
            <a:ext cx="7722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3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3"/>
          <p:cNvSpPr/>
          <p:nvPr/>
        </p:nvSpPr>
        <p:spPr>
          <a:xfrm>
            <a:off x="2949480" y="2653920"/>
            <a:ext cx="6950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写下您的目录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8896680" y="2144880"/>
            <a:ext cx="840240" cy="868320"/>
            <a:chOff x="8896680" y="2144880"/>
            <a:chExt cx="840240" cy="868320"/>
          </a:xfrm>
        </p:grpSpPr>
        <p:sp>
          <p:nvSpPr>
            <p:cNvPr id="385" name="AutoShape 3"/>
            <p:cNvSpPr/>
            <p:nvPr/>
          </p:nvSpPr>
          <p:spPr>
            <a:xfrm rot="4282200">
              <a:off x="8968320" y="225288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5"/>
            <p:cNvSpPr/>
            <p:nvPr/>
          </p:nvSpPr>
          <p:spPr>
            <a:xfrm rot="4282200">
              <a:off x="9031320" y="250884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6"/>
            <p:cNvSpPr/>
            <p:nvPr/>
          </p:nvSpPr>
          <p:spPr>
            <a:xfrm rot="4282200">
              <a:off x="9222840" y="265860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 rot="4282200">
              <a:off x="9442440" y="251352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 rot="4282200">
              <a:off x="9346680" y="225576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 rot="4282200">
              <a:off x="9050040" y="229608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5255280" y="5091480"/>
            <a:ext cx="478800" cy="434880"/>
            <a:chOff x="5255280" y="5091480"/>
            <a:chExt cx="478800" cy="434880"/>
          </a:xfrm>
        </p:grpSpPr>
        <p:sp>
          <p:nvSpPr>
            <p:cNvPr id="392" name="AutoShape 11"/>
            <p:cNvSpPr/>
            <p:nvPr/>
          </p:nvSpPr>
          <p:spPr>
            <a:xfrm rot="15778800">
              <a:off x="5311800" y="5082840"/>
              <a:ext cx="356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 rot="15778800">
              <a:off x="5302440" y="5091480"/>
              <a:ext cx="384480" cy="43488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Group 12"/>
          <p:cNvGrpSpPr/>
          <p:nvPr/>
        </p:nvGrpSpPr>
        <p:grpSpPr>
          <a:xfrm>
            <a:off x="5880600" y="5354640"/>
            <a:ext cx="167760" cy="152280"/>
            <a:chOff x="5880600" y="5354640"/>
            <a:chExt cx="167760" cy="152280"/>
          </a:xfrm>
        </p:grpSpPr>
        <p:sp>
          <p:nvSpPr>
            <p:cNvPr id="395" name="AutoShape 11"/>
            <p:cNvSpPr/>
            <p:nvPr/>
          </p:nvSpPr>
          <p:spPr>
            <a:xfrm flipV="1" rot="16621200">
              <a:off x="5903640" y="5351760"/>
              <a:ext cx="12456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3"/>
            <p:cNvSpPr/>
            <p:nvPr/>
          </p:nvSpPr>
          <p:spPr>
            <a:xfrm flipV="1" rot="16621200">
              <a:off x="5897160" y="5354280"/>
              <a:ext cx="134640" cy="1522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Group 4"/>
          <p:cNvGrpSpPr/>
          <p:nvPr/>
        </p:nvGrpSpPr>
        <p:grpSpPr>
          <a:xfrm>
            <a:off x="6078240" y="4672080"/>
            <a:ext cx="347040" cy="358560"/>
            <a:chOff x="6078240" y="4672080"/>
            <a:chExt cx="347040" cy="358560"/>
          </a:xfrm>
        </p:grpSpPr>
        <p:sp>
          <p:nvSpPr>
            <p:cNvPr id="398" name="AutoShape 3"/>
            <p:cNvSpPr/>
            <p:nvPr/>
          </p:nvSpPr>
          <p:spPr>
            <a:xfrm flipV="1" rot="15082200">
              <a:off x="6107760" y="4716720"/>
              <a:ext cx="2876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5"/>
            <p:cNvSpPr/>
            <p:nvPr/>
          </p:nvSpPr>
          <p:spPr>
            <a:xfrm flipV="1" rot="15082200">
              <a:off x="6129000" y="4807440"/>
              <a:ext cx="101160" cy="1191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119160"/>
                <a:gd name="textAreaBottom" fmla="*/ 119160 h 119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6"/>
            <p:cNvSpPr/>
            <p:nvPr/>
          </p:nvSpPr>
          <p:spPr>
            <a:xfrm flipV="1" rot="15082200">
              <a:off x="6158520" y="4722840"/>
              <a:ext cx="115200" cy="100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360 h 100800"/>
                <a:gd name="textAreaBottom" fmla="*/ 101520 h 1008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7"/>
            <p:cNvSpPr/>
            <p:nvPr/>
          </p:nvSpPr>
          <p:spPr>
            <a:xfrm flipV="1" rot="15082200">
              <a:off x="6271200" y="4727520"/>
              <a:ext cx="93960" cy="943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360 h 94320"/>
                <a:gd name="textAreaBottom" fmla="*/ 95040 h 943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flipV="1" rot="15082200">
              <a:off x="6302520" y="4832640"/>
              <a:ext cx="87480" cy="100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360 h 100800"/>
                <a:gd name="textAreaBottom" fmla="*/ 101520 h 1008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9"/>
            <p:cNvSpPr/>
            <p:nvPr/>
          </p:nvSpPr>
          <p:spPr>
            <a:xfrm flipV="1" rot="15082200">
              <a:off x="6194880" y="4893480"/>
              <a:ext cx="119160" cy="896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-36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Group 4"/>
          <p:cNvGrpSpPr/>
          <p:nvPr/>
        </p:nvGrpSpPr>
        <p:grpSpPr>
          <a:xfrm>
            <a:off x="475560" y="373680"/>
            <a:ext cx="896040" cy="915840"/>
            <a:chOff x="475560" y="373680"/>
            <a:chExt cx="896040" cy="915840"/>
          </a:xfrm>
        </p:grpSpPr>
        <p:sp>
          <p:nvSpPr>
            <p:cNvPr id="405" name="AutoShape 3"/>
            <p:cNvSpPr/>
            <p:nvPr/>
          </p:nvSpPr>
          <p:spPr>
            <a:xfrm rot="7009200">
              <a:off x="574920" y="50544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5"/>
            <p:cNvSpPr/>
            <p:nvPr/>
          </p:nvSpPr>
          <p:spPr>
            <a:xfrm rot="7009200">
              <a:off x="633240" y="62280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7009200">
              <a:off x="672120" y="88272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7"/>
            <p:cNvSpPr/>
            <p:nvPr/>
          </p:nvSpPr>
          <p:spPr>
            <a:xfrm rot="7009200">
              <a:off x="943200" y="92232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8"/>
            <p:cNvSpPr/>
            <p:nvPr/>
          </p:nvSpPr>
          <p:spPr>
            <a:xfrm rot="7009200">
              <a:off x="1055880" y="66528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7009200">
              <a:off x="817560" y="51336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  <Words>332</Words>
  <Paragraphs>46</Paragraphs>
  <Company>http:/sdwm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6T11:00:03Z</dcterms:created>
  <dc:creator>陈祎</dc:creator>
  <dc:description/>
  <dc:language>en-US</dc:language>
  <cp:lastModifiedBy>王玉清</cp:lastModifiedBy>
  <dcterms:modified xsi:type="dcterms:W3CDTF">2016-03-07T02:45:24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5</vt:r8>
  </property>
</Properties>
</file>