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33cccc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24380617"/>
        <c:axId val="12994834"/>
      </c:barChart>
      <c:catAx>
        <c:axId val="24380617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12994834"/>
        <c:crosses val="autoZero"/>
        <c:auto val="1"/>
        <c:lblAlgn val="ctr"/>
        <c:lblOffset val="100"/>
        <c:noMultiLvlLbl val="0"/>
      </c:catAx>
      <c:valAx>
        <c:axId val="12994834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24380617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FE1AB3-46FB-4A0B-8768-721689735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7B5C9B-5197-4A4A-B705-B9F85C24D45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21684-1440-40C8-83C2-4528EFB963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D7834-41C2-446D-A3F3-40DDB447B7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D4677C-DBBA-46F6-B5B3-DB47809FB3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F03DFA-FB3F-48CF-9052-94D919AABB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纯文本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6D2A9-FE39-4622-8955-31F492224E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9AB4F3-6BB1-4EDB-92CC-E7BC6E971B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1D9-258A-427E-9567-B1BFF97F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85B-603E-4BDD-8D6A-2DB0897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261-13E8-4203-94A5-040D9EE3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4AE-04AB-438B-B598-1C29E5C1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D56-F929-48F5-A27F-14D7F196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328-D0F6-462A-A0FC-1334F0A5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170-DFA1-4AA2-BE2B-8687A0E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19A-E23F-4923-B54C-A86B707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10A-A2B2-4407-A560-321379D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533-FD35-451F-8F72-7E10BA2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431-E98F-4525-8E60-7289F5C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5A2-F362-458E-A0B7-05BB71C3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38EC23-6DA1-4B31-8414-E95782FCDAC5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48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9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50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51" name="组合 2"/>
          <p:cNvGrpSpPr/>
          <p:nvPr/>
        </p:nvGrpSpPr>
        <p:grpSpPr>
          <a:xfrm>
            <a:off x="-148320" y="3357000"/>
            <a:ext cx="5723280" cy="2061360"/>
            <a:chOff x="-148320" y="3357000"/>
            <a:chExt cx="5723280" cy="2061360"/>
          </a:xfrm>
        </p:grpSpPr>
        <p:sp>
          <p:nvSpPr>
            <p:cNvPr id="52" name="TextBox 27"/>
            <p:cNvSpPr/>
            <p:nvPr/>
          </p:nvSpPr>
          <p:spPr>
            <a:xfrm>
              <a:off x="-148320" y="3357000"/>
              <a:ext cx="5013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简洁通用的商务汇报类</a:t>
              </a:r>
              <a:r>
                <a:rPr b="1" lang="en-US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模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1"/>
            <p:cNvSpPr/>
            <p:nvPr/>
          </p:nvSpPr>
          <p:spPr>
            <a:xfrm>
              <a:off x="439200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2"/>
            <p:cNvSpPr/>
            <p:nvPr/>
          </p:nvSpPr>
          <p:spPr>
            <a:xfrm>
              <a:off x="454032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56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7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8" name="椭圆 1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61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33cccc"/>
              </a:solidFill>
              <a:round/>
            </a:ln>
          </p:spPr>
        </p:cxnSp>
        <p:sp>
          <p:nvSpPr>
            <p:cNvPr id="62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泪滴形 39"/>
          <p:cNvSpPr/>
          <p:nvPr/>
        </p:nvSpPr>
        <p:spPr>
          <a:xfrm rot="5400000">
            <a:off x="360" y="-1574640"/>
            <a:ext cx="3329640" cy="3329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79" name="泪滴形 40"/>
          <p:cNvSpPr/>
          <p:nvPr/>
        </p:nvSpPr>
        <p:spPr>
          <a:xfrm rot="5400000">
            <a:off x="500040" y="-1443600"/>
            <a:ext cx="2991960" cy="299196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81480" y="11055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连接符 4"/>
          <p:cNvCxnSpPr/>
          <p:nvPr/>
        </p:nvCxnSpPr>
        <p:spPr>
          <a:xfrm flipV="1">
            <a:off x="3347640" y="-819360"/>
            <a:ext cx="360" cy="2376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2" name="泪滴形 49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4" name="泪滴形 51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259640" y="332640"/>
            <a:ext cx="1126080" cy="11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平行四边形 24"/>
          <p:cNvSpPr/>
          <p:nvPr/>
        </p:nvSpPr>
        <p:spPr>
          <a:xfrm>
            <a:off x="395640" y="548640"/>
            <a:ext cx="849672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7" name="泪滴形 18"/>
          <p:cNvSpPr/>
          <p:nvPr/>
        </p:nvSpPr>
        <p:spPr>
          <a:xfrm rot="10800000">
            <a:off x="453240" y="3783240"/>
            <a:ext cx="2808000" cy="280800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8" name="泪滴形 19"/>
          <p:cNvSpPr/>
          <p:nvPr/>
        </p:nvSpPr>
        <p:spPr>
          <a:xfrm rot="10800000">
            <a:off x="900000" y="3861720"/>
            <a:ext cx="2522880" cy="252288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090560" y="1628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泪滴形 22"/>
          <p:cNvSpPr/>
          <p:nvPr/>
        </p:nvSpPr>
        <p:spPr>
          <a:xfrm>
            <a:off x="395640" y="54864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33cccc"/>
          </a:solidFill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73b0"/>
              </a:solidFill>
              <a:latin typeface="Franklin Gothic Book"/>
              <a:ea typeface="微软雅黑"/>
            </a:endParaRPr>
          </a:p>
        </p:txBody>
      </p:sp>
      <p:sp>
        <p:nvSpPr>
          <p:cNvPr id="91" name="泪滴形 23"/>
          <p:cNvSpPr/>
          <p:nvPr/>
        </p:nvSpPr>
        <p:spPr>
          <a:xfrm>
            <a:off x="971640" y="54864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240320" y="1772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939480" y="2284200"/>
            <a:ext cx="4664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588360" y="3501000"/>
            <a:ext cx="18720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30"/>
          <p:cNvCxnSpPr/>
          <p:nvPr/>
        </p:nvCxnSpPr>
        <p:spPr>
          <a:xfrm>
            <a:off x="1403640" y="548640"/>
            <a:ext cx="7489080" cy="360"/>
          </a:xfrm>
          <a:prstGeom prst="straightConnector1">
            <a:avLst/>
          </a:prstGeom>
          <a:ln w="12700">
            <a:solidFill>
              <a:srgbClr val="297fd5"/>
            </a:solidFill>
            <a:round/>
          </a:ln>
        </p:spPr>
      </p:cxnSp>
      <p:cxnSp>
        <p:nvCxnSpPr>
          <p:cNvPr id="96" name="直接连接符 31"/>
          <p:cNvCxnSpPr/>
          <p:nvPr/>
        </p:nvCxnSpPr>
        <p:spPr>
          <a:xfrm>
            <a:off x="8748720" y="1914120"/>
            <a:ext cx="360" cy="2451240"/>
          </a:xfrm>
          <a:prstGeom prst="straightConnector1">
            <a:avLst/>
          </a:prstGeom>
          <a:ln w="9525">
            <a:solidFill>
              <a:srgbClr val="33cccc"/>
            </a:solidFill>
            <a:round/>
          </a:ln>
        </p:spPr>
      </p:cxnSp>
      <p:sp>
        <p:nvSpPr>
          <p:cNvPr id="97" name="泪滴形 33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8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9" name="泪滴形 3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62080" y="4077360"/>
            <a:ext cx="20415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30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3" name="泪滴形 37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4" name="泪滴形 25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05" name="图表 31"/>
          <p:cNvGraphicFramePr/>
          <p:nvPr/>
        </p:nvGraphicFramePr>
        <p:xfrm>
          <a:off x="395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6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4212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2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09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10" name="泪滴形 2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11" name="直接连接符 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4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5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8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40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19" name="矩形 41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827640" y="1700640"/>
            <a:ext cx="3024000" cy="3960000"/>
          </a:xfrm>
          <a:prstGeom prst="rect">
            <a:avLst/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3996000" y="168336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3996000" y="374580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泪滴形 28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26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7" name="泪滴形 30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8" name="平行四边形 31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9" name="泪滴形 32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泪滴形 33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cxnSp>
        <p:nvCxnSpPr>
          <p:cNvPr id="131" name="直接连接符 39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sp>
        <p:nvSpPr>
          <p:cNvPr id="132" name="矩形 40"/>
          <p:cNvSpPr/>
          <p:nvPr/>
        </p:nvSpPr>
        <p:spPr>
          <a:xfrm>
            <a:off x="3996000" y="486900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43"/>
          <p:cNvSpPr/>
          <p:nvPr/>
        </p:nvSpPr>
        <p:spPr>
          <a:xfrm>
            <a:off x="3996000" y="262224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4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5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7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41" name="矩形 48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9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0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0"/>
          <p:cNvSpPr/>
          <p:nvPr/>
        </p:nvSpPr>
        <p:spPr>
          <a:xfrm>
            <a:off x="971640" y="3645000"/>
            <a:ext cx="7776360" cy="2304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37800" y="620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1403640" y="3789000"/>
            <a:ext cx="7200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6"/>
          <p:cNvSpPr/>
          <p:nvPr/>
        </p:nvSpPr>
        <p:spPr>
          <a:xfrm>
            <a:off x="971640" y="2133000"/>
            <a:ext cx="7776360" cy="1367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1403640" y="2259360"/>
            <a:ext cx="72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8"/>
          <p:cNvSpPr/>
          <p:nvPr/>
        </p:nvSpPr>
        <p:spPr>
          <a:xfrm>
            <a:off x="899640" y="1556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 u="sng">
                <a:solidFill>
                  <a:srgbClr val="0070c0"/>
                </a:solidFill>
                <a:uFillTx/>
                <a:latin typeface="Franklin Gothic Book"/>
                <a:ea typeface="微软雅黑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9"/>
          <p:cNvSpPr/>
          <p:nvPr/>
        </p:nvSpPr>
        <p:spPr>
          <a:xfrm>
            <a:off x="1403640" y="548640"/>
            <a:ext cx="7488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1" name="泪滴形 40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2" name="泪滴形 41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6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48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59" name="矩形 49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0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泪滴形 5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4" name="泪滴形 5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65" name="直接连接符 5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467640" y="65034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69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1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3712680" y="3933000"/>
            <a:ext cx="1704960" cy="1485360"/>
            <a:chOff x="3712680" y="3933000"/>
            <a:chExt cx="1704960" cy="1485360"/>
          </a:xfrm>
        </p:grpSpPr>
        <p:sp>
          <p:nvSpPr>
            <p:cNvPr id="173" name="TextBox 27"/>
            <p:cNvSpPr/>
            <p:nvPr/>
          </p:nvSpPr>
          <p:spPr>
            <a:xfrm>
              <a:off x="3712680" y="3933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394488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409320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8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9" name="椭圆 14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d73b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  <Words>728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a</cp:lastModifiedBy>
  <dcterms:modified xsi:type="dcterms:W3CDTF">2015-07-25T12:18:50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