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A37FE-9F61-4831-8BEF-29AAD0AF0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840" y="40309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3E7C-8165-463C-AE41-F51E46292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84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5200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EF47B-EEF9-4F6A-A278-1083E0BA6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90760" y="15235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4680" y="15235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6840" y="4030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90760" y="4030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4680" y="4030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A4495-7612-46DD-BDD6-82B726BB3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62000" y="151920"/>
            <a:ext cx="6095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8746A-5E36-4DF8-8D83-AF061D464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5200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309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840" y="40309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5200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760" y="15235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4680" y="15235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6840" y="4030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760" y="4030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4680" y="4030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53A1C-2564-4C2C-A668-E0906BDAD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A656C-1E50-475C-90EC-54710899F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D4BC4-D580-4BC6-966A-A897D9C2F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862000" y="151920"/>
            <a:ext cx="6095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DD943-FA65-4D56-AFFB-FA335309B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8C25-0182-46C0-9E5A-3A41EF8DF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5200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433C9-CECA-477E-A9C2-9CC5AC9BF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309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EFF53-00CB-454F-8519-373EE3826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708360" y="3024360"/>
            <a:ext cx="5435640" cy="3833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25360"/>
            <a:ext cx="284328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095480"/>
            <a:ext cx="914400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907920"/>
            <a:ext cx="9143640" cy="144360"/>
            <a:chOff x="0" y="907920"/>
            <a:chExt cx="9143640" cy="144360"/>
          </a:xfrm>
        </p:grpSpPr>
        <p:sp>
          <p:nvSpPr>
            <p:cNvPr id="5" name=""/>
            <p:cNvSpPr/>
            <p:nvPr/>
          </p:nvSpPr>
          <p:spPr>
            <a:xfrm>
              <a:off x="0" y="90792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97920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522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-9360" y="-9360"/>
            <a:ext cx="2852640" cy="11048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c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2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AEE5-A347-4527-BD5F-99CBB63C07E1}" type="slidenum">
              <a:rPr b="1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660760"/>
            <a:ext cx="9144000" cy="1206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741760"/>
            <a:ext cx="7308720" cy="6570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353160" y="304920"/>
            <a:ext cx="1204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828800" y="1981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dddd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040" y="7650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计算机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269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270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762120" y="2685960"/>
              <a:ext cx="1932120" cy="3265200"/>
              <a:chOff x="762120" y="2685960"/>
              <a:chExt cx="1932120" cy="326520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1167480" y="3525480"/>
                <a:ext cx="1526760" cy="2425680"/>
                <a:chOff x="1167480" y="3525480"/>
                <a:chExt cx="1526760" cy="2425680"/>
              </a:xfrm>
            </p:grpSpPr>
            <p:grpSp>
              <p:nvGrpSpPr>
                <p:cNvPr id="274" name=""/>
                <p:cNvGrpSpPr/>
                <p:nvPr/>
              </p:nvGrpSpPr>
              <p:grpSpPr>
                <a:xfrm>
                  <a:off x="1167480" y="3683520"/>
                  <a:ext cx="1420920" cy="2267640"/>
                  <a:chOff x="1167480" y="3683520"/>
                  <a:chExt cx="1420920" cy="226764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rot="3876600">
                    <a:off x="73980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rot="3876600">
                    <a:off x="210744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1603800" y="3525480"/>
                  <a:ext cx="1090440" cy="1740240"/>
                  <a:chOff x="1603800" y="3525480"/>
                  <a:chExt cx="1090440" cy="174024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flipV="1" rot="3876600">
                    <a:off x="1275480" y="42062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V="1" rot="3876600">
                    <a:off x="2309040" y="48880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0" name=""/>
              <p:cNvGrpSpPr/>
              <p:nvPr/>
            </p:nvGrpSpPr>
            <p:grpSpPr>
              <a:xfrm>
                <a:off x="762120" y="2685960"/>
                <a:ext cx="1271520" cy="1310040"/>
                <a:chOff x="762120" y="2685960"/>
                <a:chExt cx="1271520" cy="13100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463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463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9007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"/>
                <p:cNvGrpSpPr/>
                <p:nvPr/>
              </p:nvGrpSpPr>
              <p:grpSpPr>
                <a:xfrm>
                  <a:off x="916200" y="2844720"/>
                  <a:ext cx="963000" cy="993600"/>
                  <a:chOff x="916200" y="2844720"/>
                  <a:chExt cx="963000" cy="9936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9162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9284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9385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9907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1" name=""/>
              <p:cNvSpPr/>
              <p:nvPr/>
            </p:nvSpPr>
            <p:spPr>
              <a:xfrm rot="3925800">
                <a:off x="112968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3925800">
                <a:off x="158976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2913480" y="3525840"/>
                <a:ext cx="1526760" cy="2425320"/>
                <a:chOff x="2913480" y="3525840"/>
                <a:chExt cx="1526760" cy="242532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2913480" y="3683520"/>
                  <a:ext cx="1420920" cy="2267640"/>
                  <a:chOff x="2913480" y="3683520"/>
                  <a:chExt cx="1420920" cy="226764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 rot="3876600">
                    <a:off x="248580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rot="3876600">
                    <a:off x="385344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3350160" y="3525840"/>
                  <a:ext cx="1090080" cy="1739880"/>
                  <a:chOff x="3350160" y="3525840"/>
                  <a:chExt cx="1090080" cy="173988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 flipV="1" rot="3876600">
                    <a:off x="3021840" y="420624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V="1" rot="3876600">
                    <a:off x="4055400" y="48877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1" name=""/>
              <p:cNvGrpSpPr/>
              <p:nvPr/>
            </p:nvGrpSpPr>
            <p:grpSpPr>
              <a:xfrm>
                <a:off x="2509920" y="2685960"/>
                <a:ext cx="1271520" cy="1310040"/>
                <a:chOff x="2509920" y="2685960"/>
                <a:chExt cx="1271520" cy="13100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5941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5941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6485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2664000" y="2844720"/>
                  <a:ext cx="963000" cy="993600"/>
                  <a:chOff x="2664000" y="2844720"/>
                  <a:chExt cx="963000" cy="99360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26640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6762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6863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7385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2" name=""/>
              <p:cNvSpPr/>
              <p:nvPr/>
            </p:nvSpPr>
            <p:spPr>
              <a:xfrm rot="3925800">
                <a:off x="287172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925800">
                <a:off x="333144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4718520" y="3525480"/>
                <a:ext cx="1526760" cy="2425680"/>
                <a:chOff x="4718520" y="3525480"/>
                <a:chExt cx="1526760" cy="242568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4718520" y="3683520"/>
                  <a:ext cx="1420920" cy="2267640"/>
                  <a:chOff x="4718520" y="3683520"/>
                  <a:chExt cx="1420920" cy="226764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rot="3876600">
                    <a:off x="429084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rot="3876600">
                    <a:off x="565848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5154840" y="3525480"/>
                  <a:ext cx="1090440" cy="1740240"/>
                  <a:chOff x="5154840" y="3525480"/>
                  <a:chExt cx="1090440" cy="174024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 flipV="1" rot="3876600">
                    <a:off x="4826520" y="42062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V="1" rot="3876600">
                    <a:off x="5860080" y="48880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2" name=""/>
              <p:cNvGrpSpPr/>
              <p:nvPr/>
            </p:nvGrpSpPr>
            <p:grpSpPr>
              <a:xfrm>
                <a:off x="4313160" y="2685960"/>
                <a:ext cx="1273320" cy="1310040"/>
                <a:chOff x="4313160" y="2685960"/>
                <a:chExt cx="1273320" cy="13100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397400" y="277092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397400" y="277380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452120" y="2828880"/>
                  <a:ext cx="99504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328" name=""/>
                <p:cNvGrpSpPr/>
                <p:nvPr/>
              </p:nvGrpSpPr>
              <p:grpSpPr>
                <a:xfrm>
                  <a:off x="4467240" y="2844720"/>
                  <a:ext cx="964440" cy="993600"/>
                  <a:chOff x="4467240" y="2844720"/>
                  <a:chExt cx="964440" cy="9936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4467240" y="2844720"/>
                    <a:ext cx="96444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4479480" y="2850120"/>
                    <a:ext cx="9410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4489560" y="2859840"/>
                    <a:ext cx="89496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541760" y="2885040"/>
                    <a:ext cx="79560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3" name=""/>
              <p:cNvSpPr/>
              <p:nvPr/>
            </p:nvSpPr>
            <p:spPr>
              <a:xfrm rot="3925800">
                <a:off x="468396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3925800">
                <a:off x="514404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089760" y="2541600"/>
              <a:ext cx="2122560" cy="3476160"/>
              <a:chOff x="6089760" y="2541600"/>
              <a:chExt cx="2122560" cy="347616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6685560" y="3592440"/>
                <a:ext cx="1526760" cy="2425320"/>
                <a:chOff x="6685560" y="3592440"/>
                <a:chExt cx="1526760" cy="2425320"/>
              </a:xfrm>
            </p:grpSpPr>
            <p:grpSp>
              <p:nvGrpSpPr>
                <p:cNvPr id="337" name=""/>
                <p:cNvGrpSpPr/>
                <p:nvPr/>
              </p:nvGrpSpPr>
              <p:grpSpPr>
                <a:xfrm>
                  <a:off x="6685560" y="3750120"/>
                  <a:ext cx="1420920" cy="2267640"/>
                  <a:chOff x="6685560" y="3750120"/>
                  <a:chExt cx="1420920" cy="226764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 rot="3876600">
                    <a:off x="6257880" y="46375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rot="3876600">
                    <a:off x="7625520" y="55166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7122240" y="3592440"/>
                  <a:ext cx="1090080" cy="1739880"/>
                  <a:chOff x="7122240" y="3592440"/>
                  <a:chExt cx="1090080" cy="173988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 flipV="1" rot="3876600">
                    <a:off x="6793920" y="427284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flipV="1" rot="3876600">
                    <a:off x="7827480" y="49543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3" name="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191280" y="2644920"/>
                <a:ext cx="1327320" cy="136368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193080" y="2647800"/>
                <a:ext cx="1326960" cy="136404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256800" y="2712960"/>
                <a:ext cx="1195200" cy="122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6275880" y="2732040"/>
                <a:ext cx="1158120" cy="1190520"/>
                <a:chOff x="6275880" y="2732040"/>
                <a:chExt cx="1158120" cy="11905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6275880" y="2732040"/>
                  <a:ext cx="1158120" cy="119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290640" y="2738520"/>
                  <a:ext cx="1130040" cy="116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302520" y="2750040"/>
                  <a:ext cx="1074960" cy="108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365520" y="2780280"/>
                  <a:ext cx="95544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 rot="3925800">
                <a:off x="6636960" y="4647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3925800">
                <a:off x="7095960" y="4366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356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cxnSp>
            <p:nvCxnSpPr>
              <p:cNvPr id="360" name=""/>
              <p:cNvCxnSpPr>
                <a:stCxn id="356" idx="3"/>
                <a:endCxn id="357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1" name=""/>
              <p:cNvCxnSpPr>
                <a:stCxn id="357" idx="3"/>
                <a:endCxn id="358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2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369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371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72b143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377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383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72b143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846000" y="2498760"/>
          <a:ext cx="7604280" cy="2919240"/>
        </p:xfrm>
        <a:graphic>
          <a:graphicData uri="http://schemas.openxmlformats.org/drawingml/2006/table">
            <a:tbl>
              <a:tblPr/>
              <a:tblGrid>
                <a:gridCol w="1714680"/>
                <a:gridCol w="1196640"/>
                <a:gridCol w="1173240"/>
                <a:gridCol w="1170000"/>
                <a:gridCol w="1179720"/>
                <a:gridCol w="1170000"/>
              </a:tblGrid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98" name=""/>
          <p:cNvSpPr/>
          <p:nvPr/>
        </p:nvSpPr>
        <p:spPr>
          <a:xfrm>
            <a:off x="755640" y="1701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d528d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1d528d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ff7c80"/>
                </a:solidFill>
                <a:uFillTx/>
                <a:latin typeface="Arial"/>
                <a:hlinkClick r:id="rId1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401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cfcfc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fea7a9"/>
                </a:gs>
                <a:gs pos="100000">
                  <a:srgbClr val="ff7c80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456b28"/>
                </a:gs>
                <a:gs pos="100000">
                  <a:srgbClr val="72b14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00536e"/>
                </a:gs>
                <a:gs pos="100000">
                  <a:srgbClr val="0099cc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413" name="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5a5a5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d528d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914400" y="1863720"/>
            <a:ext cx="7391520" cy="4156200"/>
            <a:chOff x="914400" y="1863720"/>
            <a:chExt cx="7391520" cy="4156200"/>
          </a:xfrm>
        </p:grpSpPr>
        <p:sp>
          <p:nvSpPr>
            <p:cNvPr id="422" name=""/>
            <p:cNvSpPr/>
            <p:nvPr/>
          </p:nvSpPr>
          <p:spPr>
            <a:xfrm>
              <a:off x="1905120" y="26258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18637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143"/>
                </a:gs>
                <a:gs pos="50000">
                  <a:srgbClr val="dbebd0"/>
                </a:gs>
                <a:gs pos="100000">
                  <a:srgbClr val="72b14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42480" y="323532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914400" y="4498920"/>
              <a:ext cx="1486080" cy="1514520"/>
              <a:chOff x="914400" y="4498920"/>
              <a:chExt cx="1486080" cy="151452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914400" y="4498920"/>
                <a:ext cx="1486080" cy="1514520"/>
                <a:chOff x="914400" y="4498920"/>
                <a:chExt cx="1486080" cy="15145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914400" y="44989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08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084320" y="45237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>
                <a:off x="1072440" y="52700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6781680" y="4454640"/>
              <a:ext cx="1524240" cy="1531800"/>
              <a:chOff x="6781680" y="4454640"/>
              <a:chExt cx="1524240" cy="153180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6781680" y="4454640"/>
                <a:ext cx="1524240" cy="1531800"/>
                <a:chOff x="6781680" y="4454640"/>
                <a:chExt cx="1524240" cy="15318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6781680" y="445464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955920" y="447984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6924600" y="516852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2819520" y="4498920"/>
              <a:ext cx="1523880" cy="1521000"/>
              <a:chOff x="2819520" y="4498920"/>
              <a:chExt cx="1523880" cy="152100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2819520" y="4498920"/>
                <a:ext cx="1523880" cy="1521000"/>
                <a:chOff x="2819520" y="4498920"/>
                <a:chExt cx="1523880" cy="15210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819520" y="44989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823f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993760" y="45241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7c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9" name=""/>
              <p:cNvSpPr/>
              <p:nvPr/>
            </p:nvSpPr>
            <p:spPr>
              <a:xfrm>
                <a:off x="2895840" y="52290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4876920" y="4454640"/>
              <a:ext cx="1523880" cy="1520640"/>
              <a:chOff x="4876920" y="4454640"/>
              <a:chExt cx="1523880" cy="152064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4876920" y="4454640"/>
                <a:ext cx="1523880" cy="1520640"/>
                <a:chOff x="4876920" y="4454640"/>
                <a:chExt cx="1523880" cy="152064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4876920" y="445464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b143"/>
                    </a:gs>
                    <a:gs pos="100000">
                      <a:srgbClr val="3a5a2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051160" y="447984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72b1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>
                <a:off x="4953240" y="5184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438280" y="2743200"/>
            <a:ext cx="4953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528d"/>
                    </a:gs>
                    <a:gs pos="100000">
                      <a:srgbClr val="0099cc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528d"/>
                  </a:gs>
                  <a:gs pos="100000">
                    <a:srgbClr val="0099cc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828800" y="1981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zh-CN" sz="2400" spc="-1" strike="noStrike">
              <a:solidFill>
                <a:srgbClr val="dddddd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d528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E59AC-8658-4A19-BB69-FF9B8AAF25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55600" y="163440"/>
            <a:ext cx="60022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7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c8e8f3"/>
                </a:gs>
                <a:gs pos="100000">
                  <a:srgbClr val="0099c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0099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2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2b143"/>
                </a:gs>
                <a:gs pos="50000">
                  <a:srgbClr val="e0edd6"/>
                </a:gs>
                <a:gs pos="100000">
                  <a:srgbClr val="72b14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72b14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7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7c80"/>
                </a:gs>
                <a:gs pos="50000">
                  <a:srgbClr val="fee2e3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ff7c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2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20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572a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72b143"/>
                </a:gs>
                <a:gs pos="100000">
                  <a:srgbClr val="23371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6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133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37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4511e"/>
                </a:gs>
                <a:gs pos="50000">
                  <a:srgbClr val="72b143"/>
                </a:gs>
                <a:gs pos="100000">
                  <a:srgbClr val="3451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57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58" name=""/>
              <p:cNvSpPr/>
              <p:nvPr/>
            </p:nvSpPr>
            <p:spPr>
              <a:xfrm flipH="1" rot="16200000">
                <a:off x="2927880" y="32554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5400000">
                <a:off x="5531400" y="32050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10800000">
                <a:off x="423936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305880" y="2209680"/>
                <a:ext cx="232920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438720" y="2344680"/>
                <a:ext cx="20624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ff7c80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894245"/>
                  </a:gs>
                  <a:gs pos="50000">
                    <a:srgbClr val="ff7c80"/>
                  </a:gs>
                  <a:gs pos="100000">
                    <a:srgbClr val="89424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511e"/>
                </a:gs>
                <a:gs pos="50000">
                  <a:srgbClr val="72b143"/>
                </a:gs>
                <a:gs pos="100000">
                  <a:srgbClr val="3451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511e"/>
                </a:gs>
                <a:gs pos="50000">
                  <a:srgbClr val="72b143"/>
                </a:gs>
                <a:gs pos="100000">
                  <a:srgbClr val="3451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511e"/>
                </a:gs>
                <a:gs pos="50000">
                  <a:srgbClr val="72b143"/>
                </a:gs>
                <a:gs pos="100000">
                  <a:srgbClr val="3451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183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197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65e"/>
                  </a:gs>
                  <a:gs pos="5000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393b"/>
                  </a:gs>
                  <a:gs pos="50000">
                    <a:srgbClr val="ff7c80"/>
                  </a:gs>
                  <a:gs pos="100000">
                    <a:srgbClr val="75393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4511e"/>
                  </a:gs>
                  <a:gs pos="50000">
                    <a:srgbClr val="72b143"/>
                  </a:gs>
                  <a:gs pos="100000">
                    <a:srgbClr val="34511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72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006e93"/>
                  </a:gs>
                  <a:gs pos="50000">
                    <a:srgbClr val="0099cc"/>
                  </a:gs>
                  <a:gs pos="100000">
                    <a:srgbClr val="006e9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b8595c"/>
                  </a:gs>
                  <a:gs pos="50000">
                    <a:srgbClr val="ff7c80"/>
                  </a:gs>
                  <a:gs pos="100000">
                    <a:srgbClr val="b8595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c6c6c"/>
                  </a:gs>
                  <a:gs pos="50000">
                    <a:srgbClr val="969696"/>
                  </a:gs>
                  <a:gs pos="100000">
                    <a:srgbClr val="6c6c6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527f30"/>
                  </a:gs>
                  <a:gs pos="50000">
                    <a:srgbClr val="72b143"/>
                  </a:gs>
                  <a:gs pos="100000">
                    <a:srgbClr val="527f3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1447920" y="1406520"/>
            <a:ext cx="5715000" cy="4842000"/>
            <a:chOff x="1447920" y="1406520"/>
            <a:chExt cx="5715000" cy="4842000"/>
          </a:xfrm>
        </p:grpSpPr>
        <p:sp>
          <p:nvSpPr>
            <p:cNvPr id="211" name=""/>
            <p:cNvSpPr/>
            <p:nvPr/>
          </p:nvSpPr>
          <p:spPr>
            <a:xfrm rot="13770000">
              <a:off x="4783320" y="399384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856000">
              <a:off x="2755800" y="351108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8394200">
              <a:off x="4918320" y="235548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719520" y="2389320"/>
              <a:ext cx="1652760" cy="1684080"/>
              <a:chOff x="3719520" y="2389320"/>
              <a:chExt cx="1652760" cy="168408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3719520" y="2389320"/>
                <a:ext cx="1652760" cy="1684080"/>
                <a:chOff x="3719520" y="2389320"/>
                <a:chExt cx="1652760" cy="1684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719520" y="238932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908160" y="241704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3826440" y="31215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166000" y="1406520"/>
              <a:ext cx="925200" cy="912960"/>
              <a:chOff x="5166000" y="1406520"/>
              <a:chExt cx="925200" cy="91296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5166000" y="1406520"/>
                <a:ext cx="894600" cy="912960"/>
                <a:chOff x="5166000" y="1406520"/>
                <a:chExt cx="894600" cy="9129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5166000" y="140652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b143"/>
                    </a:gs>
                    <a:gs pos="100000">
                      <a:srgbClr val="1b2a1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68240" y="142164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2b1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5181840" y="175716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447920" y="2739960"/>
              <a:ext cx="1790640" cy="1895400"/>
              <a:chOff x="1447920" y="2739960"/>
              <a:chExt cx="1790640" cy="189540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1447920" y="2739960"/>
                <a:ext cx="1790640" cy="1895400"/>
                <a:chOff x="1447920" y="2739960"/>
                <a:chExt cx="1790640" cy="18954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447920" y="273996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08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52400" y="277128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1564200" y="35823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5097600" y="4143240"/>
              <a:ext cx="2065320" cy="2105280"/>
              <a:chOff x="5097600" y="4143240"/>
              <a:chExt cx="2065320" cy="210528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5097600" y="4143240"/>
                <a:ext cx="2065320" cy="2105280"/>
                <a:chOff x="5097600" y="4143240"/>
                <a:chExt cx="2065320" cy="210528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097600" y="414324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823f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333400" y="417816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7c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5412600" y="50554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43560" y="1944720"/>
            <a:ext cx="7282440" cy="3770280"/>
            <a:chOff x="943560" y="1944720"/>
            <a:chExt cx="7282440" cy="3770280"/>
          </a:xfrm>
        </p:grpSpPr>
        <p:sp>
          <p:nvSpPr>
            <p:cNvPr id="237" name=""/>
            <p:cNvSpPr/>
            <p:nvPr/>
          </p:nvSpPr>
          <p:spPr>
            <a:xfrm rot="17973000">
              <a:off x="4750560" y="26485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3465600">
              <a:off x="4801320" y="47584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4368800">
              <a:off x="3582000" y="267084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7534800">
              <a:off x="3543840" y="47250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84880" y="372744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0800000">
              <a:off x="2974680" y="372060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95680" y="197028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47040" y="1944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57960" y="1944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61440" y="36972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47040" y="52974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43560" y="36972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81640" y="5235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52760" y="37479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67160" y="209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72280" y="209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91200" y="52974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72280" y="52974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86680" y="37353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35720" y="300024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7c8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40400" y="299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7c8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46600" y="3110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94245"/>
                </a:gs>
                <a:gs pos="50000">
                  <a:srgbClr val="ff7c80"/>
                </a:gs>
                <a:gs pos="100000">
                  <a:srgbClr val="89424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43360" y="311328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ff7c80">
                    <a:alpha val="0"/>
                  </a:srgbClr>
                </a:gs>
                <a:gs pos="100000">
                  <a:srgbClr val="a14e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21120" y="318456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942000" y="3203640"/>
              <a:ext cx="1290600" cy="1278000"/>
              <a:chOff x="3942000" y="3203640"/>
              <a:chExt cx="1290600" cy="1278000"/>
            </a:xfrm>
          </p:grpSpPr>
          <p:sp>
            <p:nvSpPr>
              <p:cNvPr id="262" name=""/>
              <p:cNvSpPr/>
              <p:nvPr/>
            </p:nvSpPr>
            <p:spPr>
              <a:xfrm>
                <a:off x="3942000" y="32036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958560" y="32104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71880" y="32230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041720" y="32554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4205160" y="3676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34:3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23:4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