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5D00283-92BE-4D7D-A1FF-D886676D24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1F0537F-7671-486C-92AE-82483F0C9064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A455-0932-4C8E-AABC-881A36407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6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6128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771720"/>
            <a:ext cx="826128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68F7-D6BC-402A-81C5-0E842DFD4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6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90440" y="119664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7172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90440" y="377172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EA73-D4BF-4C00-8853-FDCB5B6A3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6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6004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50800" y="1196640"/>
            <a:ext cx="266004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040" y="1196640"/>
            <a:ext cx="266004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771720"/>
            <a:ext cx="266004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50800" y="3771720"/>
            <a:ext cx="266004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040" y="3771720"/>
            <a:ext cx="266004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B5AA-E17B-423A-9E05-F7297132B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E4690-05AC-4B48-930E-ECD6FA220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6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26128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0A481-AABB-4510-A7A5-94683B03D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6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6128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C7E30-B44E-4CF7-A476-BC9C04EB5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6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128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90440" y="1196640"/>
            <a:ext cx="403128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E6ED7-ED71-41F6-B5B9-96C3A66C4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6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A58B3-D2DF-4C25-B86D-6B6E7B833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29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4ADD9-859A-4926-9154-2280DD370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6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0440" y="1196640"/>
            <a:ext cx="403128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77172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288E1-5149-4036-B1E5-F660848D3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6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26128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4E3A-6CFE-4BCE-81EF-9231A726E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6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128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0440" y="119664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90440" y="377172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46674-FB05-43E9-89DC-47BAC4783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6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90440" y="119664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771720"/>
            <a:ext cx="826128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483EC-F64A-4F8F-8C19-3ACD7D889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6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6128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771720"/>
            <a:ext cx="826128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74B6F-ACDA-4297-A780-283BB06CC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6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90440" y="119664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77172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90440" y="377172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959EF-CE3C-4280-895F-39E096989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6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6004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50800" y="1196640"/>
            <a:ext cx="266004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44040" y="1196640"/>
            <a:ext cx="266004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771720"/>
            <a:ext cx="266004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50800" y="3771720"/>
            <a:ext cx="266004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44040" y="3771720"/>
            <a:ext cx="266004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D67A5-75E8-456B-8724-4FEC775D3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6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6128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B1EC-8920-4F46-8800-186B5CF8C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6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128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90440" y="1196640"/>
            <a:ext cx="403128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817E-1EF1-459E-8AF2-7C957BAEA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6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F900-0C40-4563-ACBB-37E220176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29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B9AF-559D-47AE-B346-042F0069D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6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90440" y="1196640"/>
            <a:ext cx="403128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77172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A3D8-428F-4500-98E0-5CD070725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6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128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90440" y="119664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90440" y="377172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39FA-9072-4955-B7C1-CBEE71B04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6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90440" y="119664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771720"/>
            <a:ext cx="826128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4CD9-6C7F-4689-BE24-523E5F799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:\Users\Administrator\Desktop\新建文件夹\bg3.jpg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C:\Users\Administrator\Desktop\新建文件夹\bg1.jpg"/>
          <p:cNvPicPr/>
          <p:nvPr/>
        </p:nvPicPr>
        <p:blipFill>
          <a:blip r:embed="rId3"/>
          <a:stretch/>
        </p:blipFill>
        <p:spPr>
          <a:xfrm>
            <a:off x="0" y="2448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395640" y="1788120"/>
            <a:ext cx="8352720" cy="115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单击此处编辑母版标题样式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6C99398-C5E6-41E9-93E4-C22AA0785334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C:\Users\Administrator\Desktop\新建文件夹\bg3.jpg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单击此处编辑母版标题样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2612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ffffff"/>
                </a:solidFill>
                <a:latin typeface="Verdana"/>
              </a:rPr>
              <a:t>单击此处编辑母版文本样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ffffff"/>
                </a:solidFill>
                <a:latin typeface="Verdana"/>
              </a:rPr>
              <a:t>第二级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ffffff"/>
                </a:solidFill>
                <a:latin typeface="Verdana"/>
              </a:rPr>
              <a:t>第三级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ffffff"/>
                </a:solidFill>
                <a:latin typeface="Verdana"/>
              </a:rPr>
              <a:t>第四级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ffffff"/>
                </a:solidFill>
                <a:latin typeface="Verdana"/>
              </a:rPr>
              <a:t>第五级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8CF4522-DFD1-4A50-8602-6D3978332A60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23640" y="1788120"/>
            <a:ext cx="8352720" cy="115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金属质感卷页喜庆红通用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93120" y="2925000"/>
            <a:ext cx="835740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0" algn="ctr">
              <a:buNone/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点击此处添加标题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612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ffffff"/>
                </a:solidFill>
                <a:latin typeface="Verdana"/>
              </a:rPr>
              <a:t>点击此处添加文本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第一PPT www.1ppt.com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第一PPT www.1ppt.com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  <Words>24</Words>
  <Paragraphs>5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cp:category>TP</cp:category>
  <dcterms:created xsi:type="dcterms:W3CDTF">2010-10-13T12:51:22Z</dcterms:created>
  <dc:creator>第一PPT模板网：www.1ppt.com</dc:creator>
  <dc:description>第一PPT模板网：www.1ppt.com</dc:description>
  <cp:keywords>第一PPT模板网：www.1ppt.com</cp:keywords>
  <dc:language>en-US</dc:language>
  <cp:lastModifiedBy>王玉清</cp:lastModifiedBy>
  <dcterms:modified xsi:type="dcterms:W3CDTF">2016-02-23T02:41:24Z</dcterms:modified>
  <cp:revision>45</cp:revision>
  <dc:subject/>
  <dc:title>第一PPT模板网：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全屏显示(4:3)</vt:lpwstr>
  </property>
  <property fmtid="{D5CDD505-2E9C-101B-9397-08002B2CF9AE}" pid="4" name="Slides">
    <vt:r8>3</vt:r8>
  </property>
</Properties>
</file>