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3C2-D972-439B-919C-0252D292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DEF-812F-432B-B9A8-87B66FC4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B33-619F-40E5-9462-3D00EA91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27B-6222-42E2-96EE-6235A719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787A-22D1-4F6C-9ECA-EBEDF94E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1C5A-49B2-4EA0-B070-8F14296C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37CC-2071-4240-9061-916DCCE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9D32-5DDB-4E87-BA8F-21563B3F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1280-1282-4897-AEE8-D0EF7382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7BCE-EA19-4224-BCC6-A5ABBC49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8E91-598D-4485-B8FF-B0542E0E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27E-4945-48D8-8A0F-352E3DA3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2AEC-C0FF-411C-BFEE-AAFF7C55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FA97-4C85-4220-AF77-31230941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35EA-C66B-4D64-8141-37B1B991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C18F-2277-48A8-ABA3-9BD7F3D2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0607-0C05-4D17-8839-1DACA074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63DC-E042-49A4-AB31-12989509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B0A6-C3E4-42F6-A357-D3B63280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2758-3F74-406B-869B-87E49D44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661D-A16C-4862-A8A0-FC867D8C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AFB2-38C6-43E9-A992-B7CFFEF8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3D7-C630-4086-8005-9B3FE079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9DE00-BAC1-4AF8-8D60-ED57E7C7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5F58-97FB-4401-96DC-864D98C0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D246E-200D-4701-A248-031A4CF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9DFE1-2867-4772-979D-077BDC2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D34A-D66C-4C97-B32E-3496D360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EB78-6B48-4790-8709-63C9803D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6413-45E0-4F94-864E-8700CE5A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B34-4773-491C-AA8A-10135CDA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EB1-1FC4-48D9-8124-E0503B94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F9A-0A83-428B-849F-548C840C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931-74AE-453F-8DD9-77D4AE3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541-7123-4A47-9D57-EB5441CA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04E-6D2B-459B-8FD2-588A6A53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rbeil"/>
          <p:cNvPicPr/>
          <p:nvPr/>
        </p:nvPicPr>
        <p:blipFill>
          <a:blip r:embed="rId2">
            <a:lum bright="6000"/>
          </a:blip>
          <a:srcRect l="0" t="0" r="0" b="72674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1BEB-E3ED-422C-94B4-36D65D969273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hr-abhijit-sagade-03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corbeil"/>
          <p:cNvPicPr/>
          <p:nvPr/>
        </p:nvPicPr>
        <p:blipFill>
          <a:blip r:embed="rId4"/>
          <a:srcRect l="32999" t="32000" r="0" b="0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A03E-F2A9-4B0D-AE11-72BB39C728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orbeil"/>
          <p:cNvPicPr/>
          <p:nvPr/>
        </p:nvPicPr>
        <p:blipFill>
          <a:blip r:embed="rId2">
            <a:lum bright="6000"/>
          </a:blip>
          <a:srcRect l="0" t="0" r="0" b="6667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9" name="Picture 4" descr="corbeil"/>
          <p:cNvPicPr/>
          <p:nvPr/>
        </p:nvPicPr>
        <p:blipFill>
          <a:blip r:embed="rId3"/>
          <a:srcRect l="0" t="36000" r="42004" b="0"/>
          <a:stretch/>
        </p:blipFill>
        <p:spPr>
          <a:xfrm>
            <a:off x="0" y="2836800"/>
            <a:ext cx="4876920" cy="40356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27"/>
          <p:cNvSpPr/>
          <p:nvPr/>
        </p:nvSpPr>
        <p:spPr>
          <a:xfrm rot="16200000">
            <a:off x="566640" y="-567000"/>
            <a:ext cx="1152360" cy="22860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Freeform 27"/>
          <p:cNvSpPr/>
          <p:nvPr/>
        </p:nvSpPr>
        <p:spPr>
          <a:xfrm rot="5400000">
            <a:off x="5705280" y="3419280"/>
            <a:ext cx="2305080" cy="457200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73F8-3C3A-471F-9D5B-7D9E737771CA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899172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icrosoft JhengHei"/>
              </a:rPr>
              <a:t>静怡淡雅绿背景通用</a:t>
            </a:r>
            <a:r>
              <a:rPr b="1" lang="en-US" sz="4000" spc="-1" strike="noStrike">
                <a:solidFill>
                  <a:srgbClr val="000000"/>
                </a:solidFill>
                <a:latin typeface="Microsoft JhengHe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Microsoft JhengHei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724280" y="6095520"/>
            <a:ext cx="4191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者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hea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DD2C-7F6B-4EFF-AAE7-FED1A40499AD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微软雅黑）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1054080" y="3382920"/>
            <a:ext cx="7276680" cy="356040"/>
            <a:chOff x="1054080" y="3382920"/>
            <a:chExt cx="7276680" cy="356040"/>
          </a:xfrm>
        </p:grpSpPr>
        <p:sp>
          <p:nvSpPr>
            <p:cNvPr id="141" name="Text Box 3"/>
            <p:cNvSpPr/>
            <p:nvPr/>
          </p:nvSpPr>
          <p:spPr>
            <a:xfrm>
              <a:off x="1164600" y="3444120"/>
              <a:ext cx="701028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对作品进行署名</a:t>
              </a:r>
              <a:r>
                <a:rPr b="0" lang="en-US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;</a:t>
              </a:r>
              <a:r>
                <a:rPr b="0" lang="zh-CN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不得以盈利为目的对本模板进行出售、收费下载或者做非实质性改动之后进行类似的行为。</a:t>
              </a:r>
              <a:endParaRPr b="0" lang="en-US" sz="11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42" name="Line 4"/>
            <p:cNvSpPr/>
            <p:nvPr/>
          </p:nvSpPr>
          <p:spPr>
            <a:xfrm>
              <a:off x="1054080" y="338292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43" name="Text Box 5"/>
          <p:cNvSpPr/>
          <p:nvPr/>
        </p:nvSpPr>
        <p:spPr>
          <a:xfrm>
            <a:off x="34920" y="298440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作者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Rhea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16.66699981689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王玉清</cp:lastModifiedBy>
  <dcterms:modified xsi:type="dcterms:W3CDTF">2016-02-24T02:56:56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