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1ACA-ECF7-469A-9105-EB7EB5B1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1F1-4E49-4D4C-8307-A8CD7A7E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AAC-472B-4D55-8CB9-661F3473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5FE-A8CD-4812-AD6A-A7D67530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CE6-6E7A-4B65-B5D2-22CEA1E8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043-281A-4132-AC1B-02A45C97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C7A-3869-4C8C-9709-C3FA1213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E23-9D78-4880-955B-1D2EBB40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45B-7282-475A-8C8F-30F5F6E1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DD7-8F52-4053-ACA3-DBBACB7A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DE1-5453-4B8F-B5B4-2B0944CD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7FA-9792-44C4-B8CA-3A2A0E3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0ED1-5CF4-43CF-BA6B-10E4B1DB113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D9A8-4E94-4117-84E8-164A7024083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2597040" y="1763640"/>
            <a:ext cx="5991480" cy="9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437000" y="4462560"/>
            <a:ext cx="4151520" cy="120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111480" y="2625840"/>
            <a:ext cx="549288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3697200" y="3559320"/>
            <a:ext cx="4891320" cy="90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28960" y="2627280"/>
            <a:ext cx="5659560" cy="360"/>
            <a:chOff x="2928960" y="2627280"/>
            <a:chExt cx="5659560" cy="360"/>
          </a:xfrm>
        </p:grpSpPr>
        <p:sp>
          <p:nvSpPr>
            <p:cNvPr id="47" name="Line 6"/>
            <p:cNvSpPr/>
            <p:nvPr/>
          </p:nvSpPr>
          <p:spPr>
            <a:xfrm>
              <a:off x="2928960" y="2627280"/>
              <a:ext cx="5659560" cy="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928960" y="2627280"/>
              <a:ext cx="5659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97200" y="3559320"/>
            <a:ext cx="4891320" cy="360"/>
            <a:chOff x="3697200" y="3559320"/>
            <a:chExt cx="4891320" cy="360"/>
          </a:xfrm>
        </p:grpSpPr>
        <p:sp>
          <p:nvSpPr>
            <p:cNvPr id="50" name="Line 7"/>
            <p:cNvSpPr/>
            <p:nvPr/>
          </p:nvSpPr>
          <p:spPr>
            <a:xfrm>
              <a:off x="3697200" y="3559320"/>
              <a:ext cx="4891320" cy="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697200" y="3559320"/>
              <a:ext cx="4891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286160" y="4464000"/>
            <a:ext cx="4302360" cy="360"/>
            <a:chOff x="4286160" y="4464000"/>
            <a:chExt cx="4302360" cy="360"/>
          </a:xfrm>
        </p:grpSpPr>
        <p:sp>
          <p:nvSpPr>
            <p:cNvPr id="53" name="Line 8"/>
            <p:cNvSpPr/>
            <p:nvPr/>
          </p:nvSpPr>
          <p:spPr>
            <a:xfrm>
              <a:off x="4286160" y="4464000"/>
              <a:ext cx="4302360" cy="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4286160" y="4464000"/>
              <a:ext cx="430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09760" y="5668920"/>
            <a:ext cx="8078760" cy="360"/>
            <a:chOff x="509760" y="5668920"/>
            <a:chExt cx="8078760" cy="360"/>
          </a:xfrm>
        </p:grpSpPr>
        <p:sp>
          <p:nvSpPr>
            <p:cNvPr id="56" name="Line 9"/>
            <p:cNvSpPr/>
            <p:nvPr/>
          </p:nvSpPr>
          <p:spPr>
            <a:xfrm>
              <a:off x="509760" y="5668920"/>
              <a:ext cx="8078760" cy="0"/>
            </a:xfrm>
            <a:prstGeom prst="line">
              <a:avLst/>
            </a:prstGeom>
            <a:ln w="12600">
              <a:solidFill>
                <a:srgbClr val="000000">
                  <a:alpha val="50000"/>
                </a:srgbClr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509760" y="5668920"/>
              <a:ext cx="8078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10"/>
          <p:cNvSpPr/>
          <p:nvPr/>
        </p:nvSpPr>
        <p:spPr>
          <a:xfrm>
            <a:off x="4244400" y="4819680"/>
            <a:ext cx="51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  <a:ea typeface="Gulim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  <a:ea typeface="Gulim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661560" y="3765600"/>
            <a:ext cx="497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  <a:ea typeface="Gulim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  <a:ea typeface="Gulim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3127680" y="2932200"/>
            <a:ext cx="51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  <a:ea typeface="Gulim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2464200" y="1965240"/>
            <a:ext cx="510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Gulim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Gulim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509760" y="1197000"/>
            <a:ext cx="4677840" cy="4476240"/>
            <a:chOff x="509760" y="1197000"/>
            <a:chExt cx="4677840" cy="4476240"/>
          </a:xfrm>
        </p:grpSpPr>
        <p:grpSp>
          <p:nvGrpSpPr>
            <p:cNvPr id="63" name="Group 15"/>
            <p:cNvGrpSpPr/>
            <p:nvPr/>
          </p:nvGrpSpPr>
          <p:grpSpPr>
            <a:xfrm>
              <a:off x="509760" y="4169160"/>
              <a:ext cx="4677840" cy="1504080"/>
              <a:chOff x="509760" y="4169160"/>
              <a:chExt cx="4677840" cy="1504080"/>
            </a:xfrm>
          </p:grpSpPr>
          <p:sp>
            <p:nvSpPr>
              <p:cNvPr id="64" name="Freeform 16"/>
              <p:cNvSpPr/>
              <p:nvPr/>
            </p:nvSpPr>
            <p:spPr>
              <a:xfrm>
                <a:off x="975600" y="4169160"/>
                <a:ext cx="3601440" cy="540360"/>
              </a:xfrm>
              <a:prstGeom prst="pie">
                <a:avLst/>
              </a:prstGeom>
              <a:solidFill>
                <a:srgbClr val="538cd5"/>
              </a:solidFill>
              <a:ln cap="rnd" w="3240">
                <a:solidFill>
                  <a:srgbClr val="c5d8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509760" y="4704840"/>
                <a:ext cx="4172040" cy="963360"/>
              </a:xfrm>
              <a:prstGeom prst="pie">
                <a:avLst/>
              </a:prstGeom>
              <a:solidFill>
                <a:srgbClr val="538cd5"/>
              </a:solidFill>
              <a:ln cap="rnd" w="3240">
                <a:solidFill>
                  <a:srgbClr val="c5d8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4190400" y="4178160"/>
                <a:ext cx="997200" cy="1495080"/>
              </a:xfrm>
              <a:prstGeom prst="pie">
                <a:avLst/>
              </a:prstGeom>
              <a:solidFill>
                <a:srgbClr val="538cd5"/>
              </a:solidFill>
              <a:ln cap="rnd" w="3240">
                <a:solidFill>
                  <a:srgbClr val="c5d8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9"/>
            <p:cNvGrpSpPr/>
            <p:nvPr/>
          </p:nvGrpSpPr>
          <p:grpSpPr>
            <a:xfrm>
              <a:off x="1011600" y="3365640"/>
              <a:ext cx="3480840" cy="1193040"/>
              <a:chOff x="1011600" y="3365640"/>
              <a:chExt cx="3480840" cy="1193040"/>
            </a:xfrm>
          </p:grpSpPr>
          <p:sp>
            <p:nvSpPr>
              <p:cNvPr id="68" name="Freeform 20"/>
              <p:cNvSpPr/>
              <p:nvPr/>
            </p:nvSpPr>
            <p:spPr>
              <a:xfrm>
                <a:off x="1358280" y="3365640"/>
                <a:ext cx="2679840" cy="428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1"/>
              <p:cNvSpPr/>
              <p:nvPr/>
            </p:nvSpPr>
            <p:spPr>
              <a:xfrm>
                <a:off x="1011600" y="3790800"/>
                <a:ext cx="3104640" cy="764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2"/>
              <p:cNvSpPr/>
              <p:nvPr/>
            </p:nvSpPr>
            <p:spPr>
              <a:xfrm>
                <a:off x="3750480" y="3372840"/>
                <a:ext cx="741960" cy="118584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Group 23"/>
            <p:cNvGrpSpPr/>
            <p:nvPr/>
          </p:nvGrpSpPr>
          <p:grpSpPr>
            <a:xfrm>
              <a:off x="1406160" y="2649240"/>
              <a:ext cx="2570040" cy="1038600"/>
              <a:chOff x="1406160" y="2649240"/>
              <a:chExt cx="2570040" cy="1038600"/>
            </a:xfrm>
          </p:grpSpPr>
          <p:sp>
            <p:nvSpPr>
              <p:cNvPr id="72" name="Freeform 24"/>
              <p:cNvSpPr/>
              <p:nvPr/>
            </p:nvSpPr>
            <p:spPr>
              <a:xfrm>
                <a:off x="3349800" y="2649240"/>
                <a:ext cx="626400" cy="1038600"/>
              </a:xfrm>
              <a:prstGeom prst="pie">
                <a:avLst/>
              </a:pr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5"/>
              <p:cNvSpPr/>
              <p:nvPr/>
            </p:nvSpPr>
            <p:spPr>
              <a:xfrm>
                <a:off x="1740960" y="2649240"/>
                <a:ext cx="1797840" cy="28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1406160" y="2929320"/>
                <a:ext cx="2313360" cy="752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27"/>
            <p:cNvGrpSpPr/>
            <p:nvPr/>
          </p:nvGrpSpPr>
          <p:grpSpPr>
            <a:xfrm>
              <a:off x="1788840" y="1917000"/>
              <a:ext cx="1678320" cy="912960"/>
              <a:chOff x="1788840" y="1917000"/>
              <a:chExt cx="1678320" cy="912960"/>
            </a:xfrm>
          </p:grpSpPr>
          <p:sp>
            <p:nvSpPr>
              <p:cNvPr id="76" name="Freeform 28"/>
              <p:cNvSpPr/>
              <p:nvPr/>
            </p:nvSpPr>
            <p:spPr>
              <a:xfrm>
                <a:off x="2141280" y="1923120"/>
                <a:ext cx="887040" cy="145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29"/>
              <p:cNvSpPr/>
              <p:nvPr/>
            </p:nvSpPr>
            <p:spPr>
              <a:xfrm>
                <a:off x="1788840" y="2065320"/>
                <a:ext cx="1504080" cy="76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0"/>
              <p:cNvSpPr/>
              <p:nvPr/>
            </p:nvSpPr>
            <p:spPr>
              <a:xfrm>
                <a:off x="2935440" y="1917000"/>
                <a:ext cx="531720" cy="907200"/>
              </a:xfrm>
              <a:prstGeom prst="pie">
                <a:avLst/>
              </a:pr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31"/>
            <p:cNvGrpSpPr/>
            <p:nvPr/>
          </p:nvGrpSpPr>
          <p:grpSpPr>
            <a:xfrm>
              <a:off x="2182320" y="1197000"/>
              <a:ext cx="780840" cy="763200"/>
              <a:chOff x="2182320" y="1197000"/>
              <a:chExt cx="780840" cy="763200"/>
            </a:xfrm>
          </p:grpSpPr>
          <p:sp>
            <p:nvSpPr>
              <p:cNvPr id="80" name="Freeform 32"/>
              <p:cNvSpPr/>
              <p:nvPr/>
            </p:nvSpPr>
            <p:spPr>
              <a:xfrm>
                <a:off x="2182320" y="1197000"/>
                <a:ext cx="714960" cy="763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3"/>
              <p:cNvSpPr/>
              <p:nvPr/>
            </p:nvSpPr>
            <p:spPr>
              <a:xfrm>
                <a:off x="2521800" y="1197000"/>
                <a:ext cx="441360" cy="759600"/>
              </a:xfrm>
              <a:prstGeom prst="pie">
                <a:avLst/>
              </a:pr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Text Box 34"/>
          <p:cNvSpPr/>
          <p:nvPr/>
        </p:nvSpPr>
        <p:spPr>
          <a:xfrm>
            <a:off x="877320" y="3141720"/>
            <a:ext cx="3417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5"/>
          <p:cNvSpPr/>
          <p:nvPr/>
        </p:nvSpPr>
        <p:spPr>
          <a:xfrm>
            <a:off x="1111680" y="2162160"/>
            <a:ext cx="2908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1244520" y="5048280"/>
            <a:ext cx="27417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7"/>
          <p:cNvSpPr/>
          <p:nvPr/>
        </p:nvSpPr>
        <p:spPr>
          <a:xfrm>
            <a:off x="1244520" y="4024440"/>
            <a:ext cx="259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6360" y="44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字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2D09-CA09-4C02-989B-BAD0FA611D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0:38Z</dcterms:modified>
  <cp:revision>7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