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10C2-33D3-4C25-A47B-FBB8F2D4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4F82-566E-425F-AC65-76D09ADC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3AC-2B55-4C5B-B793-AA603F56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A05-E62C-4696-B840-60680566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6F5-7BE5-4BBD-ABFA-71D1E6C8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65BA-07AE-42EF-A2D9-248F8B00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FB3E-8E45-4F36-8B88-93838804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061-3A35-454B-8B5C-1FA78D0B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6ED5-0DF7-4D33-97AF-11BC0937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D2C2-78E0-4551-9B1D-5DC46AD9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42D7-96FD-4C9E-B3C1-0E58D095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3377-EB43-4046-B3D3-D1710D9A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E397-1D4E-4736-A614-4E64C67E2722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24000" y="764640"/>
            <a:ext cx="946800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61645"/>
                </a:solidFill>
                <a:latin typeface="Arial"/>
                <a:ea typeface="宋体"/>
              </a:rPr>
              <a:t>可爱的矢量卡通猪通用</a:t>
            </a:r>
            <a:r>
              <a:rPr b="1" lang="en-US" sz="4000" spc="-1" strike="noStrike">
                <a:solidFill>
                  <a:srgbClr val="161645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161645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5076720" y="155736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161645"/>
                </a:solidFill>
                <a:latin typeface="Arial"/>
                <a:ea typeface="宋体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王玉清</cp:lastModifiedBy>
  <dcterms:modified xsi:type="dcterms:W3CDTF">2016-03-02T10:27:26Z</dcterms:modified>
  <cp:revision>711</cp:revision>
  <dc:subject/>
  <dc:title>Diapositiva 1</dc:title>
</cp:coreProperties>
</file>