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0B83-7A89-4C5D-A8BD-111C658B8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DD5F-692D-4ADF-B9C2-0A1C4D41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DBC1-D3F3-43DD-87AB-698E3B13A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7717-C727-4815-8E6B-90276F86E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B175-12FC-4FFF-A358-C55ECE26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1370-997C-4F41-B29E-0AADB918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AE69-E5BC-4A7B-9668-61BD0915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5FAA-C7B5-47AD-876F-77356270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F40E-8BF9-4A5A-BCF5-7DFF544C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5A40-6425-468F-91B2-7431EE74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78C6-4DD7-453B-A7B5-BFF072AC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F591-86D4-4DED-BFF7-2832BF21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3CB0-853A-4FCD-97DF-A6166A51B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4771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77560" y="121932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科技创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426708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886200" y="3098880"/>
            <a:ext cx="205740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宋体"/>
              </a:rPr>
              <a:t>谢谢！</a:t>
            </a:r>
            <a:endParaRPr b="0" lang="en-US" sz="5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D71B-9FDA-4AD1-BAE4-6552412072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1T09:03:5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3:21:04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e601000000000001024140</vt:lpwstr>
  </property>
  <property fmtid="{D5CDD505-2E9C-101B-9397-08002B2CF9AE}" pid="4" name="Version">
    <vt:r8>1</vt:r8>
  </property>
</Properties>
</file>