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 6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1" name="矩形 7"/>
            <p:cNvSpPr/>
            <p:nvPr/>
          </p:nvSpPr>
          <p:spPr>
            <a:xfrm>
              <a:off x="0" y="0"/>
              <a:ext cx="1523520" cy="514332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" name="矩形 8"/>
            <p:cNvSpPr/>
            <p:nvPr/>
          </p:nvSpPr>
          <p:spPr>
            <a:xfrm>
              <a:off x="1523880" y="0"/>
              <a:ext cx="1523520" cy="5143320"/>
            </a:xfrm>
            <a:prstGeom prst="rect">
              <a:avLst/>
            </a:prstGeom>
            <a:solidFill>
              <a:srgbClr val="4584d3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" name="矩形 9"/>
            <p:cNvSpPr/>
            <p:nvPr/>
          </p:nvSpPr>
          <p:spPr>
            <a:xfrm>
              <a:off x="3048120" y="0"/>
              <a:ext cx="1523520" cy="514332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" name="矩形 10"/>
            <p:cNvSpPr/>
            <p:nvPr/>
          </p:nvSpPr>
          <p:spPr>
            <a:xfrm>
              <a:off x="4572000" y="0"/>
              <a:ext cx="1523520" cy="514332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" name="矩形 11"/>
            <p:cNvSpPr/>
            <p:nvPr/>
          </p:nvSpPr>
          <p:spPr>
            <a:xfrm>
              <a:off x="6095880" y="0"/>
              <a:ext cx="1523520" cy="5143320"/>
            </a:xfrm>
            <a:prstGeom prst="rect">
              <a:avLst/>
            </a:prstGeom>
            <a:solidFill>
              <a:schemeClr val="accent5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" name="矩形 12"/>
            <p:cNvSpPr/>
            <p:nvPr/>
          </p:nvSpPr>
          <p:spPr>
            <a:xfrm>
              <a:off x="7620120" y="0"/>
              <a:ext cx="1523520" cy="5143320"/>
            </a:xfrm>
            <a:prstGeom prst="rect">
              <a:avLst/>
            </a:prstGeom>
            <a:solidFill>
              <a:schemeClr val="accent6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 1"/>
          <p:cNvGrpSpPr/>
          <p:nvPr/>
        </p:nvGrpSpPr>
        <p:grpSpPr>
          <a:xfrm>
            <a:off x="0" y="0"/>
            <a:ext cx="1131480" cy="5143320"/>
            <a:chOff x="0" y="0"/>
            <a:chExt cx="1131480" cy="5143320"/>
          </a:xfrm>
        </p:grpSpPr>
        <p:sp>
          <p:nvSpPr>
            <p:cNvPr id="46" name="矩形 2"/>
            <p:cNvSpPr/>
            <p:nvPr/>
          </p:nvSpPr>
          <p:spPr>
            <a:xfrm>
              <a:off x="0" y="0"/>
              <a:ext cx="188280" cy="514332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7" name="矩形 3"/>
            <p:cNvSpPr/>
            <p:nvPr/>
          </p:nvSpPr>
          <p:spPr>
            <a:xfrm>
              <a:off x="188640" y="0"/>
              <a:ext cx="188280" cy="5143320"/>
            </a:xfrm>
            <a:prstGeom prst="rect">
              <a:avLst/>
            </a:prstGeom>
            <a:solidFill>
              <a:srgbClr val="4584d3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8" name="矩形 4"/>
            <p:cNvSpPr/>
            <p:nvPr/>
          </p:nvSpPr>
          <p:spPr>
            <a:xfrm>
              <a:off x="377280" y="0"/>
              <a:ext cx="188280" cy="514332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9" name="矩形 5"/>
            <p:cNvSpPr/>
            <p:nvPr/>
          </p:nvSpPr>
          <p:spPr>
            <a:xfrm>
              <a:off x="565920" y="0"/>
              <a:ext cx="188280" cy="514332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0" name="矩形 6"/>
            <p:cNvSpPr/>
            <p:nvPr/>
          </p:nvSpPr>
          <p:spPr>
            <a:xfrm>
              <a:off x="754560" y="0"/>
              <a:ext cx="188280" cy="5143320"/>
            </a:xfrm>
            <a:prstGeom prst="rect">
              <a:avLst/>
            </a:prstGeom>
            <a:solidFill>
              <a:schemeClr val="accent5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1" name="矩形 7"/>
            <p:cNvSpPr/>
            <p:nvPr/>
          </p:nvSpPr>
          <p:spPr>
            <a:xfrm>
              <a:off x="943200" y="0"/>
              <a:ext cx="188280" cy="5143320"/>
            </a:xfrm>
            <a:prstGeom prst="rect">
              <a:avLst/>
            </a:prstGeom>
            <a:solidFill>
              <a:schemeClr val="accent6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 1"/>
          <p:cNvGrpSpPr/>
          <p:nvPr/>
        </p:nvGrpSpPr>
        <p:grpSpPr>
          <a:xfrm>
            <a:off x="0" y="0"/>
            <a:ext cx="9143640" cy="417600"/>
            <a:chOff x="0" y="0"/>
            <a:chExt cx="9143640" cy="417600"/>
          </a:xfrm>
        </p:grpSpPr>
        <p:sp>
          <p:nvSpPr>
            <p:cNvPr id="91" name="矩形 2"/>
            <p:cNvSpPr/>
            <p:nvPr/>
          </p:nvSpPr>
          <p:spPr>
            <a:xfrm>
              <a:off x="0" y="0"/>
              <a:ext cx="1523520" cy="41760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2" name="矩形 3"/>
            <p:cNvSpPr/>
            <p:nvPr/>
          </p:nvSpPr>
          <p:spPr>
            <a:xfrm>
              <a:off x="1523880" y="0"/>
              <a:ext cx="1523520" cy="417600"/>
            </a:xfrm>
            <a:prstGeom prst="rect">
              <a:avLst/>
            </a:prstGeom>
            <a:solidFill>
              <a:srgbClr val="4584d3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3" name="矩形 4"/>
            <p:cNvSpPr/>
            <p:nvPr/>
          </p:nvSpPr>
          <p:spPr>
            <a:xfrm>
              <a:off x="3048120" y="0"/>
              <a:ext cx="1523520" cy="41760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4" name="矩形 5"/>
            <p:cNvSpPr/>
            <p:nvPr/>
          </p:nvSpPr>
          <p:spPr>
            <a:xfrm>
              <a:off x="4572000" y="0"/>
              <a:ext cx="1523520" cy="41760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5" name="矩形 6"/>
            <p:cNvSpPr/>
            <p:nvPr/>
          </p:nvSpPr>
          <p:spPr>
            <a:xfrm>
              <a:off x="6095880" y="0"/>
              <a:ext cx="1523520" cy="417600"/>
            </a:xfrm>
            <a:prstGeom prst="rect">
              <a:avLst/>
            </a:prstGeom>
            <a:solidFill>
              <a:schemeClr val="accent5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6" name="矩形 7"/>
            <p:cNvSpPr/>
            <p:nvPr/>
          </p:nvSpPr>
          <p:spPr>
            <a:xfrm>
              <a:off x="7620120" y="0"/>
              <a:ext cx="1523520" cy="417600"/>
            </a:xfrm>
            <a:prstGeom prst="rect">
              <a:avLst/>
            </a:prstGeom>
            <a:solidFill>
              <a:schemeClr val="accent6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grpSp>
        <p:nvGrpSpPr>
          <p:cNvPr id="97" name="组 8"/>
          <p:cNvGrpSpPr/>
          <p:nvPr/>
        </p:nvGrpSpPr>
        <p:grpSpPr>
          <a:xfrm>
            <a:off x="0" y="4725360"/>
            <a:ext cx="9143640" cy="417600"/>
            <a:chOff x="0" y="4725360"/>
            <a:chExt cx="9143640" cy="417600"/>
          </a:xfrm>
        </p:grpSpPr>
        <p:sp>
          <p:nvSpPr>
            <p:cNvPr id="98" name="矩形 9"/>
            <p:cNvSpPr/>
            <p:nvPr/>
          </p:nvSpPr>
          <p:spPr>
            <a:xfrm>
              <a:off x="0" y="4725360"/>
              <a:ext cx="1523520" cy="41760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99" name="矩形 10"/>
            <p:cNvSpPr/>
            <p:nvPr/>
          </p:nvSpPr>
          <p:spPr>
            <a:xfrm>
              <a:off x="1523880" y="4725360"/>
              <a:ext cx="1523520" cy="417600"/>
            </a:xfrm>
            <a:prstGeom prst="rect">
              <a:avLst/>
            </a:prstGeom>
            <a:solidFill>
              <a:srgbClr val="4584d3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0" name="矩形 11"/>
            <p:cNvSpPr/>
            <p:nvPr/>
          </p:nvSpPr>
          <p:spPr>
            <a:xfrm>
              <a:off x="3048120" y="4725360"/>
              <a:ext cx="1523520" cy="41760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1" name="矩形 12"/>
            <p:cNvSpPr/>
            <p:nvPr/>
          </p:nvSpPr>
          <p:spPr>
            <a:xfrm>
              <a:off x="4572000" y="4725360"/>
              <a:ext cx="1523520" cy="41760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2" name="矩形 13"/>
            <p:cNvSpPr/>
            <p:nvPr/>
          </p:nvSpPr>
          <p:spPr>
            <a:xfrm>
              <a:off x="6095880" y="4725360"/>
              <a:ext cx="1523520" cy="417600"/>
            </a:xfrm>
            <a:prstGeom prst="rect">
              <a:avLst/>
            </a:prstGeom>
            <a:solidFill>
              <a:schemeClr val="accent5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3" name="矩形 14"/>
            <p:cNvSpPr/>
            <p:nvPr/>
          </p:nvSpPr>
          <p:spPr>
            <a:xfrm>
              <a:off x="7620120" y="4725360"/>
              <a:ext cx="1523520" cy="417600"/>
            </a:xfrm>
            <a:prstGeom prst="rect">
              <a:avLst/>
            </a:prstGeom>
            <a:solidFill>
              <a:schemeClr val="accent6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21"/>
          <p:cNvSpPr/>
          <p:nvPr/>
        </p:nvSpPr>
        <p:spPr>
          <a:xfrm>
            <a:off x="-156600" y="1224720"/>
            <a:ext cx="9457200" cy="2855880"/>
          </a:xfrm>
          <a:prstGeom prst="rect">
            <a:avLst/>
          </a:prstGeom>
          <a:solidFill>
            <a:schemeClr val="bg1"/>
          </a:solidFill>
          <a:ln w="76200">
            <a:solidFill>
              <a:srgbClr val="073e87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1457280" y="1369080"/>
            <a:ext cx="622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73e87"/>
                </a:solidFill>
                <a:latin typeface="Century Gothic"/>
                <a:ea typeface="微软雅黑"/>
              </a:rPr>
              <a:t>开题报告通用</a:t>
            </a:r>
            <a:r>
              <a:rPr b="1" lang="en-US" sz="4000" spc="-1" strike="noStrike">
                <a:solidFill>
                  <a:srgbClr val="073e87"/>
                </a:solidFill>
                <a:latin typeface="Century Gothic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73e87"/>
                </a:solidFill>
                <a:latin typeface="Century Gothic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2233440" y="3011760"/>
            <a:ext cx="53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姓   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2237040" y="3468960"/>
            <a:ext cx="53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导   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2"/>
          <p:cNvSpPr/>
          <p:nvPr/>
        </p:nvSpPr>
        <p:spPr>
          <a:xfrm>
            <a:off x="2148120" y="2259360"/>
            <a:ext cx="4847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73e87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70000" y="4828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4558320" y="1863360"/>
            <a:ext cx="3420360" cy="511200"/>
          </a:xfrm>
          <a:prstGeom prst="rect">
            <a:avLst/>
          </a:prstGeom>
          <a:solidFill>
            <a:srgbClr val="4584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9" name="文本框 2"/>
          <p:cNvSpPr/>
          <p:nvPr/>
        </p:nvSpPr>
        <p:spPr>
          <a:xfrm>
            <a:off x="4803840" y="1883160"/>
            <a:ext cx="317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及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4558320" y="2494080"/>
            <a:ext cx="3420360" cy="511200"/>
          </a:xfrm>
          <a:prstGeom prst="rec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1" name="文本框 4"/>
          <p:cNvSpPr/>
          <p:nvPr/>
        </p:nvSpPr>
        <p:spPr>
          <a:xfrm>
            <a:off x="4803840" y="2506680"/>
            <a:ext cx="317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及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4558320" y="3125880"/>
            <a:ext cx="3420360" cy="51120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3" name="文本框 6"/>
          <p:cNvSpPr/>
          <p:nvPr/>
        </p:nvSpPr>
        <p:spPr>
          <a:xfrm>
            <a:off x="4803840" y="3131640"/>
            <a:ext cx="317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验创新及难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4558320" y="3764520"/>
            <a:ext cx="3420360" cy="511200"/>
          </a:xfrm>
          <a:prstGeom prst="rect">
            <a:avLst/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5" name="文本框 8"/>
          <p:cNvSpPr/>
          <p:nvPr/>
        </p:nvSpPr>
        <p:spPr>
          <a:xfrm>
            <a:off x="4803840" y="3763440"/>
            <a:ext cx="317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度及完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"/>
          <p:cNvSpPr/>
          <p:nvPr/>
        </p:nvSpPr>
        <p:spPr>
          <a:xfrm>
            <a:off x="1254240" y="310320"/>
            <a:ext cx="3549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73e87"/>
                </a:solidFill>
                <a:latin typeface="Century Gothic"/>
                <a:ea typeface="微软雅黑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1"/>
          <p:cNvSpPr/>
          <p:nvPr/>
        </p:nvSpPr>
        <p:spPr>
          <a:xfrm>
            <a:off x="266760" y="479880"/>
            <a:ext cx="321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  <a:ea typeface="微软雅黑"/>
              </a:rPr>
              <a:t>选题背景及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19"/>
          <p:cNvSpPr/>
          <p:nvPr/>
        </p:nvSpPr>
        <p:spPr>
          <a:xfrm>
            <a:off x="6021000" y="2055240"/>
            <a:ext cx="1072080" cy="1072080"/>
          </a:xfrm>
          <a:custGeom>
            <a:avLst/>
            <a:gdLst>
              <a:gd name="textAreaLeft" fmla="*/ 0 w 1072080"/>
              <a:gd name="textAreaRight" fmla="*/ 1072440 w 1072080"/>
              <a:gd name="textAreaTop" fmla="*/ 0 h 1072080"/>
              <a:gd name="textAreaBottom" fmla="*/ 1072440 h 1072080"/>
            </a:gdLst>
            <a:ahLst/>
            <a:rect l="textAreaLeft" t="textAreaTop" r="textAreaRight" b="textAreaBottom"/>
            <a:pathLst>
              <a:path w="1259243" h="1259243">
                <a:moveTo>
                  <a:pt x="0" y="629622"/>
                </a:moveTo>
                <a:cubicBezTo>
                  <a:pt x="0" y="281891"/>
                  <a:pt x="281891" y="0"/>
                  <a:pt x="629622" y="0"/>
                </a:cubicBezTo>
                <a:cubicBezTo>
                  <a:pt x="977353" y="0"/>
                  <a:pt x="1259244" y="281891"/>
                  <a:pt x="1259244" y="629622"/>
                </a:cubicBezTo>
                <a:cubicBezTo>
                  <a:pt x="1259244" y="977353"/>
                  <a:pt x="977353" y="1259244"/>
                  <a:pt x="629622" y="1259244"/>
                </a:cubicBezTo>
                <a:cubicBezTo>
                  <a:pt x="281891" y="1259244"/>
                  <a:pt x="0" y="977353"/>
                  <a:pt x="0" y="629622"/>
                </a:cubicBezTo>
                <a:close/>
              </a:path>
            </a:pathLst>
          </a:custGeom>
          <a:solidFill>
            <a:schemeClr val="accent4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20"/>
          <p:cNvSpPr/>
          <p:nvPr/>
        </p:nvSpPr>
        <p:spPr>
          <a:xfrm rot="16200000">
            <a:off x="6395040" y="1879200"/>
            <a:ext cx="324000" cy="27720"/>
          </a:xfrm>
          <a:custGeom>
            <a:avLst/>
            <a:gdLst>
              <a:gd name="textAreaLeft" fmla="*/ 0 w 324000"/>
              <a:gd name="textAreaRight" fmla="*/ 324360 w 32400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380764" h="33050">
                <a:moveTo>
                  <a:pt x="0" y="16525"/>
                </a:moveTo>
                <a:lnTo>
                  <a:pt x="380764" y="16525"/>
                </a:lnTo>
              </a:path>
            </a:pathLst>
          </a:custGeom>
          <a:noFill/>
          <a:ln w="28575">
            <a:solidFill>
              <a:srgbClr val="666666"/>
            </a:solidFill>
            <a:round/>
          </a:ln>
        </p:spPr>
        <p:style>
          <a:lnRef idx="2"/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629"/>
              </a:spcAf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0" name="任意多边形 21"/>
          <p:cNvSpPr/>
          <p:nvPr/>
        </p:nvSpPr>
        <p:spPr>
          <a:xfrm>
            <a:off x="6021000" y="658440"/>
            <a:ext cx="1072080" cy="1072080"/>
          </a:xfrm>
          <a:custGeom>
            <a:avLst/>
            <a:gdLst>
              <a:gd name="textAreaLeft" fmla="*/ 0 w 1072080"/>
              <a:gd name="textAreaRight" fmla="*/ 1072440 w 1072080"/>
              <a:gd name="textAreaTop" fmla="*/ 0 h 1072080"/>
              <a:gd name="textAreaBottom" fmla="*/ 1072440 h 1072080"/>
            </a:gdLst>
            <a:ahLst/>
            <a:rect l="textAreaLeft" t="textAreaTop" r="textAreaRight" b="textAreaBottom"/>
            <a:pathLst>
              <a:path w="1259243" h="1259243">
                <a:moveTo>
                  <a:pt x="0" y="629622"/>
                </a:moveTo>
                <a:cubicBezTo>
                  <a:pt x="0" y="281891"/>
                  <a:pt x="281891" y="0"/>
                  <a:pt x="629622" y="0"/>
                </a:cubicBezTo>
                <a:cubicBezTo>
                  <a:pt x="977353" y="0"/>
                  <a:pt x="1259244" y="281891"/>
                  <a:pt x="1259244" y="629622"/>
                </a:cubicBezTo>
                <a:cubicBezTo>
                  <a:pt x="1259244" y="977353"/>
                  <a:pt x="977353" y="1259244"/>
                  <a:pt x="629622" y="1259244"/>
                </a:cubicBezTo>
                <a:cubicBezTo>
                  <a:pt x="281891" y="1259244"/>
                  <a:pt x="0" y="977353"/>
                  <a:pt x="0" y="629622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120"/>
              </a:spcAf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22"/>
          <p:cNvSpPr/>
          <p:nvPr/>
        </p:nvSpPr>
        <p:spPr>
          <a:xfrm>
            <a:off x="7093440" y="2577240"/>
            <a:ext cx="324000" cy="27720"/>
          </a:xfrm>
          <a:custGeom>
            <a:avLst/>
            <a:gdLst>
              <a:gd name="textAreaLeft" fmla="*/ 0 w 324000"/>
              <a:gd name="textAreaRight" fmla="*/ 324360 w 32400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380764" h="33050">
                <a:moveTo>
                  <a:pt x="0" y="16525"/>
                </a:moveTo>
                <a:lnTo>
                  <a:pt x="380764" y="16525"/>
                </a:lnTo>
              </a:path>
            </a:pathLst>
          </a:custGeom>
          <a:noFill/>
          <a:ln w="28575">
            <a:solidFill>
              <a:srgbClr val="666666"/>
            </a:solidFill>
            <a:round/>
          </a:ln>
        </p:spPr>
        <p:style>
          <a:lnRef idx="2"/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629"/>
              </a:spcAf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任意多边形 23"/>
          <p:cNvSpPr/>
          <p:nvPr/>
        </p:nvSpPr>
        <p:spPr>
          <a:xfrm>
            <a:off x="7417800" y="2055240"/>
            <a:ext cx="1072080" cy="1072080"/>
          </a:xfrm>
          <a:custGeom>
            <a:avLst/>
            <a:gdLst>
              <a:gd name="textAreaLeft" fmla="*/ 0 w 1072080"/>
              <a:gd name="textAreaRight" fmla="*/ 1072440 w 1072080"/>
              <a:gd name="textAreaTop" fmla="*/ 0 h 1072080"/>
              <a:gd name="textAreaBottom" fmla="*/ 1072440 h 1072080"/>
            </a:gdLst>
            <a:ahLst/>
            <a:rect l="textAreaLeft" t="textAreaTop" r="textAreaRight" b="textAreaBottom"/>
            <a:pathLst>
              <a:path w="1259243" h="1259243">
                <a:moveTo>
                  <a:pt x="0" y="629622"/>
                </a:moveTo>
                <a:cubicBezTo>
                  <a:pt x="0" y="281891"/>
                  <a:pt x="281891" y="0"/>
                  <a:pt x="629622" y="0"/>
                </a:cubicBezTo>
                <a:cubicBezTo>
                  <a:pt x="977353" y="0"/>
                  <a:pt x="1259244" y="281891"/>
                  <a:pt x="1259244" y="629622"/>
                </a:cubicBezTo>
                <a:cubicBezTo>
                  <a:pt x="1259244" y="977353"/>
                  <a:pt x="977353" y="1259244"/>
                  <a:pt x="629622" y="1259244"/>
                </a:cubicBezTo>
                <a:cubicBezTo>
                  <a:pt x="281891" y="1259244"/>
                  <a:pt x="0" y="977353"/>
                  <a:pt x="0" y="629622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120"/>
              </a:spcAf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24"/>
          <p:cNvSpPr/>
          <p:nvPr/>
        </p:nvSpPr>
        <p:spPr>
          <a:xfrm rot="5400000">
            <a:off x="6395400" y="3275280"/>
            <a:ext cx="324000" cy="27720"/>
          </a:xfrm>
          <a:custGeom>
            <a:avLst/>
            <a:gdLst>
              <a:gd name="textAreaLeft" fmla="*/ 0 w 324000"/>
              <a:gd name="textAreaRight" fmla="*/ 324360 w 32400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380764" h="33050">
                <a:moveTo>
                  <a:pt x="0" y="16525"/>
                </a:moveTo>
                <a:lnTo>
                  <a:pt x="380764" y="16525"/>
                </a:lnTo>
              </a:path>
            </a:pathLst>
          </a:custGeom>
          <a:noFill/>
          <a:ln w="28575">
            <a:solidFill>
              <a:srgbClr val="666666"/>
            </a:solidFill>
            <a:round/>
          </a:ln>
        </p:spPr>
        <p:style>
          <a:lnRef idx="2"/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629"/>
              </a:spcAf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任意多边形 25"/>
          <p:cNvSpPr/>
          <p:nvPr/>
        </p:nvSpPr>
        <p:spPr>
          <a:xfrm>
            <a:off x="6021000" y="3451680"/>
            <a:ext cx="1072080" cy="1072080"/>
          </a:xfrm>
          <a:custGeom>
            <a:avLst/>
            <a:gdLst>
              <a:gd name="textAreaLeft" fmla="*/ 0 w 1072080"/>
              <a:gd name="textAreaRight" fmla="*/ 1072440 w 1072080"/>
              <a:gd name="textAreaTop" fmla="*/ 0 h 1072080"/>
              <a:gd name="textAreaBottom" fmla="*/ 1072440 h 1072080"/>
            </a:gdLst>
            <a:ahLst/>
            <a:rect l="textAreaLeft" t="textAreaTop" r="textAreaRight" b="textAreaBottom"/>
            <a:pathLst>
              <a:path w="1259243" h="1259243">
                <a:moveTo>
                  <a:pt x="0" y="629622"/>
                </a:moveTo>
                <a:cubicBezTo>
                  <a:pt x="0" y="281891"/>
                  <a:pt x="281891" y="0"/>
                  <a:pt x="629622" y="0"/>
                </a:cubicBezTo>
                <a:cubicBezTo>
                  <a:pt x="977353" y="0"/>
                  <a:pt x="1259244" y="281891"/>
                  <a:pt x="1259244" y="629622"/>
                </a:cubicBezTo>
                <a:cubicBezTo>
                  <a:pt x="1259244" y="977353"/>
                  <a:pt x="977353" y="1259244"/>
                  <a:pt x="629622" y="1259244"/>
                </a:cubicBezTo>
                <a:cubicBezTo>
                  <a:pt x="281891" y="1259244"/>
                  <a:pt x="0" y="977353"/>
                  <a:pt x="0" y="629622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120"/>
              </a:spcAf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6"/>
          <p:cNvSpPr/>
          <p:nvPr/>
        </p:nvSpPr>
        <p:spPr>
          <a:xfrm>
            <a:off x="5697000" y="2577240"/>
            <a:ext cx="324000" cy="27720"/>
          </a:xfrm>
          <a:custGeom>
            <a:avLst/>
            <a:gdLst>
              <a:gd name="textAreaLeft" fmla="*/ 0 w 324000"/>
              <a:gd name="textAreaRight" fmla="*/ 324360 w 32400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380764" h="33050">
                <a:moveTo>
                  <a:pt x="380764" y="16525"/>
                </a:moveTo>
                <a:lnTo>
                  <a:pt x="0" y="16525"/>
                </a:lnTo>
              </a:path>
            </a:pathLst>
          </a:custGeom>
          <a:noFill/>
          <a:ln w="28575">
            <a:solidFill>
              <a:srgbClr val="666666"/>
            </a:solidFill>
            <a:round/>
          </a:ln>
        </p:spPr>
        <p:style>
          <a:lnRef idx="2"/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629"/>
              </a:spcAft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6" name="任意多边形 27"/>
          <p:cNvSpPr/>
          <p:nvPr/>
        </p:nvSpPr>
        <p:spPr>
          <a:xfrm>
            <a:off x="4624560" y="2055240"/>
            <a:ext cx="1072080" cy="1072080"/>
          </a:xfrm>
          <a:custGeom>
            <a:avLst/>
            <a:gdLst>
              <a:gd name="textAreaLeft" fmla="*/ 0 w 1072080"/>
              <a:gd name="textAreaRight" fmla="*/ 1072440 w 1072080"/>
              <a:gd name="textAreaTop" fmla="*/ 0 h 1072080"/>
              <a:gd name="textAreaBottom" fmla="*/ 1072440 h 1072080"/>
            </a:gdLst>
            <a:ahLst/>
            <a:rect l="textAreaLeft" t="textAreaTop" r="textAreaRight" b="textAreaBottom"/>
            <a:pathLst>
              <a:path w="1259243" h="1259243">
                <a:moveTo>
                  <a:pt x="0" y="629622"/>
                </a:moveTo>
                <a:cubicBezTo>
                  <a:pt x="0" y="281891"/>
                  <a:pt x="281891" y="0"/>
                  <a:pt x="629622" y="0"/>
                </a:cubicBezTo>
                <a:cubicBezTo>
                  <a:pt x="977353" y="0"/>
                  <a:pt x="1259244" y="281891"/>
                  <a:pt x="1259244" y="629622"/>
                </a:cubicBezTo>
                <a:cubicBezTo>
                  <a:pt x="1259244" y="977353"/>
                  <a:pt x="977353" y="1259244"/>
                  <a:pt x="629622" y="1259244"/>
                </a:cubicBezTo>
                <a:cubicBezTo>
                  <a:pt x="281891" y="1259244"/>
                  <a:pt x="0" y="977353"/>
                  <a:pt x="0" y="629622"/>
                </a:cubicBez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120"/>
              </a:spcAf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1"/>
          <p:cNvSpPr/>
          <p:nvPr/>
        </p:nvSpPr>
        <p:spPr>
          <a:xfrm>
            <a:off x="733680" y="1396800"/>
            <a:ext cx="572040" cy="572040"/>
          </a:xfrm>
          <a:prstGeom prst="rect">
            <a:avLst/>
          </a:prstGeom>
          <a:solidFill>
            <a:srgbClr val="f5c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Gothic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733680" y="2133360"/>
            <a:ext cx="572040" cy="572040"/>
          </a:xfrm>
          <a:prstGeom prst="rect">
            <a:avLst/>
          </a:prstGeom>
          <a:solidFill>
            <a:srgbClr val="f5c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Gothic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"/>
          <p:cNvSpPr/>
          <p:nvPr/>
        </p:nvSpPr>
        <p:spPr>
          <a:xfrm>
            <a:off x="733680" y="2870280"/>
            <a:ext cx="572040" cy="572040"/>
          </a:xfrm>
          <a:prstGeom prst="rect">
            <a:avLst/>
          </a:prstGeom>
          <a:solidFill>
            <a:srgbClr val="f5c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Gothic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733680" y="3607200"/>
            <a:ext cx="572040" cy="572040"/>
          </a:xfrm>
          <a:prstGeom prst="rect">
            <a:avLst/>
          </a:prstGeom>
          <a:solidFill>
            <a:srgbClr val="f5c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Gothic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5"/>
          <p:cNvSpPr/>
          <p:nvPr/>
        </p:nvSpPr>
        <p:spPr>
          <a:xfrm>
            <a:off x="1500120" y="1525680"/>
            <a:ext cx="1877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6"/>
          <p:cNvSpPr/>
          <p:nvPr/>
        </p:nvSpPr>
        <p:spPr>
          <a:xfrm>
            <a:off x="1500120" y="2262240"/>
            <a:ext cx="1877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7"/>
          <p:cNvSpPr/>
          <p:nvPr/>
        </p:nvSpPr>
        <p:spPr>
          <a:xfrm>
            <a:off x="1500120" y="2999160"/>
            <a:ext cx="1877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8"/>
          <p:cNvSpPr/>
          <p:nvPr/>
        </p:nvSpPr>
        <p:spPr>
          <a:xfrm>
            <a:off x="1500120" y="3736080"/>
            <a:ext cx="1877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2297160" y="1261440"/>
            <a:ext cx="1517040" cy="31921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76" name="直接连接符 6"/>
          <p:cNvCxnSpPr>
            <a:stCxn id="177" idx="3"/>
          </p:cNvCxnSpPr>
          <p:nvPr/>
        </p:nvCxnSpPr>
        <p:spPr>
          <a:xfrm>
            <a:off x="2296800" y="1858320"/>
            <a:ext cx="1517760" cy="72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78" name="直接连接符 7"/>
          <p:cNvCxnSpPr>
            <a:stCxn id="179" idx="3"/>
          </p:cNvCxnSpPr>
          <p:nvPr/>
        </p:nvCxnSpPr>
        <p:spPr>
          <a:xfrm flipV="1">
            <a:off x="2296800" y="2874600"/>
            <a:ext cx="1517760" cy="72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80" name="直接连接符 8"/>
          <p:cNvCxnSpPr/>
          <p:nvPr/>
        </p:nvCxnSpPr>
        <p:spPr>
          <a:xfrm>
            <a:off x="2304000" y="3891240"/>
            <a:ext cx="150948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181" name="TextBox 15"/>
          <p:cNvSpPr/>
          <p:nvPr/>
        </p:nvSpPr>
        <p:spPr>
          <a:xfrm>
            <a:off x="2689200" y="15314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6"/>
          <p:cNvSpPr/>
          <p:nvPr/>
        </p:nvSpPr>
        <p:spPr>
          <a:xfrm>
            <a:off x="2689200" y="254700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7"/>
          <p:cNvSpPr/>
          <p:nvPr/>
        </p:nvSpPr>
        <p:spPr>
          <a:xfrm>
            <a:off x="2689200" y="35780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五边形 9"/>
          <p:cNvSpPr/>
          <p:nvPr/>
        </p:nvSpPr>
        <p:spPr>
          <a:xfrm>
            <a:off x="0" y="1543680"/>
            <a:ext cx="2296800" cy="628920"/>
          </a:xfrm>
          <a:prstGeom prst="homePlate">
            <a:avLst>
              <a:gd name="adj" fmla="val 50000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287ed3"/>
              </a:solidFill>
              <a:latin typeface="微软雅黑"/>
              <a:ea typeface="微软雅黑"/>
            </a:endParaRPr>
          </a:p>
        </p:txBody>
      </p:sp>
      <p:sp>
        <p:nvSpPr>
          <p:cNvPr id="184" name="TextBox 19"/>
          <p:cNvSpPr/>
          <p:nvPr/>
        </p:nvSpPr>
        <p:spPr>
          <a:xfrm>
            <a:off x="885960" y="1524600"/>
            <a:ext cx="412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五边形 12"/>
          <p:cNvSpPr/>
          <p:nvPr/>
        </p:nvSpPr>
        <p:spPr>
          <a:xfrm>
            <a:off x="0" y="2560680"/>
            <a:ext cx="2296800" cy="628920"/>
          </a:xfrm>
          <a:prstGeom prst="homePlate">
            <a:avLst>
              <a:gd name="adj" fmla="val 50000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287ed3"/>
              </a:solidFill>
              <a:latin typeface="微软雅黑"/>
              <a:ea typeface="微软雅黑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897840" y="2555640"/>
            <a:ext cx="412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五边形 15"/>
          <p:cNvSpPr/>
          <p:nvPr/>
        </p:nvSpPr>
        <p:spPr>
          <a:xfrm>
            <a:off x="0" y="3575880"/>
            <a:ext cx="2296800" cy="628920"/>
          </a:xfrm>
          <a:prstGeom prst="homePlate">
            <a:avLst>
              <a:gd name="adj" fmla="val 50000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287ed3"/>
              </a:solidFill>
              <a:latin typeface="微软雅黑"/>
              <a:ea typeface="微软雅黑"/>
            </a:endParaRPr>
          </a:p>
        </p:txBody>
      </p:sp>
      <p:sp>
        <p:nvSpPr>
          <p:cNvPr id="187" name="TextBox 21"/>
          <p:cNvSpPr/>
          <p:nvPr/>
        </p:nvSpPr>
        <p:spPr>
          <a:xfrm>
            <a:off x="897840" y="3584520"/>
            <a:ext cx="412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直接连接符 21"/>
          <p:cNvCxnSpPr/>
          <p:nvPr/>
        </p:nvCxnSpPr>
        <p:spPr>
          <a:xfrm>
            <a:off x="3813120" y="1858680"/>
            <a:ext cx="4717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oval" w="med"/>
          </a:ln>
        </p:spPr>
      </p:cxnSp>
      <p:cxnSp>
        <p:nvCxnSpPr>
          <p:cNvPr id="189" name="直接连接符 22"/>
          <p:cNvCxnSpPr/>
          <p:nvPr/>
        </p:nvCxnSpPr>
        <p:spPr>
          <a:xfrm>
            <a:off x="3813120" y="2874600"/>
            <a:ext cx="4717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oval" w="med"/>
          </a:ln>
        </p:spPr>
      </p:cxnSp>
      <p:cxnSp>
        <p:nvCxnSpPr>
          <p:cNvPr id="190" name="直接连接符 23"/>
          <p:cNvCxnSpPr/>
          <p:nvPr/>
        </p:nvCxnSpPr>
        <p:spPr>
          <a:xfrm>
            <a:off x="3817440" y="3891240"/>
            <a:ext cx="4717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oval" w="med"/>
          </a:ln>
        </p:spPr>
      </p:cxnSp>
      <p:sp>
        <p:nvSpPr>
          <p:cNvPr id="191" name="TextBox 40"/>
          <p:cNvSpPr/>
          <p:nvPr/>
        </p:nvSpPr>
        <p:spPr>
          <a:xfrm>
            <a:off x="4194000" y="1301400"/>
            <a:ext cx="353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2"/>
          <p:cNvSpPr/>
          <p:nvPr/>
        </p:nvSpPr>
        <p:spPr>
          <a:xfrm>
            <a:off x="266760" y="479880"/>
            <a:ext cx="321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  <a:ea typeface="微软雅黑"/>
              </a:rPr>
              <a:t>研究内容及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0"/>
          <p:cNvSpPr/>
          <p:nvPr/>
        </p:nvSpPr>
        <p:spPr>
          <a:xfrm>
            <a:off x="4194000" y="2353680"/>
            <a:ext cx="353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4194000" y="3381840"/>
            <a:ext cx="353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42"/>
          <p:cNvSpPr/>
          <p:nvPr/>
        </p:nvSpPr>
        <p:spPr>
          <a:xfrm>
            <a:off x="266760" y="479880"/>
            <a:ext cx="321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  <a:ea typeface="微软雅黑"/>
              </a:rPr>
              <a:t>实验创新及难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菱形 22"/>
          <p:cNvSpPr/>
          <p:nvPr/>
        </p:nvSpPr>
        <p:spPr>
          <a:xfrm>
            <a:off x="839160" y="1267920"/>
            <a:ext cx="791640" cy="576000"/>
          </a:xfrm>
          <a:prstGeom prst="diamond">
            <a:avLst/>
          </a:prstGeom>
          <a:solidFill>
            <a:srgbClr val="287ed3"/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1097640" y="1347120"/>
            <a:ext cx="29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菱形 25"/>
          <p:cNvSpPr/>
          <p:nvPr/>
        </p:nvSpPr>
        <p:spPr>
          <a:xfrm>
            <a:off x="2307600" y="1267920"/>
            <a:ext cx="791640" cy="576000"/>
          </a:xfrm>
          <a:prstGeom prst="diamond">
            <a:avLst/>
          </a:prstGeom>
          <a:solidFill>
            <a:srgbClr val="287e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2566080" y="1359000"/>
            <a:ext cx="29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菱形 28"/>
          <p:cNvSpPr/>
          <p:nvPr/>
        </p:nvSpPr>
        <p:spPr>
          <a:xfrm>
            <a:off x="3791880" y="1260000"/>
            <a:ext cx="791640" cy="574200"/>
          </a:xfrm>
          <a:prstGeom prst="diamond">
            <a:avLst/>
          </a:prstGeom>
          <a:solidFill>
            <a:srgbClr val="287ed3"/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4050360" y="1356480"/>
            <a:ext cx="29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直接连接符 23"/>
          <p:cNvCxnSpPr>
            <a:stCxn id="196" idx="2"/>
          </p:cNvCxnSpPr>
          <p:nvPr/>
        </p:nvCxnSpPr>
        <p:spPr>
          <a:xfrm>
            <a:off x="1235880" y="1843920"/>
            <a:ext cx="360" cy="57672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203" name="直接连接符 24"/>
          <p:cNvCxnSpPr/>
          <p:nvPr/>
        </p:nvCxnSpPr>
        <p:spPr>
          <a:xfrm>
            <a:off x="767520" y="2420280"/>
            <a:ext cx="8719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204" name="直接连接符 25"/>
          <p:cNvCxnSpPr/>
          <p:nvPr/>
        </p:nvCxnSpPr>
        <p:spPr>
          <a:xfrm>
            <a:off x="2713680" y="1834560"/>
            <a:ext cx="360" cy="57672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205" name="直接连接符 26"/>
          <p:cNvCxnSpPr/>
          <p:nvPr/>
        </p:nvCxnSpPr>
        <p:spPr>
          <a:xfrm>
            <a:off x="2245320" y="2410920"/>
            <a:ext cx="8719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206" name="直接连接符 27"/>
          <p:cNvCxnSpPr/>
          <p:nvPr/>
        </p:nvCxnSpPr>
        <p:spPr>
          <a:xfrm>
            <a:off x="4186800" y="1799640"/>
            <a:ext cx="360" cy="57672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207" name="直接连接符 28"/>
          <p:cNvCxnSpPr/>
          <p:nvPr/>
        </p:nvCxnSpPr>
        <p:spPr>
          <a:xfrm>
            <a:off x="3720240" y="2376000"/>
            <a:ext cx="8719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208" name="TextBox 40"/>
          <p:cNvSpPr/>
          <p:nvPr/>
        </p:nvSpPr>
        <p:spPr>
          <a:xfrm>
            <a:off x="499320" y="2957760"/>
            <a:ext cx="147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/>
          <p:cNvSpPr/>
          <p:nvPr/>
        </p:nvSpPr>
        <p:spPr>
          <a:xfrm>
            <a:off x="750600" y="26773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Century Gothic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0"/>
          <p:cNvSpPr/>
          <p:nvPr/>
        </p:nvSpPr>
        <p:spPr>
          <a:xfrm>
            <a:off x="1974960" y="2957760"/>
            <a:ext cx="147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3"/>
          <p:cNvSpPr/>
          <p:nvPr/>
        </p:nvSpPr>
        <p:spPr>
          <a:xfrm>
            <a:off x="2226240" y="26773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3"/>
                </a:solidFill>
                <a:latin typeface="Century Gothic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0"/>
          <p:cNvSpPr/>
          <p:nvPr/>
        </p:nvSpPr>
        <p:spPr>
          <a:xfrm>
            <a:off x="3450600" y="2957760"/>
            <a:ext cx="1473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8"/>
          <p:cNvSpPr/>
          <p:nvPr/>
        </p:nvSpPr>
        <p:spPr>
          <a:xfrm>
            <a:off x="3701880" y="26773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5"/>
                </a:solidFill>
                <a:latin typeface="Century Gothic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49" descr=""/>
          <p:cNvPicPr/>
          <p:nvPr/>
        </p:nvPicPr>
        <p:blipFill>
          <a:blip r:embed="rId1"/>
          <a:stretch/>
        </p:blipFill>
        <p:spPr>
          <a:xfrm flipH="1">
            <a:off x="5244480" y="1347120"/>
            <a:ext cx="3899520" cy="259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17"/>
          <p:cNvGrpSpPr/>
          <p:nvPr/>
        </p:nvGrpSpPr>
        <p:grpSpPr>
          <a:xfrm>
            <a:off x="0" y="1106280"/>
            <a:ext cx="9144000" cy="2744640"/>
            <a:chOff x="0" y="1106280"/>
            <a:chExt cx="9144000" cy="2744640"/>
          </a:xfrm>
        </p:grpSpPr>
        <p:cxnSp>
          <p:nvCxnSpPr>
            <p:cNvPr id="216" name="直接连接符 21"/>
            <p:cNvCxnSpPr/>
            <p:nvPr/>
          </p:nvCxnSpPr>
          <p:spPr>
            <a:xfrm>
              <a:off x="0" y="1106280"/>
              <a:ext cx="9144000" cy="360"/>
            </a:xfrm>
            <a:prstGeom prst="straightConnector1">
              <a:avLst/>
            </a:prstGeom>
            <a:ln>
              <a:solidFill>
                <a:srgbClr val="bfbfbf"/>
              </a:solidFill>
              <a:round/>
            </a:ln>
          </p:spPr>
        </p:cxnSp>
        <p:grpSp>
          <p:nvGrpSpPr>
            <p:cNvPr id="217" name="组合 72"/>
            <p:cNvGrpSpPr/>
            <p:nvPr/>
          </p:nvGrpSpPr>
          <p:grpSpPr>
            <a:xfrm>
              <a:off x="0" y="1106280"/>
              <a:ext cx="9144000" cy="2744640"/>
              <a:chOff x="0" y="1106280"/>
              <a:chExt cx="9144000" cy="2744640"/>
            </a:xfrm>
          </p:grpSpPr>
          <p:cxnSp>
            <p:nvCxnSpPr>
              <p:cNvPr id="218" name="直接连接符 26"/>
              <p:cNvCxnSpPr/>
              <p:nvPr/>
            </p:nvCxnSpPr>
            <p:spPr>
              <a:xfrm>
                <a:off x="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19" name="直接连接符 28"/>
              <p:cNvCxnSpPr/>
              <p:nvPr/>
            </p:nvCxnSpPr>
            <p:spPr>
              <a:xfrm>
                <a:off x="21240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0" name="直接连接符 29"/>
              <p:cNvCxnSpPr/>
              <p:nvPr/>
            </p:nvCxnSpPr>
            <p:spPr>
              <a:xfrm>
                <a:off x="425160" y="1106280"/>
                <a:ext cx="360" cy="9277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1" name="直接连接符 30"/>
              <p:cNvCxnSpPr/>
              <p:nvPr/>
            </p:nvCxnSpPr>
            <p:spPr>
              <a:xfrm>
                <a:off x="63792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2" name="直接连接符 31"/>
              <p:cNvCxnSpPr/>
              <p:nvPr/>
            </p:nvCxnSpPr>
            <p:spPr>
              <a:xfrm>
                <a:off x="850320" y="1106280"/>
                <a:ext cx="360" cy="9277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3" name="直接连接符 32"/>
              <p:cNvCxnSpPr/>
              <p:nvPr/>
            </p:nvCxnSpPr>
            <p:spPr>
              <a:xfrm>
                <a:off x="106308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4" name="直接连接符 33"/>
              <p:cNvCxnSpPr/>
              <p:nvPr/>
            </p:nvCxnSpPr>
            <p:spPr>
              <a:xfrm>
                <a:off x="1275840" y="1106280"/>
                <a:ext cx="360" cy="9277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5" name="直接连接符 34"/>
              <p:cNvCxnSpPr/>
              <p:nvPr/>
            </p:nvCxnSpPr>
            <p:spPr>
              <a:xfrm>
                <a:off x="1488240" y="1106280"/>
                <a:ext cx="360" cy="274500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6" name="直接连接符 35"/>
              <p:cNvCxnSpPr/>
              <p:nvPr/>
            </p:nvCxnSpPr>
            <p:spPr>
              <a:xfrm>
                <a:off x="170100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7" name="直接连接符 36"/>
              <p:cNvCxnSpPr/>
              <p:nvPr/>
            </p:nvCxnSpPr>
            <p:spPr>
              <a:xfrm>
                <a:off x="1913760" y="1106280"/>
                <a:ext cx="360" cy="22165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8" name="直接连接符 37"/>
              <p:cNvCxnSpPr/>
              <p:nvPr/>
            </p:nvCxnSpPr>
            <p:spPr>
              <a:xfrm>
                <a:off x="2126160" y="1106280"/>
                <a:ext cx="360" cy="9277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29" name="直接连接符 38"/>
              <p:cNvCxnSpPr/>
              <p:nvPr/>
            </p:nvCxnSpPr>
            <p:spPr>
              <a:xfrm>
                <a:off x="233892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0" name="直接连接符 39"/>
              <p:cNvCxnSpPr/>
              <p:nvPr/>
            </p:nvCxnSpPr>
            <p:spPr>
              <a:xfrm>
                <a:off x="255168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1" name="直接连接符 40"/>
              <p:cNvCxnSpPr/>
              <p:nvPr/>
            </p:nvCxnSpPr>
            <p:spPr>
              <a:xfrm>
                <a:off x="2764440" y="1106280"/>
                <a:ext cx="360" cy="9277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2" name="直接连接符 41"/>
              <p:cNvCxnSpPr/>
              <p:nvPr/>
            </p:nvCxnSpPr>
            <p:spPr>
              <a:xfrm>
                <a:off x="2976840" y="1106280"/>
                <a:ext cx="360" cy="9277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3" name="直接连接符 42"/>
              <p:cNvCxnSpPr/>
              <p:nvPr/>
            </p:nvCxnSpPr>
            <p:spPr>
              <a:xfrm>
                <a:off x="318960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4" name="直接连接符 43"/>
              <p:cNvCxnSpPr/>
              <p:nvPr/>
            </p:nvCxnSpPr>
            <p:spPr>
              <a:xfrm>
                <a:off x="3402360" y="1106280"/>
                <a:ext cx="360" cy="9277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5" name="直接连接符 44"/>
              <p:cNvCxnSpPr/>
              <p:nvPr/>
            </p:nvCxnSpPr>
            <p:spPr>
              <a:xfrm>
                <a:off x="361476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6" name="直接连接符 45"/>
              <p:cNvCxnSpPr/>
              <p:nvPr/>
            </p:nvCxnSpPr>
            <p:spPr>
              <a:xfrm>
                <a:off x="382752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7" name="直接连接符 46"/>
              <p:cNvCxnSpPr/>
              <p:nvPr/>
            </p:nvCxnSpPr>
            <p:spPr>
              <a:xfrm>
                <a:off x="404028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8" name="直接连接符 47"/>
              <p:cNvCxnSpPr/>
              <p:nvPr/>
            </p:nvCxnSpPr>
            <p:spPr>
              <a:xfrm>
                <a:off x="425268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39" name="直接连接符 48"/>
              <p:cNvCxnSpPr/>
              <p:nvPr/>
            </p:nvCxnSpPr>
            <p:spPr>
              <a:xfrm>
                <a:off x="4465440" y="1106280"/>
                <a:ext cx="360" cy="9277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0" name="直接连接符 49"/>
              <p:cNvCxnSpPr/>
              <p:nvPr/>
            </p:nvCxnSpPr>
            <p:spPr>
              <a:xfrm>
                <a:off x="467820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1" name="直接连接符 50"/>
              <p:cNvCxnSpPr/>
              <p:nvPr/>
            </p:nvCxnSpPr>
            <p:spPr>
              <a:xfrm>
                <a:off x="489096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2" name="直接连接符 51"/>
              <p:cNvCxnSpPr/>
              <p:nvPr/>
            </p:nvCxnSpPr>
            <p:spPr>
              <a:xfrm>
                <a:off x="510336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3" name="直接连接符 52"/>
              <p:cNvCxnSpPr/>
              <p:nvPr/>
            </p:nvCxnSpPr>
            <p:spPr>
              <a:xfrm>
                <a:off x="531612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4" name="直接连接符 53"/>
              <p:cNvCxnSpPr/>
              <p:nvPr/>
            </p:nvCxnSpPr>
            <p:spPr>
              <a:xfrm>
                <a:off x="5528880" y="1106280"/>
                <a:ext cx="360" cy="22165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5" name="直接连接符 54"/>
              <p:cNvCxnSpPr/>
              <p:nvPr/>
            </p:nvCxnSpPr>
            <p:spPr>
              <a:xfrm>
                <a:off x="5741280" y="1106280"/>
                <a:ext cx="360" cy="274500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6" name="直接连接符 55"/>
              <p:cNvCxnSpPr/>
              <p:nvPr/>
            </p:nvCxnSpPr>
            <p:spPr>
              <a:xfrm>
                <a:off x="595404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7" name="直接连接符 56"/>
              <p:cNvCxnSpPr/>
              <p:nvPr/>
            </p:nvCxnSpPr>
            <p:spPr>
              <a:xfrm>
                <a:off x="6166800" y="1106280"/>
                <a:ext cx="360" cy="274500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8" name="直接连接符 57"/>
              <p:cNvCxnSpPr/>
              <p:nvPr/>
            </p:nvCxnSpPr>
            <p:spPr>
              <a:xfrm>
                <a:off x="637920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49" name="直接连接符 58"/>
              <p:cNvCxnSpPr/>
              <p:nvPr/>
            </p:nvCxnSpPr>
            <p:spPr>
              <a:xfrm>
                <a:off x="659196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0" name="直接连接符 59"/>
              <p:cNvCxnSpPr/>
              <p:nvPr/>
            </p:nvCxnSpPr>
            <p:spPr>
              <a:xfrm>
                <a:off x="680472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1" name="直接连接符 60"/>
              <p:cNvCxnSpPr/>
              <p:nvPr/>
            </p:nvCxnSpPr>
            <p:spPr>
              <a:xfrm>
                <a:off x="7017120" y="1106280"/>
                <a:ext cx="360" cy="22165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2" name="直接连接符 61"/>
              <p:cNvCxnSpPr/>
              <p:nvPr/>
            </p:nvCxnSpPr>
            <p:spPr>
              <a:xfrm>
                <a:off x="7229880" y="1106280"/>
                <a:ext cx="360" cy="9277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3" name="直接连接符 62"/>
              <p:cNvCxnSpPr/>
              <p:nvPr/>
            </p:nvCxnSpPr>
            <p:spPr>
              <a:xfrm>
                <a:off x="744264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4" name="直接连接符 63"/>
              <p:cNvCxnSpPr/>
              <p:nvPr/>
            </p:nvCxnSpPr>
            <p:spPr>
              <a:xfrm>
                <a:off x="765540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5" name="直接连接符 64"/>
              <p:cNvCxnSpPr/>
              <p:nvPr/>
            </p:nvCxnSpPr>
            <p:spPr>
              <a:xfrm>
                <a:off x="786780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6" name="直接连接符 65"/>
              <p:cNvCxnSpPr/>
              <p:nvPr/>
            </p:nvCxnSpPr>
            <p:spPr>
              <a:xfrm>
                <a:off x="808056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7" name="直接连接符 66"/>
              <p:cNvCxnSpPr/>
              <p:nvPr/>
            </p:nvCxnSpPr>
            <p:spPr>
              <a:xfrm>
                <a:off x="829332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8" name="直接连接符 67"/>
              <p:cNvCxnSpPr/>
              <p:nvPr/>
            </p:nvCxnSpPr>
            <p:spPr>
              <a:xfrm>
                <a:off x="8505720" y="1106280"/>
                <a:ext cx="360" cy="180864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59" name="直接连接符 68"/>
              <p:cNvCxnSpPr/>
              <p:nvPr/>
            </p:nvCxnSpPr>
            <p:spPr>
              <a:xfrm>
                <a:off x="871848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60" name="直接连接符 69"/>
              <p:cNvCxnSpPr/>
              <p:nvPr/>
            </p:nvCxnSpPr>
            <p:spPr>
              <a:xfrm>
                <a:off x="8931240" y="1106280"/>
                <a:ext cx="360" cy="131328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  <p:cxnSp>
            <p:nvCxnSpPr>
              <p:cNvPr id="261" name="直接连接符 70"/>
              <p:cNvCxnSpPr/>
              <p:nvPr/>
            </p:nvCxnSpPr>
            <p:spPr>
              <a:xfrm>
                <a:off x="9144000" y="1106280"/>
                <a:ext cx="360" cy="2216520"/>
              </a:xfrm>
              <a:prstGeom prst="straightConnector1">
                <a:avLst/>
              </a:prstGeom>
              <a:ln>
                <a:solidFill>
                  <a:srgbClr val="c1e9fe">
                    <a:alpha val="0"/>
                  </a:srgbClr>
                </a:solidFill>
                <a:round/>
              </a:ln>
            </p:spPr>
          </p:cxnSp>
        </p:grpSp>
      </p:grpSp>
      <p:sp>
        <p:nvSpPr>
          <p:cNvPr id="262" name="图片 49"/>
          <p:cNvSpPr/>
          <p:nvPr/>
        </p:nvSpPr>
        <p:spPr>
          <a:xfrm>
            <a:off x="7718040" y="2492640"/>
            <a:ext cx="661680" cy="661680"/>
          </a:xfrm>
          <a:custGeom>
            <a:avLst/>
            <a:gdLst>
              <a:gd name="textAreaLeft" fmla="*/ 0 w 661680"/>
              <a:gd name="textAreaRight" fmla="*/ 662040 w 661680"/>
              <a:gd name="textAreaTop" fmla="*/ 0 h 661680"/>
              <a:gd name="textAreaBottom" fmla="*/ 662040 h 661680"/>
            </a:gdLst>
            <a:ahLst/>
            <a:rect l="textAreaLeft" t="textAreaTop" r="textAreaRight" b="textAreaBottom"/>
            <a:pathLst>
              <a:path w="797198" h="797198">
                <a:moveTo>
                  <a:pt x="398599" y="0"/>
                </a:moveTo>
                <a:cubicBezTo>
                  <a:pt x="618739" y="0"/>
                  <a:pt x="797198" y="178459"/>
                  <a:pt x="797198" y="398599"/>
                </a:cubicBezTo>
                <a:cubicBezTo>
                  <a:pt x="797198" y="618739"/>
                  <a:pt x="618739" y="797198"/>
                  <a:pt x="398599" y="797198"/>
                </a:cubicBezTo>
                <a:cubicBezTo>
                  <a:pt x="178459" y="797198"/>
                  <a:pt x="0" y="618739"/>
                  <a:pt x="0" y="398599"/>
                </a:cubicBezTo>
                <a:cubicBezTo>
                  <a:pt x="0" y="178459"/>
                  <a:pt x="178459" y="0"/>
                  <a:pt x="398599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38100">
            <a:solidFill>
              <a:srgbClr val="287e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图片 50"/>
          <p:cNvSpPr/>
          <p:nvPr/>
        </p:nvSpPr>
        <p:spPr>
          <a:xfrm>
            <a:off x="5741640" y="2035440"/>
            <a:ext cx="1092960" cy="1092960"/>
          </a:xfrm>
          <a:custGeom>
            <a:avLst/>
            <a:gdLst>
              <a:gd name="textAreaLeft" fmla="*/ 0 w 1092960"/>
              <a:gd name="textAreaRight" fmla="*/ 1093320 w 1092960"/>
              <a:gd name="textAreaTop" fmla="*/ 0 h 1092960"/>
              <a:gd name="textAreaBottom" fmla="*/ 1093320 h 1092960"/>
            </a:gdLst>
            <a:ahLst/>
            <a:rect l="textAreaLeft" t="textAreaTop" r="textAreaRight" b="textAreaBottom"/>
            <a:pathLst>
              <a:path w="1316838" h="1316838">
                <a:moveTo>
                  <a:pt x="658419" y="0"/>
                </a:moveTo>
                <a:cubicBezTo>
                  <a:pt x="1022054" y="0"/>
                  <a:pt x="1316838" y="294784"/>
                  <a:pt x="1316838" y="658419"/>
                </a:cubicBezTo>
                <a:cubicBezTo>
                  <a:pt x="1316838" y="1022054"/>
                  <a:pt x="1022054" y="1316838"/>
                  <a:pt x="658419" y="1316838"/>
                </a:cubicBezTo>
                <a:cubicBezTo>
                  <a:pt x="294784" y="1316838"/>
                  <a:pt x="0" y="1022054"/>
                  <a:pt x="0" y="658419"/>
                </a:cubicBezTo>
                <a:cubicBezTo>
                  <a:pt x="0" y="294784"/>
                  <a:pt x="294784" y="0"/>
                  <a:pt x="658419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38100">
            <a:solidFill>
              <a:srgbClr val="287e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图片 51"/>
          <p:cNvSpPr/>
          <p:nvPr/>
        </p:nvSpPr>
        <p:spPr>
          <a:xfrm>
            <a:off x="4245840" y="2124360"/>
            <a:ext cx="920160" cy="920160"/>
          </a:xfrm>
          <a:custGeom>
            <a:avLst/>
            <a:gdLst>
              <a:gd name="textAreaLeft" fmla="*/ 0 w 920160"/>
              <a:gd name="textAreaRight" fmla="*/ 920520 w 920160"/>
              <a:gd name="textAreaTop" fmla="*/ 0 h 920160"/>
              <a:gd name="textAreaBottom" fmla="*/ 920520 h 920160"/>
            </a:gdLst>
            <a:ahLst/>
            <a:rect l="textAreaLeft" t="textAreaTop" r="textAreaRight" b="textAreaBottom"/>
            <a:pathLst>
              <a:path w="1108688" h="1108688">
                <a:moveTo>
                  <a:pt x="554344" y="0"/>
                </a:moveTo>
                <a:cubicBezTo>
                  <a:pt x="860500" y="0"/>
                  <a:pt x="1108688" y="248188"/>
                  <a:pt x="1108688" y="554344"/>
                </a:cubicBezTo>
                <a:cubicBezTo>
                  <a:pt x="1108688" y="860500"/>
                  <a:pt x="860500" y="1108688"/>
                  <a:pt x="554344" y="1108688"/>
                </a:cubicBezTo>
                <a:cubicBezTo>
                  <a:pt x="248188" y="1108688"/>
                  <a:pt x="0" y="860500"/>
                  <a:pt x="0" y="554344"/>
                </a:cubicBezTo>
                <a:cubicBezTo>
                  <a:pt x="0" y="248188"/>
                  <a:pt x="248188" y="0"/>
                  <a:pt x="5543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38100">
            <a:solidFill>
              <a:srgbClr val="287e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图片 52"/>
          <p:cNvSpPr/>
          <p:nvPr/>
        </p:nvSpPr>
        <p:spPr>
          <a:xfrm>
            <a:off x="3026160" y="2567880"/>
            <a:ext cx="730800" cy="730800"/>
          </a:xfrm>
          <a:custGeom>
            <a:avLst/>
            <a:gdLst>
              <a:gd name="textAreaLeft" fmla="*/ 0 w 730800"/>
              <a:gd name="textAreaRight" fmla="*/ 731160 w 730800"/>
              <a:gd name="textAreaTop" fmla="*/ 0 h 730800"/>
              <a:gd name="textAreaBottom" fmla="*/ 731160 h 730800"/>
            </a:gdLst>
            <a:ahLst/>
            <a:rect l="textAreaLeft" t="textAreaTop" r="textAreaRight" b="textAreaBottom"/>
            <a:pathLst>
              <a:path w="880512" h="880512">
                <a:moveTo>
                  <a:pt x="440256" y="0"/>
                </a:moveTo>
                <a:cubicBezTo>
                  <a:pt x="683403" y="0"/>
                  <a:pt x="880512" y="197109"/>
                  <a:pt x="880512" y="440256"/>
                </a:cubicBezTo>
                <a:cubicBezTo>
                  <a:pt x="880512" y="683403"/>
                  <a:pt x="683403" y="880512"/>
                  <a:pt x="440256" y="880512"/>
                </a:cubicBezTo>
                <a:cubicBezTo>
                  <a:pt x="197109" y="880512"/>
                  <a:pt x="0" y="683403"/>
                  <a:pt x="0" y="440256"/>
                </a:cubicBezTo>
                <a:cubicBezTo>
                  <a:pt x="0" y="197109"/>
                  <a:pt x="197109" y="0"/>
                  <a:pt x="440256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38100">
            <a:solidFill>
              <a:srgbClr val="287e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图片 53"/>
          <p:cNvSpPr/>
          <p:nvPr/>
        </p:nvSpPr>
        <p:spPr>
          <a:xfrm>
            <a:off x="2005920" y="3007800"/>
            <a:ext cx="525960" cy="525960"/>
          </a:xfrm>
          <a:custGeom>
            <a:avLst/>
            <a:gdLst>
              <a:gd name="textAreaLeft" fmla="*/ 0 w 525960"/>
              <a:gd name="textAreaRight" fmla="*/ 526320 w 525960"/>
              <a:gd name="textAreaTop" fmla="*/ 0 h 525960"/>
              <a:gd name="textAreaBottom" fmla="*/ 526320 h 525960"/>
            </a:gdLst>
            <a:ahLst/>
            <a:rect l="textAreaLeft" t="textAreaTop" r="textAreaRight" b="textAreaBottom"/>
            <a:pathLst>
              <a:path w="633860" h="633860">
                <a:moveTo>
                  <a:pt x="316930" y="0"/>
                </a:moveTo>
                <a:cubicBezTo>
                  <a:pt x="491966" y="0"/>
                  <a:pt x="633860" y="141894"/>
                  <a:pt x="633860" y="316930"/>
                </a:cubicBezTo>
                <a:cubicBezTo>
                  <a:pt x="633860" y="491966"/>
                  <a:pt x="491966" y="633860"/>
                  <a:pt x="316930" y="633860"/>
                </a:cubicBezTo>
                <a:cubicBezTo>
                  <a:pt x="141894" y="633860"/>
                  <a:pt x="0" y="491966"/>
                  <a:pt x="0" y="316930"/>
                </a:cubicBezTo>
                <a:cubicBezTo>
                  <a:pt x="0" y="141894"/>
                  <a:pt x="141894" y="0"/>
                  <a:pt x="316930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381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图片 54"/>
          <p:cNvSpPr/>
          <p:nvPr/>
        </p:nvSpPr>
        <p:spPr>
          <a:xfrm>
            <a:off x="573480" y="2615040"/>
            <a:ext cx="803880" cy="803880"/>
          </a:xfrm>
          <a:custGeom>
            <a:avLst/>
            <a:gdLst>
              <a:gd name="textAreaLeft" fmla="*/ 0 w 803880"/>
              <a:gd name="textAreaRight" fmla="*/ 804240 w 803880"/>
              <a:gd name="textAreaTop" fmla="*/ 0 h 803880"/>
              <a:gd name="textAreaBottom" fmla="*/ 804240 h 803880"/>
            </a:gdLst>
            <a:ahLst/>
            <a:rect l="textAreaLeft" t="textAreaTop" r="textAreaRight" b="textAreaBottom"/>
            <a:pathLst>
              <a:path w="968622" h="968622">
                <a:moveTo>
                  <a:pt x="484311" y="0"/>
                </a:moveTo>
                <a:cubicBezTo>
                  <a:pt x="751789" y="0"/>
                  <a:pt x="968622" y="216833"/>
                  <a:pt x="968622" y="484311"/>
                </a:cubicBezTo>
                <a:cubicBezTo>
                  <a:pt x="968622" y="751789"/>
                  <a:pt x="751789" y="968622"/>
                  <a:pt x="484311" y="968622"/>
                </a:cubicBezTo>
                <a:cubicBezTo>
                  <a:pt x="216833" y="968622"/>
                  <a:pt x="0" y="751789"/>
                  <a:pt x="0" y="484311"/>
                </a:cubicBezTo>
                <a:cubicBezTo>
                  <a:pt x="0" y="216833"/>
                  <a:pt x="216833" y="0"/>
                  <a:pt x="484311" y="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381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407880" y="2218320"/>
            <a:ext cx="113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808080"/>
                </a:solidFill>
                <a:latin typeface="Century Gothic"/>
                <a:ea typeface="微软雅黑"/>
              </a:rPr>
              <a:t>2013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1701360" y="2627280"/>
            <a:ext cx="113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808080"/>
                </a:solidFill>
                <a:latin typeface="Century Gothic"/>
                <a:ea typeface="微软雅黑"/>
              </a:rPr>
              <a:t>2013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2827080" y="2193480"/>
            <a:ext cx="113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  <a:ea typeface="微软雅黑"/>
              </a:rPr>
              <a:t>2013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4110480" y="1744920"/>
            <a:ext cx="113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  <a:ea typeface="微软雅黑"/>
              </a:rPr>
              <a:t>2014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5720400" y="1657440"/>
            <a:ext cx="113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  <a:ea typeface="微软雅黑"/>
              </a:rPr>
              <a:t>2014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7442640" y="2114640"/>
            <a:ext cx="113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  <a:ea typeface="微软雅黑"/>
              </a:rPr>
              <a:t>2015.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 65"/>
          <p:cNvGrpSpPr/>
          <p:nvPr/>
        </p:nvGrpSpPr>
        <p:grpSpPr>
          <a:xfrm>
            <a:off x="1010880" y="3746160"/>
            <a:ext cx="7122240" cy="684000"/>
            <a:chOff x="1010880" y="3746160"/>
            <a:chExt cx="7122240" cy="684000"/>
          </a:xfrm>
        </p:grpSpPr>
        <p:sp>
          <p:nvSpPr>
            <p:cNvPr id="275" name="矩形 48"/>
            <p:cNvSpPr/>
            <p:nvPr/>
          </p:nvSpPr>
          <p:spPr>
            <a:xfrm>
              <a:off x="1010880" y="3746160"/>
              <a:ext cx="7122240" cy="684000"/>
            </a:xfrm>
            <a:prstGeom prst="rect">
              <a:avLst/>
            </a:prstGeom>
            <a:gradFill rotWithShape="0">
              <a:gsLst>
                <a:gs pos="0">
                  <a:srgbClr val="287ed3"/>
                </a:gs>
                <a:gs pos="50000">
                  <a:srgbClr val="287ed3"/>
                </a:gs>
                <a:gs pos="100000">
                  <a:srgbClr val="287ed3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287ed3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6" name="TextBox 19"/>
            <p:cNvSpPr/>
            <p:nvPr/>
          </p:nvSpPr>
          <p:spPr>
            <a:xfrm>
              <a:off x="1127880" y="3839760"/>
              <a:ext cx="6854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</a:rPr>
                <a:t>标题数字等都可以通过点击和重新输入进行更改，顶部“开始”面板中可以对字体、字号、颜色、行距等进行修改。标题数字等都可以通过点击和重新输入进行更改，顶部“开始”面板中可以对字体、字号、颜色、行距等进行修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文本框 64"/>
          <p:cNvSpPr/>
          <p:nvPr/>
        </p:nvSpPr>
        <p:spPr>
          <a:xfrm>
            <a:off x="266760" y="479880"/>
            <a:ext cx="321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  <a:ea typeface="微软雅黑"/>
              </a:rPr>
              <a:t>进度安排及完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09160" y="47538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21"/>
          <p:cNvSpPr/>
          <p:nvPr/>
        </p:nvSpPr>
        <p:spPr>
          <a:xfrm>
            <a:off x="-156600" y="1224720"/>
            <a:ext cx="9457200" cy="2855880"/>
          </a:xfrm>
          <a:prstGeom prst="rect">
            <a:avLst/>
          </a:prstGeom>
          <a:solidFill>
            <a:schemeClr val="bg1"/>
          </a:solidFill>
          <a:ln w="76200">
            <a:solidFill>
              <a:srgbClr val="073e87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80" name="文本框 1"/>
          <p:cNvSpPr/>
          <p:nvPr/>
        </p:nvSpPr>
        <p:spPr>
          <a:xfrm>
            <a:off x="1457280" y="1369080"/>
            <a:ext cx="6229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073e87"/>
                </a:solidFill>
                <a:latin typeface="Century Gothic"/>
                <a:ea typeface="微软雅黑"/>
              </a:rPr>
              <a:t>感谢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2233440" y="3011760"/>
            <a:ext cx="53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姓   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2237040" y="3468960"/>
            <a:ext cx="53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  <a:ea typeface="微软雅黑"/>
              </a:rPr>
              <a:t>导   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2"/>
          <p:cNvSpPr/>
          <p:nvPr/>
        </p:nvSpPr>
        <p:spPr>
          <a:xfrm>
            <a:off x="2148120" y="2259360"/>
            <a:ext cx="4847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73e87"/>
                </a:solidFill>
                <a:latin typeface="Century Gothic"/>
                <a:ea typeface="微软雅黑"/>
              </a:rPr>
              <a:t>THANK</a:t>
            </a:r>
            <a:r>
              <a:rPr b="1" lang="en-US" sz="2000" spc="-1" strike="noStrike">
                <a:solidFill>
                  <a:srgbClr val="073e87"/>
                </a:solidFill>
                <a:latin typeface="Century Gothic"/>
                <a:ea typeface="微软雅黑"/>
              </a:rPr>
              <a:t> YOU FOR W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波形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波形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波形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  <Words>383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07:00:42Z</dcterms:created>
  <dc:creator>Office PLUS</dc:creator>
  <dc:description/>
  <dc:language>en-US</dc:language>
  <cp:lastModifiedBy>王玉清</cp:lastModifiedBy>
  <dcterms:modified xsi:type="dcterms:W3CDTF">2016-03-07T02:37:54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7</vt:r8>
  </property>
</Properties>
</file>