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8BD-39F7-4036-83D8-11FB4F68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E7A-91EB-4161-B347-F6B3D788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E83-FE80-4E4D-A390-C5C83BF4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52B-85F8-4E08-957D-E12C88AF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0B3-90E9-43A8-B5D2-3BA620B5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CA5-4AA9-4920-8CDE-DA9222D5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AEC-3C96-4F06-8B11-71250297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CE4-2F75-4308-9EE9-407CB6C3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E77-F6C8-4240-9C8A-4E702375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F75-28A2-478F-A8A4-917A029D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881-68D0-49F6-86C3-471FE34D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B06-0636-428B-8BC5-F46F46E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ABA-52C7-4D86-BBE1-7448691D6B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64c6c50c7f21dd78d543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755640" y="323532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微软雅黑"/>
              </a:rPr>
              <a:t>卡通小熊通用</a:t>
            </a:r>
            <a:r>
              <a:rPr b="0" lang="en-US" sz="4000" spc="-1" strike="noStrike">
                <a:solidFill>
                  <a:srgbClr val="006699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2968560" y="3259080"/>
            <a:ext cx="32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66cc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64c6c50c7f21dd78d543059"/>
          <p:cNvPicPr/>
          <p:nvPr/>
        </p:nvPicPr>
        <p:blipFill>
          <a:blip r:embed="rId1"/>
          <a:stretch/>
        </p:blipFill>
        <p:spPr>
          <a:xfrm>
            <a:off x="0" y="-20520"/>
            <a:ext cx="9142560" cy="6851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3"/>
          <p:cNvSpPr txBox="1"/>
          <p:nvPr/>
        </p:nvSpPr>
        <p:spPr>
          <a:xfrm>
            <a:off x="3348000" y="1844640"/>
            <a:ext cx="2305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The E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4:50:21Z</dcterms:created>
  <dc:creator>Administrator</dc:creator>
  <dc:description/>
  <dc:language>en-US</dc:language>
  <cp:lastModifiedBy>王玉清</cp:lastModifiedBy>
  <cp:lastPrinted>1899-12-30T00:00:00Z</cp:lastPrinted>
  <dcterms:modified xsi:type="dcterms:W3CDTF">2016-02-20T04:00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