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5F9-33BE-4E50-B476-2300A1A8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541-7BA7-46FB-857D-D41A9555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FD7-B932-483C-8EF8-ACD81B26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5EE-8D93-4F93-9FBC-C6A7CD8D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0CD-74EE-40BE-AE89-8C56769E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B9E-1096-444E-A7F0-1D2EB072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F58-E85B-4B84-A49A-6AE0D07B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FAB-1108-42B8-9C05-9D35D91A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95F-B4D8-41B0-868C-80CD99ED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D70-A1C8-43BD-9B57-1D26CE71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8F8-FEC9-4B56-94EC-AAC62116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3E2-1D11-4110-B9B6-34E3B33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7FAE01-A8D0-46FE-B5AC-CB4BDF1D72D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-1656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矩形 5"/>
          <p:cNvSpPr/>
          <p:nvPr/>
        </p:nvSpPr>
        <p:spPr>
          <a:xfrm>
            <a:off x="2021400" y="1628640"/>
            <a:ext cx="50533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浪漫爱情通用</a:t>
            </a:r>
            <a:r>
              <a:rPr b="0" lang="en-US" sz="40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>
            <a:off x="2856600" y="1917000"/>
            <a:ext cx="33818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谢谢观看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105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4:44:56Z</dcterms:created>
  <dc:creator>lenovo</dc:creator>
  <dc:description/>
  <dc:language>en-US</dc:language>
  <cp:lastModifiedBy>王玉清</cp:lastModifiedBy>
  <dcterms:modified xsi:type="dcterms:W3CDTF">2016-02-20T03:26:16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