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457-F867-4CFA-9D75-B0182B58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16E-700C-4950-8C82-B4D0B7BB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4E8-96AC-48AA-8742-EBF7E67C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97D-3AD6-4B39-88B8-EBB7BD2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7936-9B12-40F6-9222-1BA0CA3B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81DB-F246-47A9-B498-DC09E7F6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DE6C-9A3E-4B6D-9614-8F31ED57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5CAB-C13C-477B-B6F3-A994B45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2221-F70A-4A04-ABA9-20F4C618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580-BAE8-4CA7-92FD-6C4E1E1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AF7-C2F3-4D36-8D47-E2F902AB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5C8-D52D-41B4-9BB3-F964838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487C-71DC-4A60-95BC-BCC894D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2679-2206-4B46-8E0E-686644A8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9E89-5733-42AD-AF9B-92F7FE6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084-4D2F-4F16-8BEA-2C7208DB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E38E-0847-4177-AA6B-C57DEEF0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60F-87FE-425A-8F9C-D0B63A0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6A8-D43A-4FF8-935B-136C72E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243-CFBA-4F2A-8BB4-E48E87A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779-3C42-40D4-9947-A698D42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40D-1324-43BB-9581-D7B5DE85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3ED-083D-43EA-8AEB-3FCBB1F1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F06-6015-46F6-A1D9-2C358B35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F506-8398-4363-9565-C32F0F0633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576-4CA0-4903-A00E-5487CBA2CA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9"/>
          <p:cNvGrpSpPr/>
          <p:nvPr/>
        </p:nvGrpSpPr>
        <p:grpSpPr>
          <a:xfrm>
            <a:off x="609480" y="1450800"/>
            <a:ext cx="7772400" cy="4340520"/>
            <a:chOff x="609480" y="1450800"/>
            <a:chExt cx="7772400" cy="4340520"/>
          </a:xfrm>
        </p:grpSpPr>
        <p:pic>
          <p:nvPicPr>
            <p:cNvPr id="89" name="Rectangle 9" descr=""/>
            <p:cNvPicPr/>
            <p:nvPr/>
          </p:nvPicPr>
          <p:blipFill>
            <a:blip r:embed="rId1"/>
            <a:stretch/>
          </p:blipFill>
          <p:spPr>
            <a:xfrm>
              <a:off x="609480" y="1453320"/>
              <a:ext cx="7772400" cy="433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09480" y="1450800"/>
              <a:ext cx="7772400" cy="43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WordArt 4"/>
          <p:cNvSpPr txBox="1"/>
          <p:nvPr/>
        </p:nvSpPr>
        <p:spPr>
          <a:xfrm>
            <a:off x="914400" y="3048120"/>
            <a:ext cx="770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92" name="Picture 10" descr="2"/>
          <p:cNvPicPr/>
          <p:nvPr/>
        </p:nvPicPr>
        <p:blipFill>
          <a:blip r:embed="rId2"/>
          <a:stretch/>
        </p:blipFill>
        <p:spPr>
          <a:xfrm>
            <a:off x="8369280" y="1143000"/>
            <a:ext cx="54612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3"/>
          <p:cNvPicPr/>
          <p:nvPr/>
        </p:nvPicPr>
        <p:blipFill>
          <a:blip r:embed="rId3"/>
          <a:stretch/>
        </p:blipFill>
        <p:spPr>
          <a:xfrm>
            <a:off x="169920" y="1143000"/>
            <a:ext cx="515880" cy="489888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2001240" y="8017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浪漫玫瑰通用</a:t>
            </a: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40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