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ECE-4131-468F-BEBD-71BD7B01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432F-5D3F-4CB1-A1FC-86F68E13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842-5D4B-47F2-BAE4-97FBAA52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2C5-260D-45FF-BC08-899DC01A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579C-F61A-4950-B078-DD6EF5A4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48D7-9565-4ADC-A994-86B24416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EB69-1E50-4A96-A232-EB02A151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37B-81A0-4F46-9A66-AA81DDA7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612-176D-4B7E-B68B-BF721947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472C-FA5D-4F2A-8344-A796DE61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0FD-BF66-4AD2-8B67-A266EAA3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290-13E9-4FF3-9897-5BB9E1E1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9EB5-1D1B-444A-86BD-EC37F39B3B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Love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通用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32763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2800" spc="-1" strike="noStrike">
              <a:solidFill>
                <a:srgbClr val="ff7c80"/>
              </a:solidFill>
              <a:latin typeface="Times New Roman"/>
              <a:ea typeface="宋体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Love…a Feeling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ove is being able to show someone how much you care for them each day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06:34:51Z</dcterms:created>
  <dc:creator>keke</dc:creator>
  <dc:description/>
  <dc:language>en-US</dc:language>
  <cp:lastModifiedBy>xinxing</cp:lastModifiedBy>
  <dcterms:modified xsi:type="dcterms:W3CDTF">2017-04-13T07:17:46Z</dcterms:modified>
  <cp:revision>5</cp:revision>
  <dc:subject/>
  <dc:title>Lov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