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6F8D-864A-41C1-8714-DE4E5A9B3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8A7A-457F-4280-8524-C7CF5C7B9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26D8-3426-49A5-842F-1490C2B9C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91CA-4BE5-448B-8524-7AB079E79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332C4-AA86-437F-9634-5E6DD0B6C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D8E66-7735-4180-A6C5-3AF1BA52A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3B346-0444-4BDF-819A-040D5F4B3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93C86-15BC-4A87-B7C5-50C8E2A4C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64D8E-D6E9-4366-90E3-48C301917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9F703-A49A-4924-9A43-12F93CA9A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A9F83-266B-49BE-9CBE-35A573D9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3A1F-4E96-43A1-AAF9-794B7B839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CE3DB-5AE3-4FAD-A2A9-2D87EFD0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8B189-373F-465D-B5C8-84F5AD98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5331A-C1CD-4D7A-B070-2CCB951F7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04976-36BB-4133-9129-A579D20FB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F60D5-EE50-4A8D-80B1-F48B127ED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85B48-09DD-44D7-9C51-26751081F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75F53-0D65-4803-BE26-4A363FF95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0A48C-85FB-49D8-8355-855901303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164F6-DDE1-4022-BF73-EF9D4F659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73560-84D5-4F50-B40A-C042D4098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D3DD-91B1-4F04-BAA2-CE8758BE2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8A889-7113-4A7F-86DC-201C8A670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7186A-0972-4AA2-A86D-86611C01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2EEDE-AA0C-41AD-A1E0-09F85C94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6E4FC-65E8-4707-8169-07207EF7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49CED-E3E1-4D08-A1BB-A335C6668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59C54-0BBB-40E4-90F1-E165A628F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FEACC-D9D8-4B18-9739-AF5B20452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879E-E7A1-4B5D-9AAE-9CD0E44F3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FEFF-38E0-4FEB-AD49-6E552D41F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C817-9764-495F-9166-1AA9FCE0E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26CC-DE57-4CFC-9B6A-C2574D2E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DAD9-8103-474C-82E1-92AEB22E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EEA9-7FE3-4FF5-9D07-55FFD64F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orbeil"/>
          <p:cNvPicPr/>
          <p:nvPr/>
        </p:nvPicPr>
        <p:blipFill>
          <a:blip r:embed="rId2">
            <a:lum bright="6000"/>
          </a:blip>
          <a:srcRect l="0" t="0" r="0" b="72674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未知"/>
          <p:cNvSpPr/>
          <p:nvPr/>
        </p:nvSpPr>
        <p:spPr>
          <a:xfrm rot="5400000">
            <a:off x="5295600" y="3009960"/>
            <a:ext cx="6858000" cy="838080"/>
          </a:xfrm>
          <a:custGeom>
            <a:avLst/>
            <a:gdLst/>
            <a:ahLst/>
            <a:rect l="l" t="t" r="r" b="b"/>
            <a:pathLst>
              <a:path w="5557" h="198">
                <a:moveTo>
                  <a:pt x="5553" y="0"/>
                </a:moveTo>
                <a:lnTo>
                  <a:pt x="5553" y="150"/>
                </a:lnTo>
                <a:cubicBezTo>
                  <a:pt x="5557" y="144"/>
                  <a:pt x="5136" y="181"/>
                  <a:pt x="4585" y="186"/>
                </a:cubicBezTo>
                <a:cubicBezTo>
                  <a:pt x="4034" y="191"/>
                  <a:pt x="2849" y="170"/>
                  <a:pt x="2246" y="180"/>
                </a:cubicBezTo>
                <a:cubicBezTo>
                  <a:pt x="1643" y="190"/>
                  <a:pt x="1319" y="178"/>
                  <a:pt x="960" y="180"/>
                </a:cubicBezTo>
                <a:cubicBezTo>
                  <a:pt x="601" y="182"/>
                  <a:pt x="238" y="198"/>
                  <a:pt x="76" y="198"/>
                </a:cubicBezTo>
                <a:cubicBezTo>
                  <a:pt x="28" y="198"/>
                  <a:pt x="1" y="153"/>
                  <a:pt x="1" y="153"/>
                </a:cubicBezTo>
                <a:cubicBezTo>
                  <a:pt x="1" y="153"/>
                  <a:pt x="0" y="83"/>
                  <a:pt x="1" y="0"/>
                </a:cubicBezTo>
                <a:lnTo>
                  <a:pt x="5553" y="0"/>
                </a:lnTo>
                <a:close/>
              </a:path>
            </a:pathLst>
          </a:custGeom>
          <a:solidFill>
            <a:srgbClr val="99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宋体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A7C10-030C-43AF-958A-5A148762B154}" type="slidenum"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hr-abhijit-sagade-03"/>
          <p:cNvPicPr/>
          <p:nvPr/>
        </p:nvPicPr>
        <p:blipFill>
          <a:blip r:embed="rId3"/>
          <a:srcRect l="63548" t="44973" r="2585" b="29879"/>
          <a:stretch/>
        </p:blipFill>
        <p:spPr>
          <a:xfrm>
            <a:off x="380880" y="1066680"/>
            <a:ext cx="6172200" cy="38124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corbeil"/>
          <p:cNvPicPr/>
          <p:nvPr/>
        </p:nvPicPr>
        <p:blipFill>
          <a:blip r:embed="rId4"/>
          <a:srcRect l="32999" t="32000" r="0" b="0"/>
          <a:stretch/>
        </p:blipFill>
        <p:spPr>
          <a:xfrm>
            <a:off x="6477120" y="4815000"/>
            <a:ext cx="2666880" cy="204300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icrosoft JhengHe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icrosoft JhengHei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Microsoft JhengHe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7D6B2-3DE0-4B28-98B4-996F61B700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orbeil"/>
          <p:cNvPicPr/>
          <p:nvPr/>
        </p:nvPicPr>
        <p:blipFill>
          <a:blip r:embed="rId2">
            <a:lum bright="6000"/>
          </a:blip>
          <a:srcRect l="0" t="0" r="0" b="66671"/>
          <a:stretch/>
        </p:blipFill>
        <p:spPr>
          <a:xfrm>
            <a:off x="0" y="0"/>
            <a:ext cx="9144000" cy="26668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89" name="Picture 4" descr="corbeil"/>
          <p:cNvPicPr/>
          <p:nvPr/>
        </p:nvPicPr>
        <p:blipFill>
          <a:blip r:embed="rId3"/>
          <a:srcRect l="0" t="36000" r="42004" b="0"/>
          <a:stretch/>
        </p:blipFill>
        <p:spPr>
          <a:xfrm>
            <a:off x="0" y="2836800"/>
            <a:ext cx="4876920" cy="4035600"/>
          </a:xfrm>
          <a:prstGeom prst="rect">
            <a:avLst/>
          </a:prstGeom>
          <a:ln w="0">
            <a:noFill/>
          </a:ln>
        </p:spPr>
      </p:pic>
      <p:sp>
        <p:nvSpPr>
          <p:cNvPr id="90" name="Freeform 27"/>
          <p:cNvSpPr/>
          <p:nvPr/>
        </p:nvSpPr>
        <p:spPr>
          <a:xfrm rot="16200000">
            <a:off x="566640" y="-567000"/>
            <a:ext cx="1152360" cy="2286000"/>
          </a:xfrm>
          <a:custGeom>
            <a:avLst/>
            <a:gdLst>
              <a:gd name="textAreaLeft" fmla="*/ 0 w 1152360"/>
              <a:gd name="textAreaRight" fmla="*/ 1152720 w 115236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1785" h="3648">
                <a:moveTo>
                  <a:pt x="0" y="0"/>
                </a:moveTo>
                <a:lnTo>
                  <a:pt x="1779" y="3648"/>
                </a:lnTo>
                <a:lnTo>
                  <a:pt x="1785" y="0"/>
                </a:lnTo>
              </a:path>
            </a:pathLst>
          </a:custGeom>
          <a:solidFill>
            <a:srgbClr val="99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1" name="Freeform 27"/>
          <p:cNvSpPr/>
          <p:nvPr/>
        </p:nvSpPr>
        <p:spPr>
          <a:xfrm rot="5400000">
            <a:off x="5705280" y="3419280"/>
            <a:ext cx="2305080" cy="4572000"/>
          </a:xfrm>
          <a:custGeom>
            <a:avLst/>
            <a:gdLst>
              <a:gd name="textAreaLeft" fmla="*/ 0 w 2305080"/>
              <a:gd name="textAreaRight" fmla="*/ 2305440 w 2305080"/>
              <a:gd name="textAreaTop" fmla="*/ 0 h 4572000"/>
              <a:gd name="textAreaBottom" fmla="*/ 4572360 h 4572000"/>
            </a:gdLst>
            <a:ahLst/>
            <a:rect l="textAreaLeft" t="textAreaTop" r="textAreaRight" b="textAreaBottom"/>
            <a:pathLst>
              <a:path w="1785" h="3648">
                <a:moveTo>
                  <a:pt x="0" y="0"/>
                </a:moveTo>
                <a:lnTo>
                  <a:pt x="1779" y="3648"/>
                </a:lnTo>
                <a:lnTo>
                  <a:pt x="1785" y="0"/>
                </a:lnTo>
              </a:path>
            </a:pathLst>
          </a:custGeom>
          <a:solidFill>
            <a:srgbClr val="99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icrosoft JhengHe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icrosoft JhengHei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Microsoft JhengHe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宋体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7D8CC-5617-427B-87D0-9F0AFF11C60D}" type="slidenum"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7162920" y="53352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4" name="矩形 1"/>
          <p:cNvSpPr/>
          <p:nvPr/>
        </p:nvSpPr>
        <p:spPr>
          <a:xfrm>
            <a:off x="1798200" y="1447920"/>
            <a:ext cx="589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</a:rPr>
              <a:t>绿色淡雅小花儿清凉通用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灯片编号占位符 5"/>
          <p:cNvSpPr/>
          <p:nvPr/>
        </p:nvSpPr>
        <p:spPr>
          <a:xfrm>
            <a:off x="65530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E2B7F-C58C-49FB-8E4A-E8ACFD6F8505}" type="slidenum"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7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Microsoft JhengHei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配色方案在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格式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幻灯片设计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配色方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编辑配色方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Microsoft JhengHei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</a:rPr>
              <a:t>LOGO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添加修改在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下调整。直接选择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Microsoft JhengHei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标题和文本格式的设置在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Microsoft JhengHei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</a:rPr>
              <a:t>默认设置：</a:t>
            </a:r>
            <a:endParaRPr b="0" lang="en-US" sz="16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首页主标题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40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号（中文微软雅黑英文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Arial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）加粗；副标题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号（中文微软雅黑英文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Arial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）加粗</a:t>
            </a: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内页标题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36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号（中文微软雅黑英文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Arial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）加粗；内页内容文字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号（微软雅黑）</a:t>
            </a: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icrosoft JhengHe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4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F07A5-E8FA-415E-B212-8EC64261209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王玉清</cp:lastModifiedBy>
  <dcterms:modified xsi:type="dcterms:W3CDTF">2016-03-01T07:28:45Z</dcterms:modified>
  <cp:revision>1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  <property fmtid="{D5CDD505-2E9C-101B-9397-08002B2CF9AE}" pid="3" name="Version">
    <vt:r8>1</vt:r8>
  </property>
</Properties>
</file>