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AF4-C350-4316-A4B5-885DBA14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097-36FA-4201-8127-EE1FFB38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D21-4F93-42B5-9637-0A8B017C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53F-EC80-47A4-8D53-D5D10220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C434-CE91-4C44-A642-AA8AD9CD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B2FA-ABA7-4F81-B8FE-AFD5EA09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5101-ECE7-4EB8-A849-F92B4A4B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F61E-B869-4DDB-A8B0-ADDED567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D15C-B8ED-449B-860B-54FAA302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EFA8-06DA-4441-8D14-001D4CEA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CF13-C30D-4E37-BAE5-98228635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917-3B82-48B7-91CA-6FEBA654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54C6-9486-47FF-B9EF-A26B9D2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0E50-6A80-4C3B-BCBC-F2BFEEFA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322E-6360-4C24-AD06-9EB22CD9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9EEB-DDCD-401F-BB4E-EF39FCD8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5626-C1A2-4111-AC2F-C91C0F5C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529-35FF-4B48-8829-E9B4E1B5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265-3E46-41E7-ACA7-9ED4D2A3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27A-FF45-46D5-A060-F261116A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ACF-7AA2-4E6E-B388-FC1E348D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84B-4C0A-49A9-97A6-780C07CF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820-9663-47FC-AA87-587F96A9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E7A-EFBF-4536-B260-042D1AF6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9" descr=""/>
          <p:cNvPicPr/>
          <p:nvPr/>
        </p:nvPicPr>
        <p:blipFill>
          <a:blip r:embed="rId2"/>
          <a:srcRect l="0" t="0" r="-15" b="-10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B62A-305A-4503-9C1C-2D97E2ECD4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0" t="11501" r="-15" b="72701"/>
          <a:stretch/>
        </p:blipFill>
        <p:spPr>
          <a:xfrm>
            <a:off x="0" y="0"/>
            <a:ext cx="9144000" cy="1082520"/>
          </a:xfrm>
          <a:prstGeom prst="rect">
            <a:avLst/>
          </a:prstGeom>
          <a:ln w="0">
            <a:noFill/>
          </a:ln>
        </p:spPr>
      </p:pic>
      <p:grpSp>
        <p:nvGrpSpPr>
          <p:cNvPr id="43" name="矩形 8"/>
          <p:cNvGrpSpPr/>
          <p:nvPr/>
        </p:nvGrpSpPr>
        <p:grpSpPr>
          <a:xfrm>
            <a:off x="-6480" y="1047600"/>
            <a:ext cx="9156600" cy="5810400"/>
            <a:chOff x="-6480" y="1047600"/>
            <a:chExt cx="9156600" cy="5810400"/>
          </a:xfrm>
        </p:grpSpPr>
        <p:pic>
          <p:nvPicPr>
            <p:cNvPr id="44" name="矩形 8" descr=""/>
            <p:cNvPicPr/>
            <p:nvPr/>
          </p:nvPicPr>
          <p:blipFill>
            <a:blip r:embed="rId3"/>
            <a:stretch/>
          </p:blipFill>
          <p:spPr>
            <a:xfrm>
              <a:off x="-6480" y="1047600"/>
              <a:ext cx="9156600" cy="581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052280"/>
              <a:ext cx="9144000" cy="58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图片 9" descr=""/>
          <p:cNvPicPr/>
          <p:nvPr/>
        </p:nvPicPr>
        <p:blipFill>
          <a:blip r:embed="rId4"/>
          <a:stretch/>
        </p:blipFill>
        <p:spPr>
          <a:xfrm>
            <a:off x="7634160" y="5105520"/>
            <a:ext cx="118584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2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6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7103-681D-4029-84E6-A41B9D58CF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8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268416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绿色公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81160" y="225360"/>
            <a:ext cx="8497800" cy="927000"/>
            <a:chOff x="281160" y="225360"/>
            <a:chExt cx="8497800" cy="927000"/>
          </a:xfrm>
        </p:grpSpPr>
        <p:pic>
          <p:nvPicPr>
            <p:cNvPr id="92" name="标题 1" descr=""/>
            <p:cNvPicPr/>
            <p:nvPr/>
          </p:nvPicPr>
          <p:blipFill>
            <a:blip r:embed="rId1"/>
            <a:stretch/>
          </p:blipFill>
          <p:spPr>
            <a:xfrm>
              <a:off x="281160" y="225360"/>
              <a:ext cx="84978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 txBox="1"/>
            <p:nvPr/>
          </p:nvSpPr>
          <p:spPr>
            <a:xfrm>
              <a:off x="281160" y="225360"/>
              <a:ext cx="8497800" cy="9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TextBox 3"/>
          <p:cNvSpPr/>
          <p:nvPr/>
        </p:nvSpPr>
        <p:spPr>
          <a:xfrm>
            <a:off x="684360" y="198612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</a:rPr>
              <a:t>模板很是简洁，欢迎交流学习，对不足之处可提出修改意见，互相提高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281160" y="225360"/>
            <a:ext cx="8497800" cy="927000"/>
            <a:chOff x="281160" y="225360"/>
            <a:chExt cx="8497800" cy="927000"/>
          </a:xfrm>
        </p:grpSpPr>
        <p:pic>
          <p:nvPicPr>
            <p:cNvPr id="96" name="标题 1" descr=""/>
            <p:cNvPicPr/>
            <p:nvPr/>
          </p:nvPicPr>
          <p:blipFill>
            <a:blip r:embed="rId1"/>
            <a:stretch/>
          </p:blipFill>
          <p:spPr>
            <a:xfrm>
              <a:off x="281160" y="225360"/>
              <a:ext cx="84978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281160" y="225360"/>
              <a:ext cx="8497800" cy="9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组合 7"/>
          <p:cNvGrpSpPr/>
          <p:nvPr/>
        </p:nvGrpSpPr>
        <p:grpSpPr>
          <a:xfrm>
            <a:off x="3070080" y="2421000"/>
            <a:ext cx="3446640" cy="503280"/>
            <a:chOff x="3070080" y="2421000"/>
            <a:chExt cx="3446640" cy="503280"/>
          </a:xfrm>
        </p:grpSpPr>
        <p:sp>
          <p:nvSpPr>
            <p:cNvPr id="99" name="矩形 3"/>
            <p:cNvSpPr/>
            <p:nvPr/>
          </p:nvSpPr>
          <p:spPr>
            <a:xfrm>
              <a:off x="3070080" y="2421000"/>
              <a:ext cx="504000" cy="50328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接连接符 5"/>
            <p:cNvSpPr/>
            <p:nvPr/>
          </p:nvSpPr>
          <p:spPr>
            <a:xfrm>
              <a:off x="3070080" y="2899440"/>
              <a:ext cx="50400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6"/>
            <p:cNvSpPr/>
            <p:nvPr/>
          </p:nvSpPr>
          <p:spPr>
            <a:xfrm>
              <a:off x="3708000" y="2487960"/>
              <a:ext cx="28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8"/>
          <p:cNvGrpSpPr/>
          <p:nvPr/>
        </p:nvGrpSpPr>
        <p:grpSpPr>
          <a:xfrm>
            <a:off x="3070080" y="3213000"/>
            <a:ext cx="3446640" cy="503280"/>
            <a:chOff x="3070080" y="3213000"/>
            <a:chExt cx="3446640" cy="503280"/>
          </a:xfrm>
        </p:grpSpPr>
        <p:sp>
          <p:nvSpPr>
            <p:cNvPr id="103" name="矩形 9"/>
            <p:cNvSpPr/>
            <p:nvPr/>
          </p:nvSpPr>
          <p:spPr>
            <a:xfrm>
              <a:off x="3070080" y="3213000"/>
              <a:ext cx="504000" cy="50328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接连接符 10"/>
            <p:cNvSpPr/>
            <p:nvPr/>
          </p:nvSpPr>
          <p:spPr>
            <a:xfrm>
              <a:off x="3070080" y="3691440"/>
              <a:ext cx="50400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Box 11"/>
            <p:cNvSpPr/>
            <p:nvPr/>
          </p:nvSpPr>
          <p:spPr>
            <a:xfrm>
              <a:off x="3708000" y="3279960"/>
              <a:ext cx="28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组合 12"/>
          <p:cNvGrpSpPr/>
          <p:nvPr/>
        </p:nvGrpSpPr>
        <p:grpSpPr>
          <a:xfrm>
            <a:off x="3070080" y="4005360"/>
            <a:ext cx="3446640" cy="503280"/>
            <a:chOff x="3070080" y="4005360"/>
            <a:chExt cx="3446640" cy="503280"/>
          </a:xfrm>
        </p:grpSpPr>
        <p:sp>
          <p:nvSpPr>
            <p:cNvPr id="107" name="矩形 13"/>
            <p:cNvSpPr/>
            <p:nvPr/>
          </p:nvSpPr>
          <p:spPr>
            <a:xfrm>
              <a:off x="3070080" y="4005360"/>
              <a:ext cx="504000" cy="50328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直接连接符 14"/>
            <p:cNvSpPr/>
            <p:nvPr/>
          </p:nvSpPr>
          <p:spPr>
            <a:xfrm>
              <a:off x="3070080" y="4483800"/>
              <a:ext cx="50400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15"/>
            <p:cNvSpPr/>
            <p:nvPr/>
          </p:nvSpPr>
          <p:spPr>
            <a:xfrm>
              <a:off x="3708000" y="4072320"/>
              <a:ext cx="28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组合 16"/>
          <p:cNvGrpSpPr/>
          <p:nvPr/>
        </p:nvGrpSpPr>
        <p:grpSpPr>
          <a:xfrm>
            <a:off x="3070080" y="4797360"/>
            <a:ext cx="3446640" cy="503280"/>
            <a:chOff x="3070080" y="4797360"/>
            <a:chExt cx="3446640" cy="503280"/>
          </a:xfrm>
        </p:grpSpPr>
        <p:sp>
          <p:nvSpPr>
            <p:cNvPr id="111" name="矩形 17"/>
            <p:cNvSpPr/>
            <p:nvPr/>
          </p:nvSpPr>
          <p:spPr>
            <a:xfrm>
              <a:off x="3070080" y="4797360"/>
              <a:ext cx="504000" cy="50328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接连接符 18"/>
            <p:cNvSpPr/>
            <p:nvPr/>
          </p:nvSpPr>
          <p:spPr>
            <a:xfrm>
              <a:off x="3070080" y="5275800"/>
              <a:ext cx="504000" cy="0"/>
            </a:xfrm>
            <a:prstGeom prst="line">
              <a:avLst/>
            </a:prstGeom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19"/>
            <p:cNvSpPr/>
            <p:nvPr/>
          </p:nvSpPr>
          <p:spPr>
            <a:xfrm>
              <a:off x="3708000" y="4864320"/>
              <a:ext cx="280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84360" y="11970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81160" y="225360"/>
            <a:ext cx="8497800" cy="927000"/>
            <a:chOff x="281160" y="225360"/>
            <a:chExt cx="8497800" cy="927000"/>
          </a:xfrm>
        </p:grpSpPr>
        <p:pic>
          <p:nvPicPr>
            <p:cNvPr id="116" name="标题 1" descr=""/>
            <p:cNvPicPr/>
            <p:nvPr/>
          </p:nvPicPr>
          <p:blipFill>
            <a:blip r:embed="rId1"/>
            <a:stretch/>
          </p:blipFill>
          <p:spPr>
            <a:xfrm>
              <a:off x="281160" y="225360"/>
              <a:ext cx="84978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281160" y="225360"/>
              <a:ext cx="8497800" cy="92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a6a6a6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aac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8BFE-20F0-420B-8591-AE247BEE13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4:24:0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8:37:25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4605000000000001024140</vt:lpwstr>
  </property>
</Properties>
</file>